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9C6-7EE7-4D04-8864-85BE616A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EFC-C433-4790-B30A-893FBB4E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88D-ED5B-44B5-9033-4D70C5FF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92F-B942-4B10-8449-B59FD56F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C79-7CE5-449B-B35A-950CB96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51B-C92A-414D-90DB-1F13061B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EE0-4309-41AC-81A2-377C09C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3BD-5717-4B5C-9C4E-218225F2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B2F-2C92-41B0-BD10-06E5C207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497-8443-40C5-8B2E-DA146ED9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680-223B-4AF2-A2AB-C530AF8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C1B-01D1-48B0-8CB8-39381F7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FA2-4716-407F-B6F9-F81397DC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p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19200" y="3733920"/>
                <a:ext cx="1105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044800" y="2251080"/>
            <a:ext cx="376200" cy="785880"/>
          </a:xfrm>
          <a:custGeom>
            <a:avLst/>
            <a:gdLst/>
            <a:ahLst/>
            <a:rect l="l" t="t" r="r" b="b"/>
            <a:pathLst>
              <a:path w="1043" h="2184">
                <a:moveTo>
                  <a:pt x="5680" y="7541"/>
                </a:moveTo>
                <a:cubicBezTo>
                  <a:pt x="5695" y="7496"/>
                  <a:pt x="6027" y="7492"/>
                  <a:pt x="6052" y="7491"/>
                </a:cubicBezTo>
                <a:cubicBezTo>
                  <a:pt x="6275" y="7483"/>
                  <a:pt x="6499" y="7491"/>
                  <a:pt x="6722" y="7491"/>
                </a:cubicBezTo>
              </a:path>
              <a:path w="1043" h="2184">
                <a:moveTo>
                  <a:pt x="5829" y="7764"/>
                </a:moveTo>
                <a:cubicBezTo>
                  <a:pt x="5821" y="7756"/>
                  <a:pt x="5812" y="7747"/>
                  <a:pt x="5804" y="7739"/>
                </a:cubicBezTo>
                <a:cubicBezTo>
                  <a:pt x="5828" y="7712"/>
                  <a:pt x="5954" y="7599"/>
                  <a:pt x="6003" y="7665"/>
                </a:cubicBezTo>
                <a:cubicBezTo>
                  <a:pt x="6092" y="7786"/>
                  <a:pt x="5953" y="7888"/>
                  <a:pt x="5879" y="7962"/>
                </a:cubicBezTo>
                <a:cubicBezTo>
                  <a:pt x="5962" y="7946"/>
                  <a:pt x="6056" y="7863"/>
                  <a:pt x="6127" y="7962"/>
                </a:cubicBezTo>
                <a:cubicBezTo>
                  <a:pt x="6253" y="8136"/>
                  <a:pt x="6008" y="8283"/>
                  <a:pt x="5879" y="8310"/>
                </a:cubicBezTo>
                <a:cubicBezTo>
                  <a:pt x="5854" y="8310"/>
                  <a:pt x="5829" y="8310"/>
                  <a:pt x="5804" y="8310"/>
                </a:cubicBezTo>
              </a:path>
              <a:path w="1043" h="2184">
                <a:moveTo>
                  <a:pt x="5978" y="6251"/>
                </a:moveTo>
                <a:cubicBezTo>
                  <a:pt x="5939" y="6418"/>
                  <a:pt x="5919" y="6598"/>
                  <a:pt x="5928" y="6772"/>
                </a:cubicBezTo>
                <a:cubicBezTo>
                  <a:pt x="5943" y="7046"/>
                  <a:pt x="5953" y="7315"/>
                  <a:pt x="5953" y="7590"/>
                </a:cubicBezTo>
                <a:cubicBezTo>
                  <a:pt x="5953" y="7775"/>
                  <a:pt x="5918" y="7954"/>
                  <a:pt x="5953" y="8136"/>
                </a:cubicBezTo>
                <a:cubicBezTo>
                  <a:pt x="5967" y="8208"/>
                  <a:pt x="5999" y="8261"/>
                  <a:pt x="6003" y="8334"/>
                </a:cubicBezTo>
                <a:cubicBezTo>
                  <a:pt x="6006" y="8382"/>
                  <a:pt x="6022" y="8419"/>
                  <a:pt x="6028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4040" y="2687760"/>
            <a:ext cx="480960" cy="268200"/>
          </a:xfrm>
          <a:custGeom>
            <a:avLst/>
            <a:gdLst/>
            <a:ahLst/>
            <a:rect l="l" t="t" r="r" b="b"/>
            <a:pathLst>
              <a:path w="1340" h="745">
                <a:moveTo>
                  <a:pt x="8037" y="7491"/>
                </a:moveTo>
                <a:cubicBezTo>
                  <a:pt x="8294" y="7491"/>
                  <a:pt x="8549" y="7468"/>
                  <a:pt x="8806" y="7466"/>
                </a:cubicBezTo>
                <a:cubicBezTo>
                  <a:pt x="8996" y="7464"/>
                  <a:pt x="9186" y="7466"/>
                  <a:pt x="9376" y="7466"/>
                </a:cubicBezTo>
              </a:path>
              <a:path w="1340" h="745">
                <a:moveTo>
                  <a:pt x="8582" y="7739"/>
                </a:moveTo>
                <a:cubicBezTo>
                  <a:pt x="8608" y="7662"/>
                  <a:pt x="8747" y="7636"/>
                  <a:pt x="8830" y="7615"/>
                </a:cubicBezTo>
                <a:cubicBezTo>
                  <a:pt x="8838" y="7615"/>
                  <a:pt x="8847" y="7615"/>
                  <a:pt x="8855" y="7615"/>
                </a:cubicBezTo>
                <a:cubicBezTo>
                  <a:pt x="8855" y="7832"/>
                  <a:pt x="8809" y="7900"/>
                  <a:pt x="8632" y="8037"/>
                </a:cubicBezTo>
                <a:cubicBezTo>
                  <a:pt x="8649" y="7985"/>
                  <a:pt x="8744" y="7980"/>
                  <a:pt x="8806" y="7987"/>
                </a:cubicBezTo>
                <a:cubicBezTo>
                  <a:pt x="8897" y="8010"/>
                  <a:pt x="8928" y="8011"/>
                  <a:pt x="8930" y="8086"/>
                </a:cubicBezTo>
                <a:cubicBezTo>
                  <a:pt x="8835" y="8190"/>
                  <a:pt x="8804" y="8210"/>
                  <a:pt x="8657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2080" y="2071800"/>
            <a:ext cx="1152720" cy="822240"/>
          </a:xfrm>
          <a:custGeom>
            <a:avLst/>
            <a:gdLst/>
            <a:ahLst/>
            <a:rect l="l" t="t" r="r" b="b"/>
            <a:pathLst>
              <a:path w="3201" h="2283">
                <a:moveTo>
                  <a:pt x="12799" y="7193"/>
                </a:moveTo>
                <a:cubicBezTo>
                  <a:pt x="12849" y="7401"/>
                  <a:pt x="12911" y="7608"/>
                  <a:pt x="12973" y="7813"/>
                </a:cubicBezTo>
                <a:cubicBezTo>
                  <a:pt x="12992" y="7871"/>
                  <a:pt x="13001" y="7878"/>
                  <a:pt x="12998" y="7913"/>
                </a:cubicBezTo>
                <a:cubicBezTo>
                  <a:pt x="12975" y="7749"/>
                  <a:pt x="12889" y="7601"/>
                  <a:pt x="12874" y="7417"/>
                </a:cubicBezTo>
                <a:cubicBezTo>
                  <a:pt x="12861" y="7258"/>
                  <a:pt x="12844" y="6973"/>
                  <a:pt x="13047" y="6921"/>
                </a:cubicBezTo>
                <a:cubicBezTo>
                  <a:pt x="13198" y="6883"/>
                  <a:pt x="13429" y="7044"/>
                  <a:pt x="13345" y="7218"/>
                </a:cubicBezTo>
                <a:cubicBezTo>
                  <a:pt x="13267" y="7379"/>
                  <a:pt x="13070" y="7367"/>
                  <a:pt x="12923" y="7367"/>
                </a:cubicBezTo>
                <a:cubicBezTo>
                  <a:pt x="12898" y="7367"/>
                  <a:pt x="12890" y="7367"/>
                  <a:pt x="12874" y="7367"/>
                </a:cubicBezTo>
              </a:path>
              <a:path w="3201" h="2283">
                <a:moveTo>
                  <a:pt x="13891" y="7045"/>
                </a:moveTo>
                <a:cubicBezTo>
                  <a:pt x="14027" y="7045"/>
                  <a:pt x="14278" y="6962"/>
                  <a:pt x="14139" y="7119"/>
                </a:cubicBezTo>
              </a:path>
              <a:path w="3201" h="2283">
                <a:moveTo>
                  <a:pt x="13965" y="7193"/>
                </a:moveTo>
                <a:cubicBezTo>
                  <a:pt x="14093" y="7193"/>
                  <a:pt x="14217" y="7198"/>
                  <a:pt x="14337" y="7144"/>
                </a:cubicBezTo>
                <a:cubicBezTo>
                  <a:pt x="14329" y="7144"/>
                  <a:pt x="14320" y="7144"/>
                  <a:pt x="14312" y="7144"/>
                </a:cubicBezTo>
              </a:path>
              <a:path w="3201" h="2283">
                <a:moveTo>
                  <a:pt x="14536" y="6697"/>
                </a:moveTo>
                <a:cubicBezTo>
                  <a:pt x="14536" y="6823"/>
                  <a:pt x="14568" y="7012"/>
                  <a:pt x="14486" y="7094"/>
                </a:cubicBezTo>
                <a:cubicBezTo>
                  <a:pt x="14617" y="7118"/>
                  <a:pt x="14748" y="7080"/>
                  <a:pt x="14883" y="7045"/>
                </a:cubicBezTo>
              </a:path>
              <a:path w="3201" h="2283">
                <a:moveTo>
                  <a:pt x="14784" y="6499"/>
                </a:moveTo>
                <a:cubicBezTo>
                  <a:pt x="14795" y="6776"/>
                  <a:pt x="14818" y="7040"/>
                  <a:pt x="14784" y="7317"/>
                </a:cubicBezTo>
                <a:cubicBezTo>
                  <a:pt x="14764" y="7435"/>
                  <a:pt x="14770" y="7456"/>
                  <a:pt x="14734" y="7516"/>
                </a:cubicBezTo>
              </a:path>
              <a:path w="3201" h="2283">
                <a:moveTo>
                  <a:pt x="12353" y="8012"/>
                </a:moveTo>
                <a:cubicBezTo>
                  <a:pt x="12628" y="8012"/>
                  <a:pt x="12897" y="7984"/>
                  <a:pt x="13171" y="7962"/>
                </a:cubicBezTo>
                <a:cubicBezTo>
                  <a:pt x="13627" y="7926"/>
                  <a:pt x="14080" y="7891"/>
                  <a:pt x="14536" y="7863"/>
                </a:cubicBezTo>
                <a:cubicBezTo>
                  <a:pt x="14718" y="7852"/>
                  <a:pt x="14900" y="7826"/>
                  <a:pt x="15081" y="7813"/>
                </a:cubicBezTo>
                <a:cubicBezTo>
                  <a:pt x="15167" y="7807"/>
                  <a:pt x="15244" y="7795"/>
                  <a:pt x="15329" y="7789"/>
                </a:cubicBezTo>
                <a:cubicBezTo>
                  <a:pt x="15387" y="7789"/>
                  <a:pt x="15396" y="7789"/>
                  <a:pt x="15429" y="7789"/>
                </a:cubicBezTo>
                <a:cubicBezTo>
                  <a:pt x="15384" y="7664"/>
                  <a:pt x="15320" y="7528"/>
                  <a:pt x="15304" y="7392"/>
                </a:cubicBezTo>
                <a:cubicBezTo>
                  <a:pt x="15271" y="7105"/>
                  <a:pt x="15268" y="6812"/>
                  <a:pt x="15230" y="6524"/>
                </a:cubicBezTo>
                <a:cubicBezTo>
                  <a:pt x="15214" y="6400"/>
                  <a:pt x="15190" y="6269"/>
                  <a:pt x="15156" y="6152"/>
                </a:cubicBezTo>
                <a:cubicBezTo>
                  <a:pt x="15144" y="6111"/>
                  <a:pt x="15139" y="6088"/>
                  <a:pt x="15106" y="6077"/>
                </a:cubicBezTo>
                <a:cubicBezTo>
                  <a:pt x="14904" y="6007"/>
                  <a:pt x="14480" y="6205"/>
                  <a:pt x="14288" y="6251"/>
                </a:cubicBezTo>
                <a:cubicBezTo>
                  <a:pt x="13903" y="6344"/>
                  <a:pt x="13513" y="6443"/>
                  <a:pt x="13122" y="6499"/>
                </a:cubicBezTo>
                <a:cubicBezTo>
                  <a:pt x="12903" y="6530"/>
                  <a:pt x="12691" y="6586"/>
                  <a:pt x="12477" y="6623"/>
                </a:cubicBezTo>
                <a:cubicBezTo>
                  <a:pt x="12397" y="6637"/>
                  <a:pt x="12323" y="6681"/>
                  <a:pt x="12254" y="6697"/>
                </a:cubicBezTo>
                <a:cubicBezTo>
                  <a:pt x="12246" y="6697"/>
                  <a:pt x="12237" y="6697"/>
                  <a:pt x="12229" y="6697"/>
                </a:cubicBezTo>
                <a:cubicBezTo>
                  <a:pt x="12295" y="6946"/>
                  <a:pt x="12356" y="7210"/>
                  <a:pt x="12378" y="7466"/>
                </a:cubicBezTo>
                <a:cubicBezTo>
                  <a:pt x="12394" y="7653"/>
                  <a:pt x="12378" y="7848"/>
                  <a:pt x="12378" y="8037"/>
                </a:cubicBezTo>
              </a:path>
              <a:path w="3201" h="2283">
                <a:moveTo>
                  <a:pt x="12427" y="6226"/>
                </a:moveTo>
                <a:cubicBezTo>
                  <a:pt x="12474" y="6254"/>
                  <a:pt x="12496" y="6296"/>
                  <a:pt x="12526" y="6350"/>
                </a:cubicBezTo>
                <a:cubicBezTo>
                  <a:pt x="12648" y="6350"/>
                  <a:pt x="12799" y="5984"/>
                  <a:pt x="12849" y="5904"/>
                </a:cubicBezTo>
                <a:cubicBezTo>
                  <a:pt x="12882" y="5854"/>
                  <a:pt x="12915" y="5805"/>
                  <a:pt x="12948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81240" y="6099120"/>
            <a:ext cx="98640" cy="9720"/>
          </a:xfrm>
          <a:custGeom>
            <a:avLst/>
            <a:gdLst/>
            <a:ahLst/>
            <a:rect l="l" t="t" r="r" b="b"/>
            <a:pathLst>
              <a:path w="273" h="25">
                <a:moveTo>
                  <a:pt x="8558" y="16966"/>
                </a:moveTo>
                <a:cubicBezTo>
                  <a:pt x="8689" y="16941"/>
                  <a:pt x="8738" y="16933"/>
                  <a:pt x="8830" y="16942"/>
                </a:cubicBezTo>
              </a:path>
              <a:path w="273" h="25">
                <a:moveTo>
                  <a:pt x="8830" y="16942"/>
                </a:moveTo>
                <a:lnTo>
                  <a:pt x="8830" y="169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4089240"/>
            <a:ext cx="1285920" cy="2081520"/>
          </a:xfrm>
          <a:custGeom>
            <a:avLst/>
            <a:gdLst/>
            <a:ahLst/>
            <a:rect l="l" t="t" r="r" b="b"/>
            <a:pathLst>
              <a:path w="3573" h="5780">
                <a:moveTo>
                  <a:pt x="6400" y="11485"/>
                </a:moveTo>
                <a:cubicBezTo>
                  <a:pt x="6424" y="11434"/>
                  <a:pt x="6607" y="11688"/>
                  <a:pt x="6623" y="11708"/>
                </a:cubicBezTo>
                <a:cubicBezTo>
                  <a:pt x="6676" y="11774"/>
                  <a:pt x="6747" y="11987"/>
                  <a:pt x="6722" y="11906"/>
                </a:cubicBezTo>
                <a:cubicBezTo>
                  <a:pt x="6714" y="11856"/>
                  <a:pt x="6705" y="11807"/>
                  <a:pt x="6697" y="11757"/>
                </a:cubicBezTo>
              </a:path>
              <a:path w="3573" h="5780">
                <a:moveTo>
                  <a:pt x="6722" y="11361"/>
                </a:moveTo>
                <a:cubicBezTo>
                  <a:pt x="6643" y="11518"/>
                  <a:pt x="6592" y="11711"/>
                  <a:pt x="6499" y="11857"/>
                </a:cubicBezTo>
                <a:cubicBezTo>
                  <a:pt x="6491" y="11857"/>
                  <a:pt x="6482" y="11857"/>
                  <a:pt x="6474" y="11857"/>
                </a:cubicBezTo>
              </a:path>
              <a:path w="3573" h="5780">
                <a:moveTo>
                  <a:pt x="5308" y="11410"/>
                </a:moveTo>
                <a:cubicBezTo>
                  <a:pt x="5398" y="11416"/>
                  <a:pt x="5445" y="11430"/>
                  <a:pt x="5531" y="11460"/>
                </a:cubicBezTo>
                <a:cubicBezTo>
                  <a:pt x="5649" y="11501"/>
                  <a:pt x="5761" y="11546"/>
                  <a:pt x="5879" y="11584"/>
                </a:cubicBezTo>
                <a:cubicBezTo>
                  <a:pt x="5972" y="11614"/>
                  <a:pt x="6071" y="11652"/>
                  <a:pt x="6152" y="11683"/>
                </a:cubicBezTo>
                <a:cubicBezTo>
                  <a:pt x="6236" y="11715"/>
                  <a:pt x="6311" y="11754"/>
                  <a:pt x="6400" y="11782"/>
                </a:cubicBezTo>
                <a:cubicBezTo>
                  <a:pt x="6519" y="11819"/>
                  <a:pt x="6626" y="11867"/>
                  <a:pt x="6747" y="11906"/>
                </a:cubicBezTo>
                <a:cubicBezTo>
                  <a:pt x="6807" y="11925"/>
                  <a:pt x="6957" y="11973"/>
                  <a:pt x="6995" y="12005"/>
                </a:cubicBezTo>
                <a:cubicBezTo>
                  <a:pt x="7042" y="12045"/>
                  <a:pt x="7055" y="12056"/>
                  <a:pt x="7094" y="12080"/>
                </a:cubicBezTo>
                <a:cubicBezTo>
                  <a:pt x="7140" y="12109"/>
                  <a:pt x="7179" y="12123"/>
                  <a:pt x="7218" y="12154"/>
                </a:cubicBezTo>
                <a:cubicBezTo>
                  <a:pt x="7278" y="12201"/>
                  <a:pt x="7320" y="12227"/>
                  <a:pt x="7392" y="12254"/>
                </a:cubicBezTo>
                <a:cubicBezTo>
                  <a:pt x="7435" y="12270"/>
                  <a:pt x="7476" y="12279"/>
                  <a:pt x="7516" y="12303"/>
                </a:cubicBezTo>
                <a:cubicBezTo>
                  <a:pt x="7555" y="12326"/>
                  <a:pt x="7600" y="12366"/>
                  <a:pt x="7640" y="12378"/>
                </a:cubicBezTo>
                <a:cubicBezTo>
                  <a:pt x="7648" y="12378"/>
                  <a:pt x="7657" y="12378"/>
                  <a:pt x="7665" y="12378"/>
                </a:cubicBezTo>
              </a:path>
              <a:path w="3573" h="5780">
                <a:moveTo>
                  <a:pt x="6201" y="13643"/>
                </a:moveTo>
                <a:cubicBezTo>
                  <a:pt x="6367" y="13643"/>
                  <a:pt x="6508" y="13592"/>
                  <a:pt x="6672" y="13568"/>
                </a:cubicBezTo>
                <a:cubicBezTo>
                  <a:pt x="6689" y="13568"/>
                  <a:pt x="6705" y="13568"/>
                  <a:pt x="6722" y="13568"/>
                </a:cubicBezTo>
                <a:cubicBezTo>
                  <a:pt x="6690" y="13790"/>
                  <a:pt x="6626" y="14052"/>
                  <a:pt x="6548" y="14263"/>
                </a:cubicBezTo>
                <a:cubicBezTo>
                  <a:pt x="6511" y="14319"/>
                  <a:pt x="6473" y="14344"/>
                  <a:pt x="6524" y="14337"/>
                </a:cubicBezTo>
              </a:path>
              <a:path w="3573" h="5780">
                <a:moveTo>
                  <a:pt x="6995" y="13940"/>
                </a:moveTo>
                <a:cubicBezTo>
                  <a:pt x="6995" y="14064"/>
                  <a:pt x="6995" y="14089"/>
                  <a:pt x="6995" y="14163"/>
                </a:cubicBezTo>
                <a:cubicBezTo>
                  <a:pt x="6995" y="14255"/>
                  <a:pt x="6983" y="14024"/>
                  <a:pt x="7020" y="13940"/>
                </a:cubicBezTo>
                <a:cubicBezTo>
                  <a:pt x="7099" y="13759"/>
                  <a:pt x="7323" y="13788"/>
                  <a:pt x="7392" y="13965"/>
                </a:cubicBezTo>
                <a:cubicBezTo>
                  <a:pt x="7431" y="14066"/>
                  <a:pt x="7380" y="14212"/>
                  <a:pt x="7367" y="14312"/>
                </a:cubicBezTo>
              </a:path>
              <a:path w="3573" h="5780">
                <a:moveTo>
                  <a:pt x="6102" y="14610"/>
                </a:moveTo>
                <a:cubicBezTo>
                  <a:pt x="6452" y="14563"/>
                  <a:pt x="6787" y="14500"/>
                  <a:pt x="7144" y="14486"/>
                </a:cubicBezTo>
                <a:cubicBezTo>
                  <a:pt x="7272" y="14481"/>
                  <a:pt x="7491" y="14469"/>
                  <a:pt x="7615" y="14511"/>
                </a:cubicBezTo>
              </a:path>
              <a:path w="3573" h="5780">
                <a:moveTo>
                  <a:pt x="6747" y="15106"/>
                </a:moveTo>
                <a:cubicBezTo>
                  <a:pt x="6884" y="15021"/>
                  <a:pt x="7060" y="14994"/>
                  <a:pt x="7218" y="14957"/>
                </a:cubicBezTo>
                <a:cubicBezTo>
                  <a:pt x="7226" y="14957"/>
                  <a:pt x="7235" y="14957"/>
                  <a:pt x="7243" y="14957"/>
                </a:cubicBezTo>
                <a:cubicBezTo>
                  <a:pt x="7212" y="15158"/>
                  <a:pt x="7123" y="15340"/>
                  <a:pt x="7045" y="15528"/>
                </a:cubicBezTo>
                <a:cubicBezTo>
                  <a:pt x="7025" y="15568"/>
                  <a:pt x="7016" y="15594"/>
                  <a:pt x="7020" y="15553"/>
                </a:cubicBezTo>
              </a:path>
              <a:path w="3573" h="5780">
                <a:moveTo>
                  <a:pt x="6375" y="13320"/>
                </a:moveTo>
                <a:cubicBezTo>
                  <a:pt x="6418" y="13525"/>
                  <a:pt x="6466" y="13732"/>
                  <a:pt x="6499" y="13940"/>
                </a:cubicBezTo>
                <a:cubicBezTo>
                  <a:pt x="6563" y="14339"/>
                  <a:pt x="6647" y="14733"/>
                  <a:pt x="6697" y="15131"/>
                </a:cubicBezTo>
                <a:cubicBezTo>
                  <a:pt x="6723" y="15335"/>
                  <a:pt x="6723" y="15553"/>
                  <a:pt x="6772" y="15751"/>
                </a:cubicBezTo>
                <a:cubicBezTo>
                  <a:pt x="6783" y="15794"/>
                  <a:pt x="6791" y="15831"/>
                  <a:pt x="6796" y="15875"/>
                </a:cubicBezTo>
              </a:path>
              <a:path w="3573" h="5780">
                <a:moveTo>
                  <a:pt x="6945" y="16619"/>
                </a:moveTo>
                <a:cubicBezTo>
                  <a:pt x="6990" y="16754"/>
                  <a:pt x="6995" y="16873"/>
                  <a:pt x="6995" y="17016"/>
                </a:cubicBezTo>
                <a:cubicBezTo>
                  <a:pt x="6995" y="17037"/>
                  <a:pt x="7010" y="16802"/>
                  <a:pt x="7045" y="16743"/>
                </a:cubicBezTo>
                <a:cubicBezTo>
                  <a:pt x="7133" y="16596"/>
                  <a:pt x="7389" y="16382"/>
                  <a:pt x="7541" y="16594"/>
                </a:cubicBezTo>
                <a:cubicBezTo>
                  <a:pt x="7646" y="16741"/>
                  <a:pt x="7589" y="16970"/>
                  <a:pt x="7615" y="17115"/>
                </a:cubicBezTo>
                <a:cubicBezTo>
                  <a:pt x="7623" y="17123"/>
                  <a:pt x="7632" y="17132"/>
                  <a:pt x="7640" y="17140"/>
                </a:cubicBezTo>
              </a:path>
              <a:path w="3573" h="5780">
                <a:moveTo>
                  <a:pt x="8458" y="16694"/>
                </a:moveTo>
                <a:cubicBezTo>
                  <a:pt x="8564" y="16684"/>
                  <a:pt x="8756" y="16620"/>
                  <a:pt x="8855" y="16669"/>
                </a:cubicBezTo>
                <a:cubicBezTo>
                  <a:pt x="8863" y="16685"/>
                  <a:pt x="8872" y="16702"/>
                  <a:pt x="888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6160" y="4027320"/>
            <a:ext cx="179640" cy="322560"/>
          </a:xfrm>
          <a:custGeom>
            <a:avLst/>
            <a:gdLst/>
            <a:ahLst/>
            <a:rect l="l" t="t" r="r" b="b"/>
            <a:pathLst>
              <a:path w="498" h="894">
                <a:moveTo>
                  <a:pt x="5407" y="11361"/>
                </a:moveTo>
                <a:cubicBezTo>
                  <a:pt x="5565" y="11321"/>
                  <a:pt x="5709" y="11259"/>
                  <a:pt x="5854" y="11187"/>
                </a:cubicBezTo>
                <a:cubicBezTo>
                  <a:pt x="5971" y="11245"/>
                  <a:pt x="5911" y="11713"/>
                  <a:pt x="5904" y="11832"/>
                </a:cubicBezTo>
                <a:cubicBezTo>
                  <a:pt x="5901" y="11893"/>
                  <a:pt x="5823" y="12138"/>
                  <a:pt x="5904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11200" y="4098960"/>
            <a:ext cx="5769000" cy="2554200"/>
          </a:xfrm>
          <a:custGeom>
            <a:avLst/>
            <a:gdLst/>
            <a:ahLst/>
            <a:rect l="l" t="t" r="r" b="b"/>
            <a:pathLst>
              <a:path w="16025" h="7095">
                <a:moveTo>
                  <a:pt x="9947" y="11385"/>
                </a:moveTo>
                <a:cubicBezTo>
                  <a:pt x="10030" y="11500"/>
                  <a:pt x="10149" y="11712"/>
                  <a:pt x="10244" y="11807"/>
                </a:cubicBezTo>
                <a:cubicBezTo>
                  <a:pt x="10244" y="11790"/>
                  <a:pt x="10244" y="11774"/>
                  <a:pt x="10244" y="11757"/>
                </a:cubicBezTo>
              </a:path>
              <a:path w="16025" h="7095">
                <a:moveTo>
                  <a:pt x="19769" y="16049"/>
                </a:moveTo>
                <a:cubicBezTo>
                  <a:pt x="19827" y="16023"/>
                  <a:pt x="19888" y="15988"/>
                  <a:pt x="19943" y="15974"/>
                </a:cubicBezTo>
              </a:path>
              <a:path w="16025" h="7095">
                <a:moveTo>
                  <a:pt x="3919" y="18479"/>
                </a:moveTo>
                <a:lnTo>
                  <a:pt x="3919" y="1847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0" y="4037040"/>
            <a:ext cx="438120" cy="241200"/>
          </a:xfrm>
          <a:custGeom>
            <a:avLst/>
            <a:gdLst/>
            <a:ahLst/>
            <a:rect l="l" t="t" r="r" b="b"/>
            <a:pathLst>
              <a:path w="1217" h="670">
                <a:moveTo>
                  <a:pt x="10244" y="11385"/>
                </a:moveTo>
                <a:cubicBezTo>
                  <a:pt x="10169" y="11519"/>
                  <a:pt x="10079" y="11795"/>
                  <a:pt x="9971" y="11881"/>
                </a:cubicBezTo>
              </a:path>
              <a:path w="1217" h="670">
                <a:moveTo>
                  <a:pt x="10641" y="11410"/>
                </a:moveTo>
                <a:cubicBezTo>
                  <a:pt x="10769" y="11356"/>
                  <a:pt x="10899" y="11312"/>
                  <a:pt x="11038" y="11261"/>
                </a:cubicBezTo>
                <a:cubicBezTo>
                  <a:pt x="11128" y="11225"/>
                  <a:pt x="11134" y="11209"/>
                  <a:pt x="11187" y="11212"/>
                </a:cubicBezTo>
                <a:cubicBezTo>
                  <a:pt x="11187" y="11393"/>
                  <a:pt x="11114" y="11557"/>
                  <a:pt x="11088" y="11733"/>
                </a:cubicBezTo>
                <a:cubicBezTo>
                  <a:pt x="11088" y="11766"/>
                  <a:pt x="11088" y="11799"/>
                  <a:pt x="11088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74920" y="5491080"/>
            <a:ext cx="1598760" cy="876240"/>
          </a:xfrm>
          <a:custGeom>
            <a:avLst/>
            <a:gdLst/>
            <a:ahLst/>
            <a:rect l="l" t="t" r="r" b="b"/>
            <a:pathLst>
              <a:path w="4441" h="2432">
                <a:moveTo>
                  <a:pt x="9575" y="16346"/>
                </a:moveTo>
                <a:cubicBezTo>
                  <a:pt x="9575" y="16578"/>
                  <a:pt x="9576" y="16813"/>
                  <a:pt x="9525" y="17041"/>
                </a:cubicBezTo>
                <a:cubicBezTo>
                  <a:pt x="9505" y="17081"/>
                  <a:pt x="9496" y="17107"/>
                  <a:pt x="9500" y="17066"/>
                </a:cubicBezTo>
              </a:path>
              <a:path w="4441" h="2432">
                <a:moveTo>
                  <a:pt x="9798" y="16594"/>
                </a:moveTo>
                <a:cubicBezTo>
                  <a:pt x="9766" y="16689"/>
                  <a:pt x="9711" y="16770"/>
                  <a:pt x="9699" y="16867"/>
                </a:cubicBezTo>
                <a:cubicBezTo>
                  <a:pt x="9841" y="16854"/>
                  <a:pt x="9979" y="16817"/>
                  <a:pt x="10120" y="16793"/>
                </a:cubicBezTo>
                <a:cubicBezTo>
                  <a:pt x="10128" y="16793"/>
                  <a:pt x="10137" y="16793"/>
                  <a:pt x="10145" y="16793"/>
                </a:cubicBezTo>
              </a:path>
              <a:path w="4441" h="2432">
                <a:moveTo>
                  <a:pt x="10120" y="16173"/>
                </a:moveTo>
                <a:cubicBezTo>
                  <a:pt x="10095" y="16381"/>
                  <a:pt x="10073" y="16589"/>
                  <a:pt x="10021" y="16793"/>
                </a:cubicBezTo>
                <a:cubicBezTo>
                  <a:pt x="9976" y="16927"/>
                  <a:pt x="9966" y="16963"/>
                  <a:pt x="9922" y="17041"/>
                </a:cubicBezTo>
              </a:path>
              <a:path w="4441" h="2432">
                <a:moveTo>
                  <a:pt x="6722" y="16247"/>
                </a:moveTo>
                <a:cubicBezTo>
                  <a:pt x="6722" y="16340"/>
                  <a:pt x="6726" y="16753"/>
                  <a:pt x="6722" y="16867"/>
                </a:cubicBezTo>
                <a:cubicBezTo>
                  <a:pt x="6713" y="17143"/>
                  <a:pt x="6703" y="17394"/>
                  <a:pt x="6747" y="17636"/>
                </a:cubicBezTo>
                <a:cubicBezTo>
                  <a:pt x="7096" y="17700"/>
                  <a:pt x="7523" y="17565"/>
                  <a:pt x="7888" y="17512"/>
                </a:cubicBezTo>
                <a:cubicBezTo>
                  <a:pt x="8596" y="17409"/>
                  <a:pt x="9307" y="17360"/>
                  <a:pt x="10021" y="17314"/>
                </a:cubicBezTo>
                <a:cubicBezTo>
                  <a:pt x="10296" y="17296"/>
                  <a:pt x="10565" y="17289"/>
                  <a:pt x="10840" y="17289"/>
                </a:cubicBezTo>
                <a:cubicBezTo>
                  <a:pt x="10848" y="17095"/>
                  <a:pt x="10841" y="16885"/>
                  <a:pt x="10864" y="16694"/>
                </a:cubicBezTo>
                <a:cubicBezTo>
                  <a:pt x="10894" y="16443"/>
                  <a:pt x="10974" y="16191"/>
                  <a:pt x="11038" y="15949"/>
                </a:cubicBezTo>
                <a:cubicBezTo>
                  <a:pt x="10936" y="15933"/>
                  <a:pt x="10844" y="15927"/>
                  <a:pt x="10740" y="15925"/>
                </a:cubicBezTo>
                <a:cubicBezTo>
                  <a:pt x="10535" y="15921"/>
                  <a:pt x="10324" y="15954"/>
                  <a:pt x="10120" y="15974"/>
                </a:cubicBezTo>
                <a:cubicBezTo>
                  <a:pt x="9768" y="16009"/>
                  <a:pt x="9431" y="15985"/>
                  <a:pt x="9079" y="15974"/>
                </a:cubicBezTo>
                <a:cubicBezTo>
                  <a:pt x="8792" y="15965"/>
                  <a:pt x="8519" y="15988"/>
                  <a:pt x="8235" y="16024"/>
                </a:cubicBezTo>
                <a:cubicBezTo>
                  <a:pt x="7831" y="16075"/>
                  <a:pt x="7381" y="16091"/>
                  <a:pt x="6995" y="16222"/>
                </a:cubicBezTo>
                <a:cubicBezTo>
                  <a:pt x="6912" y="16250"/>
                  <a:pt x="6821" y="16287"/>
                  <a:pt x="6747" y="16321"/>
                </a:cubicBezTo>
                <a:cubicBezTo>
                  <a:pt x="6703" y="16341"/>
                  <a:pt x="6637" y="16357"/>
                  <a:pt x="6598" y="16396"/>
                </a:cubicBezTo>
                <a:cubicBezTo>
                  <a:pt x="6606" y="16404"/>
                  <a:pt x="6615" y="16413"/>
                  <a:pt x="6623" y="16421"/>
                </a:cubicBezTo>
              </a:path>
              <a:path w="4441" h="2432">
                <a:moveTo>
                  <a:pt x="7863" y="15627"/>
                </a:moveTo>
                <a:cubicBezTo>
                  <a:pt x="7863" y="15553"/>
                  <a:pt x="7838" y="15794"/>
                  <a:pt x="7838" y="15801"/>
                </a:cubicBezTo>
                <a:cubicBezTo>
                  <a:pt x="8047" y="15655"/>
                  <a:pt x="8235" y="15431"/>
                  <a:pt x="8434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67760" y="3857760"/>
            <a:ext cx="509400" cy="233280"/>
          </a:xfrm>
          <a:custGeom>
            <a:avLst/>
            <a:gdLst/>
            <a:ahLst/>
            <a:rect l="l" t="t" r="r" b="b"/>
            <a:pathLst>
              <a:path w="1415" h="646">
                <a:moveTo>
                  <a:pt x="20638" y="10988"/>
                </a:moveTo>
                <a:cubicBezTo>
                  <a:pt x="20662" y="10988"/>
                  <a:pt x="20670" y="10988"/>
                  <a:pt x="20662" y="10964"/>
                </a:cubicBezTo>
                <a:cubicBezTo>
                  <a:pt x="20671" y="11096"/>
                  <a:pt x="20671" y="11207"/>
                  <a:pt x="20662" y="11336"/>
                </a:cubicBezTo>
                <a:cubicBezTo>
                  <a:pt x="20662" y="11344"/>
                  <a:pt x="20662" y="11353"/>
                  <a:pt x="20662" y="11361"/>
                </a:cubicBezTo>
              </a:path>
              <a:path w="1415" h="646">
                <a:moveTo>
                  <a:pt x="20464" y="11187"/>
                </a:moveTo>
                <a:cubicBezTo>
                  <a:pt x="20574" y="11173"/>
                  <a:pt x="20674" y="11162"/>
                  <a:pt x="20786" y="11162"/>
                </a:cubicBezTo>
              </a:path>
              <a:path w="1415" h="646">
                <a:moveTo>
                  <a:pt x="21456" y="10815"/>
                </a:moveTo>
                <a:cubicBezTo>
                  <a:pt x="21569" y="10783"/>
                  <a:pt x="21681" y="10731"/>
                  <a:pt x="21803" y="10716"/>
                </a:cubicBezTo>
                <a:cubicBezTo>
                  <a:pt x="21828" y="10716"/>
                  <a:pt x="21853" y="10716"/>
                  <a:pt x="21878" y="10716"/>
                </a:cubicBezTo>
                <a:cubicBezTo>
                  <a:pt x="21868" y="10924"/>
                  <a:pt x="21816" y="11107"/>
                  <a:pt x="21779" y="11311"/>
                </a:cubicBezTo>
                <a:cubicBezTo>
                  <a:pt x="21779" y="11319"/>
                  <a:pt x="21779" y="11328"/>
                  <a:pt x="21779" y="11336"/>
                </a:cubicBezTo>
              </a:path>
              <a:path w="1415" h="646">
                <a:moveTo>
                  <a:pt x="21134" y="10914"/>
                </a:moveTo>
                <a:cubicBezTo>
                  <a:pt x="21184" y="10901"/>
                  <a:pt x="21197" y="10889"/>
                  <a:pt x="21258" y="10889"/>
                </a:cubicBezTo>
                <a:cubicBezTo>
                  <a:pt x="21266" y="10889"/>
                  <a:pt x="21274" y="10889"/>
                  <a:pt x="21282" y="108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1160" y="4303800"/>
            <a:ext cx="1679760" cy="1938240"/>
          </a:xfrm>
          <a:custGeom>
            <a:avLst/>
            <a:gdLst/>
            <a:ahLst/>
            <a:rect l="l" t="t" r="r" b="b"/>
            <a:pathLst>
              <a:path w="4664" h="5383">
                <a:moveTo>
                  <a:pt x="18976" y="11956"/>
                </a:moveTo>
                <a:cubicBezTo>
                  <a:pt x="18910" y="11956"/>
                  <a:pt x="18915" y="11983"/>
                  <a:pt x="18876" y="12055"/>
                </a:cubicBezTo>
                <a:cubicBezTo>
                  <a:pt x="18837" y="12127"/>
                  <a:pt x="18839" y="12229"/>
                  <a:pt x="18951" y="12229"/>
                </a:cubicBezTo>
                <a:cubicBezTo>
                  <a:pt x="19014" y="12229"/>
                  <a:pt x="19118" y="12087"/>
                  <a:pt x="19075" y="12030"/>
                </a:cubicBezTo>
                <a:cubicBezTo>
                  <a:pt x="19040" y="11983"/>
                  <a:pt x="18998" y="11956"/>
                  <a:pt x="18951" y="11956"/>
                </a:cubicBezTo>
              </a:path>
              <a:path w="4664" h="5383">
                <a:moveTo>
                  <a:pt x="21134" y="14089"/>
                </a:moveTo>
                <a:cubicBezTo>
                  <a:pt x="21142" y="14063"/>
                  <a:pt x="21244" y="14034"/>
                  <a:pt x="21282" y="14039"/>
                </a:cubicBezTo>
                <a:cubicBezTo>
                  <a:pt x="21323" y="14044"/>
                  <a:pt x="21313" y="14097"/>
                  <a:pt x="21332" y="14039"/>
                </a:cubicBezTo>
              </a:path>
              <a:path w="4664" h="5383">
                <a:moveTo>
                  <a:pt x="20290" y="13643"/>
                </a:moveTo>
                <a:cubicBezTo>
                  <a:pt x="20338" y="13595"/>
                  <a:pt x="20370" y="13580"/>
                  <a:pt x="20439" y="13568"/>
                </a:cubicBezTo>
                <a:cubicBezTo>
                  <a:pt x="20487" y="13663"/>
                  <a:pt x="20458" y="13735"/>
                  <a:pt x="20389" y="13816"/>
                </a:cubicBezTo>
                <a:cubicBezTo>
                  <a:pt x="20343" y="13862"/>
                  <a:pt x="20329" y="13875"/>
                  <a:pt x="20315" y="13915"/>
                </a:cubicBezTo>
                <a:cubicBezTo>
                  <a:pt x="20403" y="13858"/>
                  <a:pt x="20467" y="13853"/>
                  <a:pt x="20563" y="13866"/>
                </a:cubicBezTo>
                <a:cubicBezTo>
                  <a:pt x="20591" y="13866"/>
                  <a:pt x="20602" y="13868"/>
                  <a:pt x="20613" y="13891"/>
                </a:cubicBezTo>
              </a:path>
              <a:path w="4664" h="5383">
                <a:moveTo>
                  <a:pt x="22027" y="13444"/>
                </a:moveTo>
                <a:cubicBezTo>
                  <a:pt x="21965" y="13444"/>
                  <a:pt x="22091" y="13411"/>
                  <a:pt x="22151" y="13395"/>
                </a:cubicBezTo>
                <a:cubicBezTo>
                  <a:pt x="22246" y="13369"/>
                  <a:pt x="22242" y="13351"/>
                  <a:pt x="22299" y="13395"/>
                </a:cubicBezTo>
                <a:cubicBezTo>
                  <a:pt x="22273" y="13513"/>
                  <a:pt x="22234" y="13619"/>
                  <a:pt x="22225" y="13742"/>
                </a:cubicBezTo>
                <a:cubicBezTo>
                  <a:pt x="22225" y="13750"/>
                  <a:pt x="22225" y="13759"/>
                  <a:pt x="22225" y="13767"/>
                </a:cubicBezTo>
              </a:path>
              <a:path w="4664" h="5383">
                <a:moveTo>
                  <a:pt x="20414" y="14089"/>
                </a:moveTo>
                <a:cubicBezTo>
                  <a:pt x="20517" y="14089"/>
                  <a:pt x="20611" y="14073"/>
                  <a:pt x="20712" y="14064"/>
                </a:cubicBezTo>
                <a:cubicBezTo>
                  <a:pt x="20737" y="14064"/>
                  <a:pt x="20761" y="14064"/>
                  <a:pt x="20786" y="14064"/>
                </a:cubicBezTo>
                <a:cubicBezTo>
                  <a:pt x="20752" y="14233"/>
                  <a:pt x="20688" y="14374"/>
                  <a:pt x="20638" y="14536"/>
                </a:cubicBezTo>
                <a:cubicBezTo>
                  <a:pt x="20638" y="14544"/>
                  <a:pt x="20638" y="14552"/>
                  <a:pt x="20638" y="14560"/>
                </a:cubicBezTo>
              </a:path>
              <a:path w="4664" h="5383">
                <a:moveTo>
                  <a:pt x="21654" y="14089"/>
                </a:moveTo>
                <a:cubicBezTo>
                  <a:pt x="21664" y="14058"/>
                  <a:pt x="21756" y="14012"/>
                  <a:pt x="21803" y="14015"/>
                </a:cubicBezTo>
                <a:cubicBezTo>
                  <a:pt x="21811" y="14023"/>
                  <a:pt x="21820" y="14031"/>
                  <a:pt x="21828" y="14039"/>
                </a:cubicBezTo>
                <a:cubicBezTo>
                  <a:pt x="21862" y="14207"/>
                  <a:pt x="21761" y="14328"/>
                  <a:pt x="21654" y="14461"/>
                </a:cubicBezTo>
                <a:cubicBezTo>
                  <a:pt x="21608" y="14507"/>
                  <a:pt x="21594" y="14520"/>
                  <a:pt x="21580" y="14560"/>
                </a:cubicBezTo>
                <a:cubicBezTo>
                  <a:pt x="21664" y="14560"/>
                  <a:pt x="21747" y="14534"/>
                  <a:pt x="21828" y="14511"/>
                </a:cubicBezTo>
                <a:cubicBezTo>
                  <a:pt x="21960" y="14473"/>
                  <a:pt x="21863" y="14489"/>
                  <a:pt x="21927" y="14511"/>
                </a:cubicBezTo>
              </a:path>
              <a:path w="4664" h="5383">
                <a:moveTo>
                  <a:pt x="20910" y="15677"/>
                </a:moveTo>
                <a:cubicBezTo>
                  <a:pt x="20876" y="15680"/>
                  <a:pt x="20677" y="15679"/>
                  <a:pt x="20662" y="15701"/>
                </a:cubicBezTo>
                <a:cubicBezTo>
                  <a:pt x="20609" y="15782"/>
                  <a:pt x="20599" y="15929"/>
                  <a:pt x="20588" y="16024"/>
                </a:cubicBezTo>
                <a:cubicBezTo>
                  <a:pt x="20598" y="15995"/>
                  <a:pt x="20667" y="15979"/>
                  <a:pt x="20712" y="15974"/>
                </a:cubicBezTo>
                <a:cubicBezTo>
                  <a:pt x="20768" y="15968"/>
                  <a:pt x="20939" y="15971"/>
                  <a:pt x="20935" y="16073"/>
                </a:cubicBezTo>
                <a:cubicBezTo>
                  <a:pt x="20930" y="16204"/>
                  <a:pt x="20799" y="16367"/>
                  <a:pt x="20662" y="16371"/>
                </a:cubicBezTo>
                <a:cubicBezTo>
                  <a:pt x="20612" y="16372"/>
                  <a:pt x="20502" y="16336"/>
                  <a:pt x="20489" y="16297"/>
                </a:cubicBezTo>
              </a:path>
              <a:path w="4664" h="5383">
                <a:moveTo>
                  <a:pt x="19323" y="16247"/>
                </a:moveTo>
                <a:cubicBezTo>
                  <a:pt x="19323" y="16142"/>
                  <a:pt x="19277" y="16084"/>
                  <a:pt x="19174" y="16049"/>
                </a:cubicBezTo>
                <a:cubicBezTo>
                  <a:pt x="19149" y="16049"/>
                  <a:pt x="19125" y="16049"/>
                  <a:pt x="19100" y="16049"/>
                </a:cubicBezTo>
                <a:cubicBezTo>
                  <a:pt x="18987" y="16258"/>
                  <a:pt x="19000" y="16370"/>
                  <a:pt x="19075" y="16594"/>
                </a:cubicBezTo>
                <a:cubicBezTo>
                  <a:pt x="19252" y="16565"/>
                  <a:pt x="19297" y="16480"/>
                  <a:pt x="19323" y="16297"/>
                </a:cubicBezTo>
                <a:cubicBezTo>
                  <a:pt x="19323" y="16214"/>
                  <a:pt x="19323" y="16198"/>
                  <a:pt x="19323" y="16148"/>
                </a:cubicBezTo>
                <a:cubicBezTo>
                  <a:pt x="19334" y="16270"/>
                  <a:pt x="19332" y="16475"/>
                  <a:pt x="19422" y="16570"/>
                </a:cubicBezTo>
                <a:cubicBezTo>
                  <a:pt x="19474" y="16625"/>
                  <a:pt x="19609" y="16551"/>
                  <a:pt x="19645" y="16520"/>
                </a:cubicBezTo>
              </a:path>
              <a:path w="4664" h="5383">
                <a:moveTo>
                  <a:pt x="19893" y="15974"/>
                </a:moveTo>
                <a:cubicBezTo>
                  <a:pt x="19966" y="16005"/>
                  <a:pt x="19977" y="16001"/>
                  <a:pt x="20017" y="16073"/>
                </a:cubicBezTo>
              </a:path>
              <a:path w="4664" h="5383">
                <a:moveTo>
                  <a:pt x="19745" y="16346"/>
                </a:moveTo>
                <a:cubicBezTo>
                  <a:pt x="19826" y="16314"/>
                  <a:pt x="19908" y="16279"/>
                  <a:pt x="19993" y="16272"/>
                </a:cubicBezTo>
                <a:cubicBezTo>
                  <a:pt x="20001" y="16272"/>
                  <a:pt x="20009" y="16272"/>
                  <a:pt x="20017" y="16272"/>
                </a:cubicBezTo>
              </a:path>
              <a:path w="4664" h="5383">
                <a:moveTo>
                  <a:pt x="20092" y="15751"/>
                </a:moveTo>
                <a:cubicBezTo>
                  <a:pt x="20193" y="15670"/>
                  <a:pt x="20306" y="15726"/>
                  <a:pt x="20141" y="15701"/>
                </a:cubicBezTo>
                <a:cubicBezTo>
                  <a:pt x="20126" y="15699"/>
                  <a:pt x="19979" y="15677"/>
                  <a:pt x="20042" y="15677"/>
                </a:cubicBezTo>
                <a:cubicBezTo>
                  <a:pt x="20119" y="15702"/>
                  <a:pt x="20182" y="15701"/>
                  <a:pt x="20265" y="15701"/>
                </a:cubicBezTo>
                <a:cubicBezTo>
                  <a:pt x="20257" y="15701"/>
                  <a:pt x="20249" y="15701"/>
                  <a:pt x="20241" y="15701"/>
                </a:cubicBezTo>
                <a:cubicBezTo>
                  <a:pt x="20209" y="15706"/>
                  <a:pt x="20087" y="15742"/>
                  <a:pt x="20141" y="15726"/>
                </a:cubicBezTo>
                <a:cubicBezTo>
                  <a:pt x="20238" y="15697"/>
                  <a:pt x="20313" y="15683"/>
                  <a:pt x="20414" y="15677"/>
                </a:cubicBezTo>
                <a:cubicBezTo>
                  <a:pt x="20313" y="15685"/>
                  <a:pt x="20019" y="15701"/>
                  <a:pt x="20117" y="15726"/>
                </a:cubicBezTo>
                <a:cubicBezTo>
                  <a:pt x="20181" y="15742"/>
                  <a:pt x="20273" y="15706"/>
                  <a:pt x="20340" y="15701"/>
                </a:cubicBezTo>
              </a:path>
              <a:path w="4664" h="5383">
                <a:moveTo>
                  <a:pt x="18479" y="15850"/>
                </a:moveTo>
                <a:cubicBezTo>
                  <a:pt x="18517" y="16141"/>
                  <a:pt x="18579" y="16503"/>
                  <a:pt x="18579" y="16818"/>
                </a:cubicBezTo>
                <a:cubicBezTo>
                  <a:pt x="18579" y="16987"/>
                  <a:pt x="18558" y="17167"/>
                  <a:pt x="18554" y="17338"/>
                </a:cubicBezTo>
                <a:cubicBezTo>
                  <a:pt x="18750" y="17255"/>
                  <a:pt x="18985" y="17156"/>
                  <a:pt x="19199" y="17115"/>
                </a:cubicBezTo>
                <a:cubicBezTo>
                  <a:pt x="19845" y="16991"/>
                  <a:pt x="20528" y="16948"/>
                  <a:pt x="21183" y="16892"/>
                </a:cubicBezTo>
                <a:cubicBezTo>
                  <a:pt x="21226" y="16888"/>
                  <a:pt x="21684" y="16886"/>
                  <a:pt x="21729" y="16842"/>
                </a:cubicBezTo>
                <a:cubicBezTo>
                  <a:pt x="21817" y="16754"/>
                  <a:pt x="21767" y="16444"/>
                  <a:pt x="21779" y="16346"/>
                </a:cubicBezTo>
                <a:cubicBezTo>
                  <a:pt x="21817" y="16035"/>
                  <a:pt x="21853" y="15743"/>
                  <a:pt x="21853" y="15429"/>
                </a:cubicBezTo>
                <a:cubicBezTo>
                  <a:pt x="21853" y="15344"/>
                  <a:pt x="21882" y="15324"/>
                  <a:pt x="21878" y="15255"/>
                </a:cubicBezTo>
                <a:cubicBezTo>
                  <a:pt x="21870" y="15247"/>
                  <a:pt x="21861" y="15238"/>
                  <a:pt x="21853" y="15230"/>
                </a:cubicBezTo>
                <a:cubicBezTo>
                  <a:pt x="21564" y="15278"/>
                  <a:pt x="21283" y="15341"/>
                  <a:pt x="20985" y="15354"/>
                </a:cubicBezTo>
                <a:cubicBezTo>
                  <a:pt x="20668" y="15367"/>
                  <a:pt x="20358" y="15394"/>
                  <a:pt x="20042" y="15429"/>
                </a:cubicBezTo>
                <a:cubicBezTo>
                  <a:pt x="19773" y="15459"/>
                  <a:pt x="19511" y="15476"/>
                  <a:pt x="19248" y="15528"/>
                </a:cubicBezTo>
                <a:cubicBezTo>
                  <a:pt x="18922" y="15592"/>
                  <a:pt x="18603" y="15679"/>
                  <a:pt x="18281" y="15751"/>
                </a:cubicBezTo>
                <a:cubicBezTo>
                  <a:pt x="18190" y="15771"/>
                  <a:pt x="18147" y="15773"/>
                  <a:pt x="18058" y="15801"/>
                </a:cubicBezTo>
              </a:path>
              <a:path w="4664" h="5383">
                <a:moveTo>
                  <a:pt x="22151" y="15825"/>
                </a:moveTo>
                <a:cubicBezTo>
                  <a:pt x="22177" y="15940"/>
                  <a:pt x="22208" y="16057"/>
                  <a:pt x="22225" y="16173"/>
                </a:cubicBezTo>
                <a:cubicBezTo>
                  <a:pt x="22364" y="15963"/>
                  <a:pt x="22509" y="15802"/>
                  <a:pt x="22696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38960" y="4653000"/>
            <a:ext cx="320760" cy="285840"/>
          </a:xfrm>
          <a:custGeom>
            <a:avLst/>
            <a:gdLst/>
            <a:ahLst/>
            <a:rect l="l" t="t" r="r" b="b"/>
            <a:pathLst>
              <a:path w="894" h="795">
                <a:moveTo>
                  <a:pt x="18355" y="13122"/>
                </a:moveTo>
                <a:cubicBezTo>
                  <a:pt x="18368" y="13061"/>
                  <a:pt x="18334" y="13062"/>
                  <a:pt x="18231" y="12998"/>
                </a:cubicBezTo>
                <a:cubicBezTo>
                  <a:pt x="18080" y="12904"/>
                  <a:pt x="17965" y="12906"/>
                  <a:pt x="17909" y="13122"/>
                </a:cubicBezTo>
                <a:cubicBezTo>
                  <a:pt x="17876" y="13252"/>
                  <a:pt x="17827" y="13759"/>
                  <a:pt x="18107" y="13717"/>
                </a:cubicBezTo>
                <a:cubicBezTo>
                  <a:pt x="18352" y="13680"/>
                  <a:pt x="18419" y="13398"/>
                  <a:pt x="18405" y="13196"/>
                </a:cubicBezTo>
                <a:cubicBezTo>
                  <a:pt x="18384" y="13112"/>
                  <a:pt x="18382" y="13093"/>
                  <a:pt x="18355" y="13047"/>
                </a:cubicBezTo>
                <a:cubicBezTo>
                  <a:pt x="18373" y="13172"/>
                  <a:pt x="18388" y="13245"/>
                  <a:pt x="18405" y="13370"/>
                </a:cubicBezTo>
                <a:cubicBezTo>
                  <a:pt x="18432" y="13573"/>
                  <a:pt x="18439" y="13759"/>
                  <a:pt x="18678" y="13643"/>
                </a:cubicBezTo>
                <a:cubicBezTo>
                  <a:pt x="18734" y="13605"/>
                  <a:pt x="18737" y="13588"/>
                  <a:pt x="18777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66000" y="4483080"/>
            <a:ext cx="1195200" cy="401760"/>
          </a:xfrm>
          <a:custGeom>
            <a:avLst/>
            <a:gdLst/>
            <a:ahLst/>
            <a:rect l="l" t="t" r="r" b="b"/>
            <a:pathLst>
              <a:path w="3324" h="1117">
                <a:moveTo>
                  <a:pt x="19397" y="13022"/>
                </a:moveTo>
                <a:cubicBezTo>
                  <a:pt x="19328" y="13022"/>
                  <a:pt x="19528" y="13022"/>
                  <a:pt x="19546" y="13022"/>
                </a:cubicBezTo>
                <a:cubicBezTo>
                  <a:pt x="19588" y="13022"/>
                  <a:pt x="19596" y="13022"/>
                  <a:pt x="19621" y="13022"/>
                </a:cubicBezTo>
              </a:path>
              <a:path w="3324" h="1117">
                <a:moveTo>
                  <a:pt x="19348" y="13295"/>
                </a:moveTo>
                <a:cubicBezTo>
                  <a:pt x="19437" y="13277"/>
                  <a:pt x="19530" y="13246"/>
                  <a:pt x="19621" y="13246"/>
                </a:cubicBezTo>
              </a:path>
              <a:path w="3324" h="1117">
                <a:moveTo>
                  <a:pt x="20092" y="12824"/>
                </a:moveTo>
                <a:cubicBezTo>
                  <a:pt x="20092" y="12776"/>
                  <a:pt x="20105" y="12710"/>
                  <a:pt x="20141" y="12675"/>
                </a:cubicBezTo>
                <a:cubicBezTo>
                  <a:pt x="20196" y="12623"/>
                  <a:pt x="20325" y="12543"/>
                  <a:pt x="20389" y="12626"/>
                </a:cubicBezTo>
                <a:cubicBezTo>
                  <a:pt x="20469" y="12728"/>
                  <a:pt x="20445" y="12825"/>
                  <a:pt x="20365" y="12923"/>
                </a:cubicBezTo>
                <a:cubicBezTo>
                  <a:pt x="20264" y="13046"/>
                  <a:pt x="20136" y="13121"/>
                  <a:pt x="20067" y="13271"/>
                </a:cubicBezTo>
                <a:cubicBezTo>
                  <a:pt x="20029" y="13353"/>
                  <a:pt x="19989" y="13481"/>
                  <a:pt x="19968" y="13568"/>
                </a:cubicBezTo>
                <a:cubicBezTo>
                  <a:pt x="19988" y="13405"/>
                  <a:pt x="20014" y="13347"/>
                  <a:pt x="20141" y="13246"/>
                </a:cubicBezTo>
                <a:cubicBezTo>
                  <a:pt x="20166" y="13229"/>
                  <a:pt x="20191" y="13213"/>
                  <a:pt x="20216" y="13196"/>
                </a:cubicBezTo>
                <a:cubicBezTo>
                  <a:pt x="20286" y="13253"/>
                  <a:pt x="20361" y="13397"/>
                  <a:pt x="20464" y="13370"/>
                </a:cubicBezTo>
                <a:cubicBezTo>
                  <a:pt x="20531" y="13352"/>
                  <a:pt x="20735" y="13114"/>
                  <a:pt x="20613" y="13122"/>
                </a:cubicBezTo>
                <a:cubicBezTo>
                  <a:pt x="20596" y="13130"/>
                  <a:pt x="20580" y="13138"/>
                  <a:pt x="20563" y="13146"/>
                </a:cubicBezTo>
              </a:path>
              <a:path w="3324" h="1117">
                <a:moveTo>
                  <a:pt x="21034" y="12725"/>
                </a:moveTo>
                <a:cubicBezTo>
                  <a:pt x="21059" y="12799"/>
                  <a:pt x="21077" y="12986"/>
                  <a:pt x="21084" y="13097"/>
                </a:cubicBezTo>
                <a:cubicBezTo>
                  <a:pt x="21084" y="13175"/>
                  <a:pt x="21099" y="13193"/>
                  <a:pt x="21059" y="13221"/>
                </a:cubicBezTo>
              </a:path>
              <a:path w="3324" h="1117">
                <a:moveTo>
                  <a:pt x="20861" y="13022"/>
                </a:moveTo>
                <a:cubicBezTo>
                  <a:pt x="20979" y="13015"/>
                  <a:pt x="21089" y="12998"/>
                  <a:pt x="21208" y="12998"/>
                </a:cubicBezTo>
                <a:cubicBezTo>
                  <a:pt x="21216" y="12998"/>
                  <a:pt x="21225" y="12998"/>
                  <a:pt x="21233" y="12998"/>
                </a:cubicBezTo>
              </a:path>
              <a:path w="3324" h="1117">
                <a:moveTo>
                  <a:pt x="21679" y="12774"/>
                </a:moveTo>
                <a:cubicBezTo>
                  <a:pt x="21747" y="12741"/>
                  <a:pt x="21822" y="12750"/>
                  <a:pt x="21903" y="12750"/>
                </a:cubicBezTo>
                <a:cubicBezTo>
                  <a:pt x="21911" y="12750"/>
                  <a:pt x="21919" y="12750"/>
                  <a:pt x="21927" y="12750"/>
                </a:cubicBezTo>
              </a:path>
              <a:path w="3324" h="1117">
                <a:moveTo>
                  <a:pt x="22126" y="12477"/>
                </a:moveTo>
                <a:cubicBezTo>
                  <a:pt x="22287" y="12477"/>
                  <a:pt x="22439" y="12467"/>
                  <a:pt x="22597" y="12452"/>
                </a:cubicBezTo>
                <a:cubicBezTo>
                  <a:pt x="22614" y="12452"/>
                  <a:pt x="22630" y="12452"/>
                  <a:pt x="22647" y="12452"/>
                </a:cubicBezTo>
                <a:cubicBezTo>
                  <a:pt x="22688" y="12580"/>
                  <a:pt x="22549" y="12815"/>
                  <a:pt x="22498" y="12948"/>
                </a:cubicBezTo>
                <a:cubicBezTo>
                  <a:pt x="22455" y="13054"/>
                  <a:pt x="22439" y="13075"/>
                  <a:pt x="22448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95960" y="3357720"/>
            <a:ext cx="160200" cy="509400"/>
          </a:xfrm>
          <a:custGeom>
            <a:avLst/>
            <a:gdLst/>
            <a:ahLst/>
            <a:rect l="l" t="t" r="r" b="b"/>
            <a:pathLst>
              <a:path w="448" h="1414">
                <a:moveTo>
                  <a:pt x="14709" y="9327"/>
                </a:moveTo>
                <a:cubicBezTo>
                  <a:pt x="14981" y="9520"/>
                  <a:pt x="15152" y="9834"/>
                  <a:pt x="15156" y="10195"/>
                </a:cubicBezTo>
                <a:cubicBezTo>
                  <a:pt x="15158" y="10380"/>
                  <a:pt x="15024" y="10644"/>
                  <a:pt x="14858" y="10740"/>
                </a:cubicBezTo>
                <a:cubicBezTo>
                  <a:pt x="14850" y="10740"/>
                  <a:pt x="14841" y="10740"/>
                  <a:pt x="1483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70320" y="3473280"/>
            <a:ext cx="160560" cy="258840"/>
          </a:xfrm>
          <a:custGeom>
            <a:avLst/>
            <a:gdLst/>
            <a:ahLst/>
            <a:rect l="l" t="t" r="r" b="b"/>
            <a:pathLst>
              <a:path w="447" h="720">
                <a:moveTo>
                  <a:pt x="14486" y="9723"/>
                </a:moveTo>
                <a:cubicBezTo>
                  <a:pt x="14606" y="9689"/>
                  <a:pt x="14638" y="9654"/>
                  <a:pt x="14759" y="9674"/>
                </a:cubicBezTo>
                <a:cubicBezTo>
                  <a:pt x="14718" y="9848"/>
                  <a:pt x="14652" y="9897"/>
                  <a:pt x="14511" y="10021"/>
                </a:cubicBezTo>
                <a:cubicBezTo>
                  <a:pt x="14436" y="9984"/>
                  <a:pt x="14707" y="9956"/>
                  <a:pt x="14734" y="9971"/>
                </a:cubicBezTo>
                <a:cubicBezTo>
                  <a:pt x="14980" y="10110"/>
                  <a:pt x="14650" y="10351"/>
                  <a:pt x="14511" y="10368"/>
                </a:cubicBezTo>
                <a:cubicBezTo>
                  <a:pt x="14420" y="10350"/>
                  <a:pt x="14413" y="10342"/>
                  <a:pt x="14362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3670200"/>
            <a:ext cx="29520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16520" y="10393"/>
                </a:moveTo>
                <a:cubicBezTo>
                  <a:pt x="16603" y="10339"/>
                  <a:pt x="16490" y="10252"/>
                  <a:pt x="16421" y="10220"/>
                </a:cubicBezTo>
                <a:cubicBezTo>
                  <a:pt x="16213" y="10124"/>
                  <a:pt x="16110" y="10407"/>
                  <a:pt x="16098" y="10567"/>
                </a:cubicBezTo>
                <a:cubicBezTo>
                  <a:pt x="16079" y="10821"/>
                  <a:pt x="16365" y="10785"/>
                  <a:pt x="16495" y="10666"/>
                </a:cubicBezTo>
                <a:cubicBezTo>
                  <a:pt x="16608" y="10562"/>
                  <a:pt x="16585" y="10446"/>
                  <a:pt x="16570" y="10319"/>
                </a:cubicBezTo>
                <a:cubicBezTo>
                  <a:pt x="16523" y="10335"/>
                  <a:pt x="16538" y="10438"/>
                  <a:pt x="16545" y="10492"/>
                </a:cubicBezTo>
                <a:cubicBezTo>
                  <a:pt x="16560" y="10612"/>
                  <a:pt x="16572" y="10775"/>
                  <a:pt x="16743" y="10716"/>
                </a:cubicBezTo>
                <a:cubicBezTo>
                  <a:pt x="16829" y="10687"/>
                  <a:pt x="16849" y="10633"/>
                  <a:pt x="16917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9960" y="3375000"/>
            <a:ext cx="866880" cy="760320"/>
          </a:xfrm>
          <a:custGeom>
            <a:avLst/>
            <a:gdLst/>
            <a:ahLst/>
            <a:rect l="l" t="t" r="r" b="b"/>
            <a:pathLst>
              <a:path w="2407" h="2110">
                <a:moveTo>
                  <a:pt x="17363" y="10393"/>
                </a:moveTo>
                <a:cubicBezTo>
                  <a:pt x="17458" y="10393"/>
                  <a:pt x="17542" y="10375"/>
                  <a:pt x="17636" y="10368"/>
                </a:cubicBezTo>
                <a:cubicBezTo>
                  <a:pt x="17725" y="10362"/>
                  <a:pt x="17798" y="10344"/>
                  <a:pt x="17884" y="10344"/>
                </a:cubicBezTo>
              </a:path>
              <a:path w="2407" h="2110">
                <a:moveTo>
                  <a:pt x="18529" y="9947"/>
                </a:moveTo>
                <a:cubicBezTo>
                  <a:pt x="18562" y="9897"/>
                  <a:pt x="18701" y="9945"/>
                  <a:pt x="18777" y="9947"/>
                </a:cubicBezTo>
                <a:cubicBezTo>
                  <a:pt x="18802" y="9947"/>
                  <a:pt x="18827" y="9947"/>
                  <a:pt x="18852" y="9947"/>
                </a:cubicBezTo>
              </a:path>
              <a:path w="2407" h="2110">
                <a:moveTo>
                  <a:pt x="19000" y="9823"/>
                </a:moveTo>
                <a:cubicBezTo>
                  <a:pt x="19098" y="9807"/>
                  <a:pt x="19198" y="9783"/>
                  <a:pt x="19298" y="9773"/>
                </a:cubicBezTo>
                <a:cubicBezTo>
                  <a:pt x="19337" y="9769"/>
                  <a:pt x="19382" y="9773"/>
                  <a:pt x="19422" y="9773"/>
                </a:cubicBezTo>
                <a:cubicBezTo>
                  <a:pt x="19422" y="9934"/>
                  <a:pt x="19340" y="10069"/>
                  <a:pt x="19298" y="10220"/>
                </a:cubicBezTo>
                <a:cubicBezTo>
                  <a:pt x="19261" y="10352"/>
                  <a:pt x="19314" y="10353"/>
                  <a:pt x="19224" y="10368"/>
                </a:cubicBezTo>
              </a:path>
              <a:path w="2407" h="2110">
                <a:moveTo>
                  <a:pt x="18331" y="9401"/>
                </a:moveTo>
                <a:cubicBezTo>
                  <a:pt x="18269" y="9385"/>
                  <a:pt x="18261" y="9463"/>
                  <a:pt x="18231" y="9624"/>
                </a:cubicBezTo>
                <a:cubicBezTo>
                  <a:pt x="18174" y="9928"/>
                  <a:pt x="18044" y="10368"/>
                  <a:pt x="18331" y="10592"/>
                </a:cubicBezTo>
                <a:cubicBezTo>
                  <a:pt x="18434" y="10672"/>
                  <a:pt x="18514" y="10626"/>
                  <a:pt x="18604" y="10592"/>
                </a:cubicBezTo>
              </a:path>
              <a:path w="2407" h="2110">
                <a:moveTo>
                  <a:pt x="19596" y="9475"/>
                </a:moveTo>
                <a:cubicBezTo>
                  <a:pt x="19618" y="9345"/>
                  <a:pt x="19718" y="9594"/>
                  <a:pt x="19745" y="9723"/>
                </a:cubicBezTo>
                <a:cubicBezTo>
                  <a:pt x="19806" y="10015"/>
                  <a:pt x="19749" y="10261"/>
                  <a:pt x="19621" y="10517"/>
                </a:cubicBezTo>
                <a:cubicBezTo>
                  <a:pt x="19601" y="10558"/>
                  <a:pt x="19603" y="10574"/>
                  <a:pt x="19571" y="10567"/>
                </a:cubicBezTo>
              </a:path>
              <a:path w="2407" h="2110">
                <a:moveTo>
                  <a:pt x="17636" y="11013"/>
                </a:moveTo>
                <a:cubicBezTo>
                  <a:pt x="17697" y="11033"/>
                  <a:pt x="17661" y="11251"/>
                  <a:pt x="17661" y="11311"/>
                </a:cubicBezTo>
                <a:cubicBezTo>
                  <a:pt x="17661" y="11410"/>
                  <a:pt x="17661" y="11427"/>
                  <a:pt x="17661" y="11485"/>
                </a:cubicBezTo>
              </a:path>
              <a:path w="2407" h="2110">
                <a:moveTo>
                  <a:pt x="17438" y="11261"/>
                </a:moveTo>
                <a:cubicBezTo>
                  <a:pt x="17573" y="11261"/>
                  <a:pt x="17701" y="11247"/>
                  <a:pt x="17835" y="11237"/>
                </a:cubicBezTo>
                <a:cubicBezTo>
                  <a:pt x="17893" y="11237"/>
                  <a:pt x="17901" y="11237"/>
                  <a:pt x="17934" y="11237"/>
                </a:cubicBezTo>
              </a:path>
              <a:path w="2407" h="2110">
                <a:moveTo>
                  <a:pt x="18479" y="11063"/>
                </a:moveTo>
                <a:cubicBezTo>
                  <a:pt x="18555" y="11063"/>
                  <a:pt x="18627" y="11044"/>
                  <a:pt x="18703" y="11038"/>
                </a:cubicBezTo>
              </a:path>
              <a:path w="2407" h="2110">
                <a:moveTo>
                  <a:pt x="19050" y="10889"/>
                </a:moveTo>
                <a:cubicBezTo>
                  <a:pt x="18988" y="10889"/>
                  <a:pt x="19113" y="10854"/>
                  <a:pt x="19174" y="10840"/>
                </a:cubicBezTo>
                <a:cubicBezTo>
                  <a:pt x="19273" y="10820"/>
                  <a:pt x="19289" y="10812"/>
                  <a:pt x="19348" y="10815"/>
                </a:cubicBezTo>
                <a:cubicBezTo>
                  <a:pt x="19333" y="10998"/>
                  <a:pt x="19293" y="11179"/>
                  <a:pt x="19273" y="11361"/>
                </a:cubicBezTo>
                <a:cubicBezTo>
                  <a:pt x="19273" y="11402"/>
                  <a:pt x="19273" y="11410"/>
                  <a:pt x="19273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59892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20290" y="10021"/>
                </a:moveTo>
                <a:cubicBezTo>
                  <a:pt x="20377" y="10021"/>
                  <a:pt x="20450" y="9982"/>
                  <a:pt x="20538" y="9996"/>
                </a:cubicBezTo>
                <a:cubicBezTo>
                  <a:pt x="20555" y="10004"/>
                  <a:pt x="20571" y="10013"/>
                  <a:pt x="20588" y="10021"/>
                </a:cubicBezTo>
              </a:path>
              <a:path w="299" h="249">
                <a:moveTo>
                  <a:pt x="20365" y="10220"/>
                </a:moveTo>
                <a:cubicBezTo>
                  <a:pt x="20434" y="10231"/>
                  <a:pt x="20491" y="10244"/>
                  <a:pt x="20563" y="10244"/>
                </a:cubicBezTo>
                <a:cubicBezTo>
                  <a:pt x="20571" y="10244"/>
                  <a:pt x="20580" y="10244"/>
                  <a:pt x="20588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08960" y="3419640"/>
            <a:ext cx="177840" cy="322200"/>
          </a:xfrm>
          <a:custGeom>
            <a:avLst/>
            <a:gdLst/>
            <a:ahLst/>
            <a:rect l="l" t="t" r="r" b="b"/>
            <a:pathLst>
              <a:path w="497" h="894">
                <a:moveTo>
                  <a:pt x="21258" y="9649"/>
                </a:moveTo>
                <a:cubicBezTo>
                  <a:pt x="21299" y="9677"/>
                  <a:pt x="21319" y="9594"/>
                  <a:pt x="21382" y="9550"/>
                </a:cubicBezTo>
                <a:cubicBezTo>
                  <a:pt x="21457" y="9497"/>
                  <a:pt x="21521" y="9469"/>
                  <a:pt x="21605" y="9525"/>
                </a:cubicBezTo>
                <a:cubicBezTo>
                  <a:pt x="21681" y="9576"/>
                  <a:pt x="21610" y="9697"/>
                  <a:pt x="21580" y="9748"/>
                </a:cubicBezTo>
                <a:cubicBezTo>
                  <a:pt x="21521" y="9848"/>
                  <a:pt x="21431" y="9890"/>
                  <a:pt x="21357" y="9971"/>
                </a:cubicBezTo>
                <a:cubicBezTo>
                  <a:pt x="21256" y="10082"/>
                  <a:pt x="21210" y="10182"/>
                  <a:pt x="21158" y="10319"/>
                </a:cubicBezTo>
                <a:cubicBezTo>
                  <a:pt x="21150" y="10335"/>
                  <a:pt x="21142" y="10352"/>
                  <a:pt x="21134" y="10368"/>
                </a:cubicBezTo>
                <a:cubicBezTo>
                  <a:pt x="21134" y="10415"/>
                  <a:pt x="21182" y="10257"/>
                  <a:pt x="21208" y="10220"/>
                </a:cubicBezTo>
                <a:cubicBezTo>
                  <a:pt x="21230" y="10190"/>
                  <a:pt x="21312" y="10100"/>
                  <a:pt x="21357" y="10145"/>
                </a:cubicBezTo>
                <a:cubicBezTo>
                  <a:pt x="21409" y="10198"/>
                  <a:pt x="21427" y="10278"/>
                  <a:pt x="21456" y="10344"/>
                </a:cubicBezTo>
                <a:cubicBezTo>
                  <a:pt x="21541" y="10335"/>
                  <a:pt x="21563" y="10321"/>
                  <a:pt x="21630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61000" y="4224240"/>
            <a:ext cx="2643120" cy="98640"/>
          </a:xfrm>
          <a:custGeom>
            <a:avLst/>
            <a:gdLst/>
            <a:ahLst/>
            <a:rect l="l" t="t" r="r" b="b"/>
            <a:pathLst>
              <a:path w="7343" h="273">
                <a:moveTo>
                  <a:pt x="15726" y="12005"/>
                </a:moveTo>
                <a:cubicBezTo>
                  <a:pt x="15848" y="11991"/>
                  <a:pt x="15973" y="11964"/>
                  <a:pt x="16098" y="11956"/>
                </a:cubicBezTo>
                <a:cubicBezTo>
                  <a:pt x="16301" y="11943"/>
                  <a:pt x="16491" y="11943"/>
                  <a:pt x="16694" y="11906"/>
                </a:cubicBezTo>
                <a:cubicBezTo>
                  <a:pt x="16853" y="11877"/>
                  <a:pt x="17029" y="11843"/>
                  <a:pt x="17190" y="11832"/>
                </a:cubicBezTo>
                <a:cubicBezTo>
                  <a:pt x="18118" y="11767"/>
                  <a:pt x="19064" y="11854"/>
                  <a:pt x="19993" y="11807"/>
                </a:cubicBezTo>
                <a:cubicBezTo>
                  <a:pt x="20299" y="11792"/>
                  <a:pt x="20605" y="11811"/>
                  <a:pt x="20910" y="11782"/>
                </a:cubicBezTo>
                <a:cubicBezTo>
                  <a:pt x="21135" y="11761"/>
                  <a:pt x="21353" y="11757"/>
                  <a:pt x="21580" y="11757"/>
                </a:cubicBezTo>
                <a:cubicBezTo>
                  <a:pt x="21829" y="11757"/>
                  <a:pt x="22074" y="11733"/>
                  <a:pt x="22324" y="11733"/>
                </a:cubicBezTo>
                <a:cubicBezTo>
                  <a:pt x="22550" y="11733"/>
                  <a:pt x="22771" y="11739"/>
                  <a:pt x="22994" y="11757"/>
                </a:cubicBezTo>
                <a:cubicBezTo>
                  <a:pt x="23019" y="11757"/>
                  <a:pt x="23043" y="11757"/>
                  <a:pt x="23068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Objectiv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larendon Condensed"/>
              </a:rPr>
              <a:t>Students will identify and perform transformations of figu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52840" y="4714920"/>
            <a:ext cx="1872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7615" y="13097"/>
                </a:moveTo>
                <a:cubicBezTo>
                  <a:pt x="7615" y="13279"/>
                  <a:pt x="7615" y="13461"/>
                  <a:pt x="7615" y="13643"/>
                </a:cubicBezTo>
              </a:path>
              <a:path w="522" h="547">
                <a:moveTo>
                  <a:pt x="7367" y="13444"/>
                </a:moveTo>
                <a:cubicBezTo>
                  <a:pt x="7515" y="13403"/>
                  <a:pt x="7661" y="13367"/>
                  <a:pt x="7813" y="13345"/>
                </a:cubicBezTo>
              </a:path>
              <a:path w="522" h="547">
                <a:moveTo>
                  <a:pt x="7813" y="13097"/>
                </a:moveTo>
                <a:cubicBezTo>
                  <a:pt x="7662" y="13173"/>
                  <a:pt x="7599" y="13351"/>
                  <a:pt x="7491" y="13494"/>
                </a:cubicBezTo>
                <a:cubicBezTo>
                  <a:pt x="7469" y="13516"/>
                  <a:pt x="7460" y="13521"/>
                  <a:pt x="7466" y="13543"/>
                </a:cubicBezTo>
              </a:path>
              <a:path w="522" h="547">
                <a:moveTo>
                  <a:pt x="7367" y="13320"/>
                </a:moveTo>
                <a:cubicBezTo>
                  <a:pt x="7493" y="13333"/>
                  <a:pt x="7610" y="13366"/>
                  <a:pt x="7714" y="13444"/>
                </a:cubicBezTo>
                <a:cubicBezTo>
                  <a:pt x="7816" y="13520"/>
                  <a:pt x="7789" y="13556"/>
                  <a:pt x="7888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3280" y="2894040"/>
            <a:ext cx="27000" cy="44280"/>
          </a:xfrm>
          <a:custGeom>
            <a:avLst/>
            <a:gdLst/>
            <a:ahLst/>
            <a:rect l="l" t="t" r="r" b="b"/>
            <a:pathLst>
              <a:path w="75" h="125">
                <a:moveTo>
                  <a:pt x="9649" y="8037"/>
                </a:moveTo>
                <a:cubicBezTo>
                  <a:pt x="9666" y="8078"/>
                  <a:pt x="9697" y="8118"/>
                  <a:pt x="9723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3800" y="2874960"/>
            <a:ext cx="3206520" cy="554040"/>
          </a:xfrm>
          <a:custGeom>
            <a:avLst/>
            <a:gdLst/>
            <a:ahLst/>
            <a:rect l="l" t="t" r="r" b="b"/>
            <a:pathLst>
              <a:path w="8906" h="1539">
                <a:moveTo>
                  <a:pt x="8781" y="8161"/>
                </a:moveTo>
                <a:cubicBezTo>
                  <a:pt x="8752" y="8292"/>
                  <a:pt x="8627" y="8556"/>
                  <a:pt x="8731" y="8682"/>
                </a:cubicBezTo>
                <a:cubicBezTo>
                  <a:pt x="8879" y="8862"/>
                  <a:pt x="9237" y="8687"/>
                  <a:pt x="9401" y="8632"/>
                </a:cubicBezTo>
              </a:path>
              <a:path w="8906" h="1539">
                <a:moveTo>
                  <a:pt x="8979" y="8334"/>
                </a:moveTo>
                <a:cubicBezTo>
                  <a:pt x="9169" y="8349"/>
                  <a:pt x="9366" y="8380"/>
                  <a:pt x="9550" y="8434"/>
                </a:cubicBezTo>
                <a:cubicBezTo>
                  <a:pt x="9566" y="8442"/>
                  <a:pt x="9583" y="8450"/>
                  <a:pt x="9599" y="8458"/>
                </a:cubicBezTo>
                <a:cubicBezTo>
                  <a:pt x="9533" y="8614"/>
                  <a:pt x="9368" y="8751"/>
                  <a:pt x="9252" y="8880"/>
                </a:cubicBezTo>
                <a:cubicBezTo>
                  <a:pt x="9244" y="8888"/>
                  <a:pt x="9235" y="8897"/>
                  <a:pt x="9227" y="8905"/>
                </a:cubicBezTo>
              </a:path>
              <a:path w="8906" h="1539">
                <a:moveTo>
                  <a:pt x="10468" y="8558"/>
                </a:moveTo>
                <a:cubicBezTo>
                  <a:pt x="10445" y="8602"/>
                  <a:pt x="10362" y="8457"/>
                  <a:pt x="10319" y="8409"/>
                </a:cubicBezTo>
                <a:cubicBezTo>
                  <a:pt x="10220" y="8494"/>
                  <a:pt x="9923" y="8865"/>
                  <a:pt x="10195" y="8979"/>
                </a:cubicBezTo>
                <a:cubicBezTo>
                  <a:pt x="10408" y="8952"/>
                  <a:pt x="10487" y="8938"/>
                  <a:pt x="10616" y="8855"/>
                </a:cubicBezTo>
              </a:path>
              <a:path w="8906" h="1539">
                <a:moveTo>
                  <a:pt x="10616" y="8235"/>
                </a:moveTo>
                <a:cubicBezTo>
                  <a:pt x="10689" y="8453"/>
                  <a:pt x="10774" y="8656"/>
                  <a:pt x="10815" y="8880"/>
                </a:cubicBezTo>
                <a:cubicBezTo>
                  <a:pt x="10815" y="8872"/>
                  <a:pt x="10815" y="8863"/>
                  <a:pt x="10815" y="8855"/>
                </a:cubicBezTo>
                <a:cubicBezTo>
                  <a:pt x="10815" y="8728"/>
                  <a:pt x="10914" y="8324"/>
                  <a:pt x="11137" y="8558"/>
                </a:cubicBezTo>
                <a:cubicBezTo>
                  <a:pt x="11211" y="8636"/>
                  <a:pt x="11237" y="8920"/>
                  <a:pt x="11237" y="8930"/>
                </a:cubicBezTo>
              </a:path>
              <a:path w="8906" h="1539">
                <a:moveTo>
                  <a:pt x="11757" y="8682"/>
                </a:moveTo>
                <a:cubicBezTo>
                  <a:pt x="11685" y="8535"/>
                  <a:pt x="11531" y="8511"/>
                  <a:pt x="11410" y="8657"/>
                </a:cubicBezTo>
                <a:cubicBezTo>
                  <a:pt x="11249" y="8852"/>
                  <a:pt x="11423" y="9121"/>
                  <a:pt x="11633" y="8930"/>
                </a:cubicBezTo>
                <a:cubicBezTo>
                  <a:pt x="11687" y="8840"/>
                  <a:pt x="11712" y="8839"/>
                  <a:pt x="11708" y="8781"/>
                </a:cubicBezTo>
                <a:cubicBezTo>
                  <a:pt x="11759" y="8832"/>
                  <a:pt x="11822" y="8911"/>
                  <a:pt x="11906" y="8880"/>
                </a:cubicBezTo>
                <a:cubicBezTo>
                  <a:pt x="11977" y="8854"/>
                  <a:pt x="12003" y="8780"/>
                  <a:pt x="12055" y="8905"/>
                </a:cubicBezTo>
                <a:cubicBezTo>
                  <a:pt x="12055" y="8913"/>
                  <a:pt x="12055" y="8922"/>
                  <a:pt x="12055" y="8930"/>
                </a:cubicBezTo>
                <a:cubicBezTo>
                  <a:pt x="12029" y="8788"/>
                  <a:pt x="11931" y="8649"/>
                  <a:pt x="12129" y="8607"/>
                </a:cubicBezTo>
                <a:cubicBezTo>
                  <a:pt x="12383" y="8554"/>
                  <a:pt x="12416" y="8739"/>
                  <a:pt x="12477" y="8905"/>
                </a:cubicBezTo>
                <a:cubicBezTo>
                  <a:pt x="12485" y="8913"/>
                  <a:pt x="12494" y="8922"/>
                  <a:pt x="12502" y="8930"/>
                </a:cubicBezTo>
              </a:path>
              <a:path w="8906" h="1539">
                <a:moveTo>
                  <a:pt x="12874" y="8607"/>
                </a:moveTo>
                <a:cubicBezTo>
                  <a:pt x="12652" y="8718"/>
                  <a:pt x="12573" y="8790"/>
                  <a:pt x="12626" y="9029"/>
                </a:cubicBezTo>
                <a:cubicBezTo>
                  <a:pt x="12817" y="8976"/>
                  <a:pt x="12855" y="8920"/>
                  <a:pt x="12824" y="8706"/>
                </a:cubicBezTo>
                <a:cubicBezTo>
                  <a:pt x="12926" y="8890"/>
                  <a:pt x="13118" y="9063"/>
                  <a:pt x="13122" y="9302"/>
                </a:cubicBezTo>
                <a:cubicBezTo>
                  <a:pt x="13105" y="9352"/>
                  <a:pt x="13089" y="9401"/>
                  <a:pt x="13072" y="9451"/>
                </a:cubicBezTo>
                <a:cubicBezTo>
                  <a:pt x="12781" y="9531"/>
                  <a:pt x="12611" y="9577"/>
                  <a:pt x="12626" y="9252"/>
                </a:cubicBezTo>
              </a:path>
              <a:path w="8906" h="1539">
                <a:moveTo>
                  <a:pt x="13097" y="8855"/>
                </a:moveTo>
                <a:cubicBezTo>
                  <a:pt x="13174" y="8820"/>
                  <a:pt x="13310" y="8792"/>
                  <a:pt x="13345" y="8756"/>
                </a:cubicBezTo>
                <a:cubicBezTo>
                  <a:pt x="13076" y="8678"/>
                  <a:pt x="13018" y="8694"/>
                  <a:pt x="12923" y="8954"/>
                </a:cubicBezTo>
                <a:cubicBezTo>
                  <a:pt x="13180" y="9084"/>
                  <a:pt x="13159" y="9039"/>
                  <a:pt x="13444" y="8905"/>
                </a:cubicBezTo>
              </a:path>
              <a:path w="8906" h="1539">
                <a:moveTo>
                  <a:pt x="13643" y="8582"/>
                </a:moveTo>
                <a:cubicBezTo>
                  <a:pt x="13547" y="8606"/>
                  <a:pt x="13518" y="8612"/>
                  <a:pt x="13469" y="8657"/>
                </a:cubicBezTo>
                <a:cubicBezTo>
                  <a:pt x="13570" y="8771"/>
                  <a:pt x="13722" y="8795"/>
                  <a:pt x="13866" y="8855"/>
                </a:cubicBezTo>
                <a:cubicBezTo>
                  <a:pt x="13787" y="9047"/>
                  <a:pt x="13641" y="9063"/>
                  <a:pt x="13543" y="8930"/>
                </a:cubicBezTo>
              </a:path>
              <a:path w="8906" h="1539">
                <a:moveTo>
                  <a:pt x="14387" y="8161"/>
                </a:moveTo>
                <a:cubicBezTo>
                  <a:pt x="14279" y="8429"/>
                  <a:pt x="14265" y="8789"/>
                  <a:pt x="14188" y="9079"/>
                </a:cubicBezTo>
                <a:cubicBezTo>
                  <a:pt x="14152" y="9215"/>
                  <a:pt x="14095" y="9362"/>
                  <a:pt x="14064" y="9500"/>
                </a:cubicBezTo>
              </a:path>
              <a:path w="8906" h="1539">
                <a:moveTo>
                  <a:pt x="14585" y="8781"/>
                </a:moveTo>
                <a:cubicBezTo>
                  <a:pt x="14634" y="8902"/>
                  <a:pt x="14650" y="8940"/>
                  <a:pt x="14635" y="9029"/>
                </a:cubicBezTo>
                <a:cubicBezTo>
                  <a:pt x="14688" y="9160"/>
                  <a:pt x="14612" y="8906"/>
                  <a:pt x="14610" y="8880"/>
                </a:cubicBezTo>
                <a:cubicBezTo>
                  <a:pt x="14593" y="8633"/>
                  <a:pt x="14801" y="8630"/>
                  <a:pt x="14957" y="8781"/>
                </a:cubicBezTo>
                <a:cubicBezTo>
                  <a:pt x="15016" y="8879"/>
                  <a:pt x="15028" y="8894"/>
                  <a:pt x="15056" y="8954"/>
                </a:cubicBezTo>
                <a:cubicBezTo>
                  <a:pt x="15036" y="8874"/>
                  <a:pt x="14999" y="8743"/>
                  <a:pt x="15056" y="8657"/>
                </a:cubicBezTo>
                <a:cubicBezTo>
                  <a:pt x="15219" y="8408"/>
                  <a:pt x="15396" y="8748"/>
                  <a:pt x="15453" y="8880"/>
                </a:cubicBezTo>
                <a:cubicBezTo>
                  <a:pt x="15461" y="8913"/>
                  <a:pt x="15470" y="8946"/>
                  <a:pt x="15478" y="8979"/>
                </a:cubicBezTo>
              </a:path>
              <a:path w="8906" h="1539">
                <a:moveTo>
                  <a:pt x="15850" y="8533"/>
                </a:moveTo>
                <a:cubicBezTo>
                  <a:pt x="15738" y="8570"/>
                  <a:pt x="15586" y="8718"/>
                  <a:pt x="15602" y="8855"/>
                </a:cubicBezTo>
                <a:cubicBezTo>
                  <a:pt x="15629" y="9085"/>
                  <a:pt x="16028" y="8967"/>
                  <a:pt x="16073" y="8806"/>
                </a:cubicBezTo>
                <a:cubicBezTo>
                  <a:pt x="16113" y="8661"/>
                  <a:pt x="15966" y="8624"/>
                  <a:pt x="15875" y="8582"/>
                </a:cubicBezTo>
              </a:path>
              <a:path w="8906" h="1539">
                <a:moveTo>
                  <a:pt x="16073" y="8458"/>
                </a:moveTo>
                <a:cubicBezTo>
                  <a:pt x="16205" y="8575"/>
                  <a:pt x="16350" y="8709"/>
                  <a:pt x="16495" y="8806"/>
                </a:cubicBezTo>
                <a:cubicBezTo>
                  <a:pt x="16503" y="8806"/>
                  <a:pt x="16512" y="8806"/>
                  <a:pt x="16520" y="8806"/>
                </a:cubicBezTo>
                <a:cubicBezTo>
                  <a:pt x="16520" y="8678"/>
                  <a:pt x="16537" y="8560"/>
                  <a:pt x="16545" y="8434"/>
                </a:cubicBezTo>
                <a:cubicBezTo>
                  <a:pt x="16545" y="8426"/>
                  <a:pt x="16545" y="8417"/>
                  <a:pt x="16545" y="8409"/>
                </a:cubicBezTo>
              </a:path>
              <a:path w="8906" h="1539">
                <a:moveTo>
                  <a:pt x="16694" y="8508"/>
                </a:moveTo>
                <a:cubicBezTo>
                  <a:pt x="16830" y="8498"/>
                  <a:pt x="16947" y="8496"/>
                  <a:pt x="17016" y="8359"/>
                </a:cubicBezTo>
                <a:cubicBezTo>
                  <a:pt x="17016" y="8351"/>
                  <a:pt x="17016" y="8342"/>
                  <a:pt x="17016" y="8334"/>
                </a:cubicBezTo>
                <a:cubicBezTo>
                  <a:pt x="16915" y="8354"/>
                  <a:pt x="16753" y="8437"/>
                  <a:pt x="16793" y="8582"/>
                </a:cubicBezTo>
                <a:cubicBezTo>
                  <a:pt x="16867" y="8683"/>
                  <a:pt x="16893" y="8716"/>
                  <a:pt x="16991" y="8706"/>
                </a:cubicBezTo>
              </a:path>
              <a:path w="8906" h="1539">
                <a:moveTo>
                  <a:pt x="17363" y="8285"/>
                </a:moveTo>
                <a:cubicBezTo>
                  <a:pt x="17276" y="8328"/>
                  <a:pt x="17252" y="8335"/>
                  <a:pt x="17214" y="8384"/>
                </a:cubicBezTo>
                <a:cubicBezTo>
                  <a:pt x="17278" y="8511"/>
                  <a:pt x="17464" y="8511"/>
                  <a:pt x="17611" y="8558"/>
                </a:cubicBezTo>
                <a:cubicBezTo>
                  <a:pt x="17555" y="8724"/>
                  <a:pt x="17524" y="8686"/>
                  <a:pt x="17338" y="8731"/>
                </a:cubicBezTo>
              </a:path>
              <a:path w="8906" h="1539">
                <a:moveTo>
                  <a:pt x="9649" y="7987"/>
                </a:moveTo>
                <a:cubicBezTo>
                  <a:pt x="9689" y="8031"/>
                  <a:pt x="9732" y="8086"/>
                  <a:pt x="9773" y="8111"/>
                </a:cubicBezTo>
              </a:path>
              <a:path w="8906" h="1539">
                <a:moveTo>
                  <a:pt x="13915" y="8111"/>
                </a:moveTo>
                <a:cubicBezTo>
                  <a:pt x="13904" y="8182"/>
                  <a:pt x="13809" y="8374"/>
                  <a:pt x="13841" y="8310"/>
                </a:cubicBezTo>
                <a:cubicBezTo>
                  <a:pt x="13849" y="8293"/>
                  <a:pt x="13858" y="8277"/>
                  <a:pt x="13866" y="8260"/>
                </a:cubicBezTo>
              </a:path>
              <a:path w="8906" h="1539">
                <a:moveTo>
                  <a:pt x="14015" y="8037"/>
                </a:moveTo>
                <a:cubicBezTo>
                  <a:pt x="14015" y="8128"/>
                  <a:pt x="14015" y="8152"/>
                  <a:pt x="14015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73760" y="5081760"/>
            <a:ext cx="768240" cy="241200"/>
          </a:xfrm>
          <a:custGeom>
            <a:avLst/>
            <a:gdLst/>
            <a:ahLst/>
            <a:rect l="l" t="t" r="r" b="b"/>
            <a:pathLst>
              <a:path w="2134" h="671">
                <a:moveTo>
                  <a:pt x="14188" y="14312"/>
                </a:moveTo>
                <a:cubicBezTo>
                  <a:pt x="14123" y="14205"/>
                  <a:pt x="14040" y="14224"/>
                  <a:pt x="13940" y="14288"/>
                </a:cubicBezTo>
                <a:cubicBezTo>
                  <a:pt x="13841" y="14351"/>
                  <a:pt x="13829" y="14348"/>
                  <a:pt x="13816" y="14436"/>
                </a:cubicBezTo>
                <a:cubicBezTo>
                  <a:pt x="13917" y="14503"/>
                  <a:pt x="13997" y="14459"/>
                  <a:pt x="14114" y="14486"/>
                </a:cubicBezTo>
                <a:cubicBezTo>
                  <a:pt x="14241" y="14515"/>
                  <a:pt x="14320" y="14647"/>
                  <a:pt x="14213" y="14759"/>
                </a:cubicBezTo>
                <a:cubicBezTo>
                  <a:pt x="14132" y="14844"/>
                  <a:pt x="13927" y="14759"/>
                  <a:pt x="13841" y="14734"/>
                </a:cubicBezTo>
              </a:path>
              <a:path w="2134" h="671">
                <a:moveTo>
                  <a:pt x="14312" y="14114"/>
                </a:moveTo>
                <a:cubicBezTo>
                  <a:pt x="14347" y="14239"/>
                  <a:pt x="14375" y="14401"/>
                  <a:pt x="14387" y="14536"/>
                </a:cubicBezTo>
                <a:cubicBezTo>
                  <a:pt x="14395" y="14624"/>
                  <a:pt x="14402" y="14699"/>
                  <a:pt x="14412" y="14784"/>
                </a:cubicBezTo>
              </a:path>
              <a:path w="2134" h="671">
                <a:moveTo>
                  <a:pt x="14635" y="14436"/>
                </a:moveTo>
                <a:cubicBezTo>
                  <a:pt x="14635" y="14382"/>
                  <a:pt x="14660" y="14677"/>
                  <a:pt x="14660" y="14684"/>
                </a:cubicBezTo>
                <a:cubicBezTo>
                  <a:pt x="14662" y="14744"/>
                  <a:pt x="14650" y="14731"/>
                  <a:pt x="14684" y="14684"/>
                </a:cubicBezTo>
              </a:path>
              <a:path w="2134" h="671">
                <a:moveTo>
                  <a:pt x="15280" y="14560"/>
                </a:moveTo>
                <a:cubicBezTo>
                  <a:pt x="15280" y="14460"/>
                  <a:pt x="15264" y="14433"/>
                  <a:pt x="15131" y="14436"/>
                </a:cubicBezTo>
                <a:cubicBezTo>
                  <a:pt x="14951" y="14440"/>
                  <a:pt x="14941" y="14525"/>
                  <a:pt x="14908" y="14660"/>
                </a:cubicBezTo>
                <a:cubicBezTo>
                  <a:pt x="15111" y="14761"/>
                  <a:pt x="15177" y="14780"/>
                  <a:pt x="15255" y="14560"/>
                </a:cubicBezTo>
              </a:path>
              <a:path w="2134" h="671">
                <a:moveTo>
                  <a:pt x="15156" y="14163"/>
                </a:moveTo>
                <a:cubicBezTo>
                  <a:pt x="15200" y="14332"/>
                  <a:pt x="15235" y="14524"/>
                  <a:pt x="15304" y="14684"/>
                </a:cubicBezTo>
                <a:cubicBezTo>
                  <a:pt x="15346" y="14726"/>
                  <a:pt x="15370" y="14717"/>
                  <a:pt x="15404" y="14635"/>
                </a:cubicBezTo>
              </a:path>
              <a:path w="2134" h="671">
                <a:moveTo>
                  <a:pt x="15627" y="14461"/>
                </a:moveTo>
                <a:cubicBezTo>
                  <a:pt x="15685" y="14461"/>
                  <a:pt x="15743" y="14461"/>
                  <a:pt x="15801" y="14461"/>
                </a:cubicBezTo>
                <a:cubicBezTo>
                  <a:pt x="15801" y="14379"/>
                  <a:pt x="15727" y="14354"/>
                  <a:pt x="15652" y="14337"/>
                </a:cubicBezTo>
                <a:cubicBezTo>
                  <a:pt x="15540" y="14312"/>
                  <a:pt x="15460" y="14428"/>
                  <a:pt x="15478" y="14536"/>
                </a:cubicBezTo>
                <a:cubicBezTo>
                  <a:pt x="15506" y="14709"/>
                  <a:pt x="15733" y="14708"/>
                  <a:pt x="15850" y="14684"/>
                </a:cubicBezTo>
                <a:cubicBezTo>
                  <a:pt x="15908" y="14666"/>
                  <a:pt x="15914" y="14658"/>
                  <a:pt x="15949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9240" y="5106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10" y="14188"/>
                </a:moveTo>
                <a:lnTo>
                  <a:pt x="14610" y="14188"/>
                </a:lnTo>
                <a:lnTo>
                  <a:pt x="14610" y="14188"/>
                </a:lnTo>
              </a:path>
              <a:path w="1" h="1">
                <a:moveTo>
                  <a:pt x="14610" y="14188"/>
                </a:moveTo>
                <a:lnTo>
                  <a:pt x="14610" y="141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26200" y="4616280"/>
            <a:ext cx="1312920" cy="509760"/>
          </a:xfrm>
          <a:custGeom>
            <a:avLst/>
            <a:gdLst/>
            <a:ahLst/>
            <a:rect l="l" t="t" r="r" b="b"/>
            <a:pathLst>
              <a:path w="3647" h="1415">
                <a:moveTo>
                  <a:pt x="21258" y="13246"/>
                </a:moveTo>
                <a:cubicBezTo>
                  <a:pt x="21298" y="13368"/>
                  <a:pt x="21294" y="13397"/>
                  <a:pt x="21357" y="13444"/>
                </a:cubicBezTo>
              </a:path>
              <a:path w="3647" h="1415">
                <a:moveTo>
                  <a:pt x="21233" y="13047"/>
                </a:moveTo>
                <a:cubicBezTo>
                  <a:pt x="21249" y="13039"/>
                  <a:pt x="21266" y="13030"/>
                  <a:pt x="21282" y="13022"/>
                </a:cubicBezTo>
              </a:path>
              <a:path w="3647" h="1415">
                <a:moveTo>
                  <a:pt x="21282" y="13022"/>
                </a:moveTo>
                <a:lnTo>
                  <a:pt x="21282" y="13022"/>
                </a:lnTo>
              </a:path>
              <a:path w="3647" h="1415">
                <a:moveTo>
                  <a:pt x="23267" y="12824"/>
                </a:moveTo>
                <a:cubicBezTo>
                  <a:pt x="23320" y="12992"/>
                  <a:pt x="23419" y="13172"/>
                  <a:pt x="23440" y="13345"/>
                </a:cubicBezTo>
                <a:cubicBezTo>
                  <a:pt x="23432" y="13328"/>
                  <a:pt x="23424" y="13312"/>
                  <a:pt x="23416" y="13295"/>
                </a:cubicBezTo>
              </a:path>
              <a:path w="3647" h="1415">
                <a:moveTo>
                  <a:pt x="19794" y="14238"/>
                </a:moveTo>
                <a:lnTo>
                  <a:pt x="19794" y="14238"/>
                </a:lnTo>
              </a:path>
              <a:path w="3647" h="1415">
                <a:moveTo>
                  <a:pt x="21481" y="13940"/>
                </a:moveTo>
                <a:lnTo>
                  <a:pt x="21481" y="13940"/>
                </a:lnTo>
                <a:lnTo>
                  <a:pt x="21481" y="13940"/>
                </a:lnTo>
              </a:path>
              <a:path w="3647" h="1415">
                <a:moveTo>
                  <a:pt x="21481" y="13940"/>
                </a:moveTo>
                <a:lnTo>
                  <a:pt x="21481" y="13940"/>
                </a:lnTo>
              </a:path>
              <a:path w="3647" h="1415">
                <a:moveTo>
                  <a:pt x="22969" y="13692"/>
                </a:moveTo>
                <a:cubicBezTo>
                  <a:pt x="22977" y="13709"/>
                  <a:pt x="22986" y="13725"/>
                  <a:pt x="22994" y="13742"/>
                </a:cubicBezTo>
              </a:path>
              <a:path w="3647" h="1415">
                <a:moveTo>
                  <a:pt x="22994" y="13742"/>
                </a:moveTo>
                <a:lnTo>
                  <a:pt x="22994" y="137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69040" y="4732200"/>
            <a:ext cx="911160" cy="393840"/>
          </a:xfrm>
          <a:custGeom>
            <a:avLst/>
            <a:gdLst/>
            <a:ahLst/>
            <a:rect l="l" t="t" r="r" b="b"/>
            <a:pathLst>
              <a:path w="2531" h="1093">
                <a:moveTo>
                  <a:pt x="17413" y="13593"/>
                </a:moveTo>
                <a:cubicBezTo>
                  <a:pt x="17517" y="13558"/>
                  <a:pt x="17623" y="13568"/>
                  <a:pt x="17735" y="13568"/>
                </a:cubicBezTo>
              </a:path>
              <a:path w="2531" h="1093">
                <a:moveTo>
                  <a:pt x="17884" y="13444"/>
                </a:moveTo>
                <a:cubicBezTo>
                  <a:pt x="17953" y="13580"/>
                  <a:pt x="17969" y="13618"/>
                  <a:pt x="18033" y="13692"/>
                </a:cubicBezTo>
                <a:cubicBezTo>
                  <a:pt x="18033" y="13859"/>
                  <a:pt x="17989" y="13637"/>
                  <a:pt x="17983" y="13593"/>
                </a:cubicBezTo>
                <a:cubicBezTo>
                  <a:pt x="17955" y="13376"/>
                  <a:pt x="18083" y="13231"/>
                  <a:pt x="18281" y="13395"/>
                </a:cubicBezTo>
                <a:cubicBezTo>
                  <a:pt x="18394" y="13488"/>
                  <a:pt x="18380" y="13507"/>
                  <a:pt x="18380" y="13618"/>
                </a:cubicBezTo>
                <a:cubicBezTo>
                  <a:pt x="18324" y="13491"/>
                  <a:pt x="18286" y="13257"/>
                  <a:pt x="18504" y="13246"/>
                </a:cubicBezTo>
                <a:cubicBezTo>
                  <a:pt x="18697" y="13237"/>
                  <a:pt x="18743" y="13475"/>
                  <a:pt x="18802" y="13593"/>
                </a:cubicBezTo>
              </a:path>
              <a:path w="2531" h="1093">
                <a:moveTo>
                  <a:pt x="18951" y="13271"/>
                </a:moveTo>
                <a:cubicBezTo>
                  <a:pt x="18857" y="13411"/>
                  <a:pt x="18824" y="13451"/>
                  <a:pt x="18852" y="13568"/>
                </a:cubicBezTo>
                <a:cubicBezTo>
                  <a:pt x="18953" y="13583"/>
                  <a:pt x="19200" y="13587"/>
                  <a:pt x="19124" y="13395"/>
                </a:cubicBezTo>
                <a:cubicBezTo>
                  <a:pt x="19087" y="13302"/>
                  <a:pt x="19014" y="13327"/>
                  <a:pt x="18951" y="13295"/>
                </a:cubicBezTo>
              </a:path>
              <a:path w="2531" h="1093">
                <a:moveTo>
                  <a:pt x="19248" y="13295"/>
                </a:moveTo>
                <a:cubicBezTo>
                  <a:pt x="19313" y="13403"/>
                  <a:pt x="19328" y="13429"/>
                  <a:pt x="19372" y="13494"/>
                </a:cubicBezTo>
                <a:cubicBezTo>
                  <a:pt x="19365" y="13419"/>
                  <a:pt x="19311" y="13205"/>
                  <a:pt x="19397" y="13146"/>
                </a:cubicBezTo>
                <a:cubicBezTo>
                  <a:pt x="19422" y="13146"/>
                  <a:pt x="19447" y="13146"/>
                  <a:pt x="19472" y="13146"/>
                </a:cubicBezTo>
              </a:path>
              <a:path w="2531" h="1093">
                <a:moveTo>
                  <a:pt x="19720" y="13295"/>
                </a:moveTo>
                <a:cubicBezTo>
                  <a:pt x="19840" y="13269"/>
                  <a:pt x="19873" y="13279"/>
                  <a:pt x="19943" y="13196"/>
                </a:cubicBezTo>
                <a:cubicBezTo>
                  <a:pt x="19802" y="13111"/>
                  <a:pt x="19764" y="13162"/>
                  <a:pt x="19645" y="13271"/>
                </a:cubicBezTo>
                <a:cubicBezTo>
                  <a:pt x="19720" y="13432"/>
                  <a:pt x="19758" y="13470"/>
                  <a:pt x="19943" y="13419"/>
                </a:cubicBezTo>
              </a:path>
              <a:path w="2531" h="1093">
                <a:moveTo>
                  <a:pt x="19794" y="14238"/>
                </a:moveTo>
                <a:cubicBezTo>
                  <a:pt x="19769" y="14238"/>
                  <a:pt x="19761" y="14238"/>
                  <a:pt x="19794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19960" y="4616280"/>
            <a:ext cx="1063800" cy="250920"/>
          </a:xfrm>
          <a:custGeom>
            <a:avLst/>
            <a:gdLst/>
            <a:ahLst/>
            <a:rect l="l" t="t" r="r" b="b"/>
            <a:pathLst>
              <a:path w="2952" h="696">
                <a:moveTo>
                  <a:pt x="20613" y="13196"/>
                </a:moveTo>
                <a:cubicBezTo>
                  <a:pt x="20613" y="13095"/>
                  <a:pt x="20638" y="13346"/>
                  <a:pt x="20662" y="13444"/>
                </a:cubicBezTo>
                <a:cubicBezTo>
                  <a:pt x="20715" y="13663"/>
                  <a:pt x="20816" y="13342"/>
                  <a:pt x="20836" y="13295"/>
                </a:cubicBezTo>
                <a:cubicBezTo>
                  <a:pt x="20836" y="13287"/>
                  <a:pt x="20836" y="13279"/>
                  <a:pt x="20836" y="13271"/>
                </a:cubicBezTo>
                <a:cubicBezTo>
                  <a:pt x="20853" y="13338"/>
                  <a:pt x="20902" y="13495"/>
                  <a:pt x="20985" y="13519"/>
                </a:cubicBezTo>
                <a:cubicBezTo>
                  <a:pt x="21145" y="13566"/>
                  <a:pt x="21128" y="13333"/>
                  <a:pt x="21059" y="13271"/>
                </a:cubicBezTo>
                <a:cubicBezTo>
                  <a:pt x="21051" y="13271"/>
                  <a:pt x="21042" y="13271"/>
                  <a:pt x="21034" y="13271"/>
                </a:cubicBezTo>
              </a:path>
              <a:path w="2952" h="696">
                <a:moveTo>
                  <a:pt x="21580" y="12824"/>
                </a:moveTo>
                <a:cubicBezTo>
                  <a:pt x="21654" y="12994"/>
                  <a:pt x="21820" y="13207"/>
                  <a:pt x="21828" y="13395"/>
                </a:cubicBezTo>
                <a:cubicBezTo>
                  <a:pt x="21820" y="13403"/>
                  <a:pt x="21811" y="13411"/>
                  <a:pt x="21803" y="13419"/>
                </a:cubicBezTo>
              </a:path>
              <a:path w="2952" h="696">
                <a:moveTo>
                  <a:pt x="21357" y="13221"/>
                </a:moveTo>
                <a:cubicBezTo>
                  <a:pt x="21476" y="13284"/>
                  <a:pt x="21863" y="13381"/>
                  <a:pt x="21903" y="13122"/>
                </a:cubicBezTo>
                <a:cubicBezTo>
                  <a:pt x="21918" y="13028"/>
                  <a:pt x="21813" y="12923"/>
                  <a:pt x="21803" y="12923"/>
                </a:cubicBezTo>
                <a:cubicBezTo>
                  <a:pt x="21873" y="13055"/>
                  <a:pt x="21940" y="13185"/>
                  <a:pt x="22002" y="13320"/>
                </a:cubicBezTo>
                <a:cubicBezTo>
                  <a:pt x="21918" y="13404"/>
                  <a:pt x="21947" y="13116"/>
                  <a:pt x="22002" y="13072"/>
                </a:cubicBezTo>
                <a:cubicBezTo>
                  <a:pt x="22237" y="12883"/>
                  <a:pt x="22328" y="13320"/>
                  <a:pt x="22349" y="13444"/>
                </a:cubicBezTo>
                <a:cubicBezTo>
                  <a:pt x="22349" y="13452"/>
                  <a:pt x="22349" y="13461"/>
                  <a:pt x="22349" y="13469"/>
                </a:cubicBezTo>
              </a:path>
              <a:path w="2952" h="696">
                <a:moveTo>
                  <a:pt x="22572" y="13122"/>
                </a:moveTo>
                <a:cubicBezTo>
                  <a:pt x="22398" y="13215"/>
                  <a:pt x="22363" y="13278"/>
                  <a:pt x="22374" y="13469"/>
                </a:cubicBezTo>
                <a:cubicBezTo>
                  <a:pt x="22462" y="13469"/>
                  <a:pt x="22851" y="13406"/>
                  <a:pt x="22647" y="13221"/>
                </a:cubicBezTo>
                <a:cubicBezTo>
                  <a:pt x="22614" y="13213"/>
                  <a:pt x="22580" y="13204"/>
                  <a:pt x="22547" y="13196"/>
                </a:cubicBezTo>
              </a:path>
              <a:path w="2952" h="696">
                <a:moveTo>
                  <a:pt x="22796" y="13171"/>
                </a:moveTo>
                <a:cubicBezTo>
                  <a:pt x="22808" y="13231"/>
                  <a:pt x="22873" y="13566"/>
                  <a:pt x="22994" y="13345"/>
                </a:cubicBezTo>
                <a:cubicBezTo>
                  <a:pt x="23002" y="13304"/>
                  <a:pt x="23011" y="13262"/>
                  <a:pt x="23019" y="13221"/>
                </a:cubicBezTo>
                <a:cubicBezTo>
                  <a:pt x="23019" y="13204"/>
                  <a:pt x="23019" y="13188"/>
                  <a:pt x="23019" y="13171"/>
                </a:cubicBezTo>
                <a:cubicBezTo>
                  <a:pt x="23054" y="13278"/>
                  <a:pt x="23174" y="13418"/>
                  <a:pt x="23292" y="13295"/>
                </a:cubicBezTo>
                <a:cubicBezTo>
                  <a:pt x="23308" y="13254"/>
                  <a:pt x="23325" y="13212"/>
                  <a:pt x="23341" y="13171"/>
                </a:cubicBezTo>
              </a:path>
              <a:path w="2952" h="696">
                <a:moveTo>
                  <a:pt x="23118" y="13122"/>
                </a:moveTo>
                <a:cubicBezTo>
                  <a:pt x="23262" y="13089"/>
                  <a:pt x="23419" y="13049"/>
                  <a:pt x="2356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34120" y="5180040"/>
            <a:ext cx="54000" cy="88920"/>
          </a:xfrm>
          <a:custGeom>
            <a:avLst/>
            <a:gdLst/>
            <a:ahLst/>
            <a:rect l="l" t="t" r="r" b="b"/>
            <a:pathLst>
              <a:path w="150" h="249">
                <a:moveTo>
                  <a:pt x="19819" y="14387"/>
                </a:moveTo>
                <a:cubicBezTo>
                  <a:pt x="19867" y="14470"/>
                  <a:pt x="19913" y="14559"/>
                  <a:pt x="19968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24840" y="5133960"/>
            <a:ext cx="241200" cy="260280"/>
          </a:xfrm>
          <a:custGeom>
            <a:avLst/>
            <a:gdLst/>
            <a:ahLst/>
            <a:rect l="l" t="t" r="r" b="b"/>
            <a:pathLst>
              <a:path w="671" h="720">
                <a:moveTo>
                  <a:pt x="20067" y="14560"/>
                </a:moveTo>
                <a:cubicBezTo>
                  <a:pt x="20130" y="14602"/>
                  <a:pt x="20049" y="14426"/>
                  <a:pt x="20067" y="14362"/>
                </a:cubicBezTo>
                <a:cubicBezTo>
                  <a:pt x="20136" y="14110"/>
                  <a:pt x="20297" y="14425"/>
                  <a:pt x="20315" y="14511"/>
                </a:cubicBezTo>
                <a:cubicBezTo>
                  <a:pt x="20315" y="14562"/>
                  <a:pt x="20317" y="14578"/>
                  <a:pt x="20365" y="14536"/>
                </a:cubicBezTo>
              </a:path>
              <a:path w="671" h="720">
                <a:moveTo>
                  <a:pt x="20389" y="14288"/>
                </a:moveTo>
                <a:cubicBezTo>
                  <a:pt x="20347" y="14395"/>
                  <a:pt x="20325" y="14419"/>
                  <a:pt x="20365" y="14486"/>
                </a:cubicBezTo>
                <a:cubicBezTo>
                  <a:pt x="20471" y="14455"/>
                  <a:pt x="20445" y="14374"/>
                  <a:pt x="20464" y="14263"/>
                </a:cubicBezTo>
                <a:cubicBezTo>
                  <a:pt x="20499" y="14061"/>
                  <a:pt x="20763" y="14581"/>
                  <a:pt x="20737" y="14784"/>
                </a:cubicBezTo>
                <a:cubicBezTo>
                  <a:pt x="20697" y="15097"/>
                  <a:pt x="20372" y="14990"/>
                  <a:pt x="20315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81960" y="4929120"/>
            <a:ext cx="1170000" cy="312840"/>
          </a:xfrm>
          <a:custGeom>
            <a:avLst/>
            <a:gdLst/>
            <a:ahLst/>
            <a:rect l="l" t="t" r="r" b="b"/>
            <a:pathLst>
              <a:path w="3251" h="869">
                <a:moveTo>
                  <a:pt x="21332" y="14213"/>
                </a:moveTo>
                <a:cubicBezTo>
                  <a:pt x="21161" y="14093"/>
                  <a:pt x="21067" y="14163"/>
                  <a:pt x="21059" y="14387"/>
                </a:cubicBezTo>
                <a:cubicBezTo>
                  <a:pt x="21044" y="14798"/>
                  <a:pt x="21339" y="14395"/>
                  <a:pt x="21382" y="14263"/>
                </a:cubicBezTo>
              </a:path>
              <a:path w="3251" h="869">
                <a:moveTo>
                  <a:pt x="21233" y="13866"/>
                </a:moveTo>
                <a:cubicBezTo>
                  <a:pt x="21291" y="14023"/>
                  <a:pt x="21377" y="14184"/>
                  <a:pt x="21456" y="14337"/>
                </a:cubicBezTo>
                <a:cubicBezTo>
                  <a:pt x="21464" y="14354"/>
                  <a:pt x="21473" y="14370"/>
                  <a:pt x="21481" y="14387"/>
                </a:cubicBezTo>
              </a:path>
              <a:path w="3251" h="869">
                <a:moveTo>
                  <a:pt x="21580" y="14238"/>
                </a:moveTo>
                <a:cubicBezTo>
                  <a:pt x="21595" y="14282"/>
                  <a:pt x="21647" y="14412"/>
                  <a:pt x="21605" y="14288"/>
                </a:cubicBezTo>
              </a:path>
              <a:path w="3251" h="869">
                <a:moveTo>
                  <a:pt x="21853" y="14213"/>
                </a:moveTo>
                <a:cubicBezTo>
                  <a:pt x="21900" y="14324"/>
                  <a:pt x="21861" y="14273"/>
                  <a:pt x="21878" y="14188"/>
                </a:cubicBezTo>
                <a:cubicBezTo>
                  <a:pt x="21900" y="14078"/>
                  <a:pt x="21931" y="14052"/>
                  <a:pt x="22027" y="14015"/>
                </a:cubicBezTo>
              </a:path>
              <a:path w="3251" h="869">
                <a:moveTo>
                  <a:pt x="22076" y="14089"/>
                </a:moveTo>
                <a:cubicBezTo>
                  <a:pt x="22147" y="14065"/>
                  <a:pt x="22198" y="14033"/>
                  <a:pt x="22225" y="13965"/>
                </a:cubicBezTo>
                <a:cubicBezTo>
                  <a:pt x="22034" y="14001"/>
                  <a:pt x="21999" y="14040"/>
                  <a:pt x="22027" y="14238"/>
                </a:cubicBezTo>
                <a:cubicBezTo>
                  <a:pt x="22175" y="14268"/>
                  <a:pt x="22237" y="14264"/>
                  <a:pt x="22324" y="14163"/>
                </a:cubicBezTo>
              </a:path>
              <a:path w="3251" h="869">
                <a:moveTo>
                  <a:pt x="22523" y="13940"/>
                </a:moveTo>
                <a:cubicBezTo>
                  <a:pt x="22502" y="14003"/>
                  <a:pt x="22421" y="13924"/>
                  <a:pt x="22374" y="14015"/>
                </a:cubicBezTo>
                <a:cubicBezTo>
                  <a:pt x="22200" y="14353"/>
                  <a:pt x="22623" y="14175"/>
                  <a:pt x="22721" y="14114"/>
                </a:cubicBezTo>
              </a:path>
              <a:path w="3251" h="869">
                <a:moveTo>
                  <a:pt x="22696" y="13692"/>
                </a:moveTo>
                <a:cubicBezTo>
                  <a:pt x="22767" y="13847"/>
                  <a:pt x="22830" y="14005"/>
                  <a:pt x="22895" y="14163"/>
                </a:cubicBezTo>
              </a:path>
              <a:path w="3251" h="869">
                <a:moveTo>
                  <a:pt x="22622" y="13990"/>
                </a:moveTo>
                <a:cubicBezTo>
                  <a:pt x="22746" y="13965"/>
                  <a:pt x="23031" y="13791"/>
                  <a:pt x="23118" y="13965"/>
                </a:cubicBezTo>
                <a:cubicBezTo>
                  <a:pt x="23131" y="13991"/>
                  <a:pt x="23168" y="14312"/>
                  <a:pt x="23168" y="14114"/>
                </a:cubicBezTo>
              </a:path>
              <a:path w="3251" h="869">
                <a:moveTo>
                  <a:pt x="23391" y="13891"/>
                </a:moveTo>
                <a:cubicBezTo>
                  <a:pt x="23243" y="13940"/>
                  <a:pt x="23257" y="14051"/>
                  <a:pt x="23242" y="14188"/>
                </a:cubicBezTo>
                <a:cubicBezTo>
                  <a:pt x="23354" y="14205"/>
                  <a:pt x="23568" y="14184"/>
                  <a:pt x="23515" y="13990"/>
                </a:cubicBezTo>
                <a:cubicBezTo>
                  <a:pt x="23488" y="13893"/>
                  <a:pt x="23337" y="13916"/>
                  <a:pt x="23440" y="13891"/>
                </a:cubicBezTo>
                <a:cubicBezTo>
                  <a:pt x="23570" y="13915"/>
                  <a:pt x="23650" y="13937"/>
                  <a:pt x="23713" y="14064"/>
                </a:cubicBezTo>
                <a:cubicBezTo>
                  <a:pt x="23713" y="13972"/>
                  <a:pt x="23700" y="13850"/>
                  <a:pt x="23812" y="13816"/>
                </a:cubicBezTo>
                <a:cubicBezTo>
                  <a:pt x="23960" y="13771"/>
                  <a:pt x="24031" y="13987"/>
                  <a:pt x="24061" y="14089"/>
                </a:cubicBezTo>
                <a:cubicBezTo>
                  <a:pt x="24061" y="14106"/>
                  <a:pt x="24061" y="14122"/>
                  <a:pt x="24061" y="14139"/>
                </a:cubicBezTo>
              </a:path>
              <a:path w="3251" h="869">
                <a:moveTo>
                  <a:pt x="24135" y="13692"/>
                </a:moveTo>
                <a:cubicBezTo>
                  <a:pt x="24095" y="13798"/>
                  <a:pt x="24112" y="13801"/>
                  <a:pt x="24209" y="13866"/>
                </a:cubicBezTo>
                <a:cubicBezTo>
                  <a:pt x="24333" y="13950"/>
                  <a:pt x="24337" y="14040"/>
                  <a:pt x="24185" y="14114"/>
                </a:cubicBezTo>
                <a:cubicBezTo>
                  <a:pt x="24078" y="14141"/>
                  <a:pt x="24039" y="14145"/>
                  <a:pt x="23986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19880" y="5081760"/>
            <a:ext cx="716040" cy="347400"/>
          </a:xfrm>
          <a:custGeom>
            <a:avLst/>
            <a:gdLst/>
            <a:ahLst/>
            <a:rect l="l" t="t" r="r" b="b"/>
            <a:pathLst>
              <a:path w="1985" h="968">
                <a:moveTo>
                  <a:pt x="18083" y="14188"/>
                </a:moveTo>
                <a:cubicBezTo>
                  <a:pt x="18064" y="14244"/>
                  <a:pt x="18046" y="14201"/>
                  <a:pt x="17983" y="14163"/>
                </a:cubicBezTo>
                <a:cubicBezTo>
                  <a:pt x="17923" y="14234"/>
                  <a:pt x="17656" y="14679"/>
                  <a:pt x="17934" y="14709"/>
                </a:cubicBezTo>
                <a:cubicBezTo>
                  <a:pt x="18109" y="14634"/>
                  <a:pt x="18168" y="14608"/>
                  <a:pt x="18231" y="14486"/>
                </a:cubicBezTo>
              </a:path>
              <a:path w="1985" h="968">
                <a:moveTo>
                  <a:pt x="18231" y="14114"/>
                </a:moveTo>
                <a:cubicBezTo>
                  <a:pt x="18245" y="14293"/>
                  <a:pt x="18277" y="14437"/>
                  <a:pt x="18331" y="14610"/>
                </a:cubicBezTo>
                <a:cubicBezTo>
                  <a:pt x="18331" y="14575"/>
                  <a:pt x="18351" y="14449"/>
                  <a:pt x="18430" y="14362"/>
                </a:cubicBezTo>
                <a:cubicBezTo>
                  <a:pt x="18573" y="14473"/>
                  <a:pt x="18634" y="14522"/>
                  <a:pt x="18653" y="14709"/>
                </a:cubicBezTo>
              </a:path>
              <a:path w="1985" h="968">
                <a:moveTo>
                  <a:pt x="18951" y="14486"/>
                </a:moveTo>
                <a:cubicBezTo>
                  <a:pt x="18798" y="14400"/>
                  <a:pt x="18618" y="14400"/>
                  <a:pt x="18653" y="14660"/>
                </a:cubicBezTo>
                <a:cubicBezTo>
                  <a:pt x="18670" y="14676"/>
                  <a:pt x="18686" y="14693"/>
                  <a:pt x="18703" y="14709"/>
                </a:cubicBezTo>
                <a:cubicBezTo>
                  <a:pt x="18774" y="14685"/>
                  <a:pt x="18893" y="14551"/>
                  <a:pt x="18901" y="14560"/>
                </a:cubicBezTo>
                <a:cubicBezTo>
                  <a:pt x="18978" y="14646"/>
                  <a:pt x="18995" y="14590"/>
                  <a:pt x="19075" y="14511"/>
                </a:cubicBezTo>
                <a:cubicBezTo>
                  <a:pt x="19084" y="14556"/>
                  <a:pt x="19072" y="14590"/>
                  <a:pt x="19100" y="14560"/>
                </a:cubicBezTo>
                <a:cubicBezTo>
                  <a:pt x="19072" y="14440"/>
                  <a:pt x="19074" y="14422"/>
                  <a:pt x="19124" y="14312"/>
                </a:cubicBezTo>
                <a:cubicBezTo>
                  <a:pt x="19298" y="14313"/>
                  <a:pt x="19335" y="14395"/>
                  <a:pt x="19397" y="14560"/>
                </a:cubicBezTo>
              </a:path>
              <a:path w="1985" h="968">
                <a:moveTo>
                  <a:pt x="19596" y="14436"/>
                </a:moveTo>
                <a:cubicBezTo>
                  <a:pt x="19596" y="14343"/>
                  <a:pt x="19589" y="14347"/>
                  <a:pt x="19546" y="14263"/>
                </a:cubicBezTo>
                <a:cubicBezTo>
                  <a:pt x="19399" y="14285"/>
                  <a:pt x="19211" y="14413"/>
                  <a:pt x="19372" y="14585"/>
                </a:cubicBezTo>
                <a:cubicBezTo>
                  <a:pt x="19547" y="14773"/>
                  <a:pt x="19626" y="14525"/>
                  <a:pt x="19596" y="14412"/>
                </a:cubicBezTo>
                <a:cubicBezTo>
                  <a:pt x="19708" y="14479"/>
                  <a:pt x="19848" y="14679"/>
                  <a:pt x="19819" y="14833"/>
                </a:cubicBezTo>
                <a:cubicBezTo>
                  <a:pt x="19759" y="15150"/>
                  <a:pt x="19460" y="15140"/>
                  <a:pt x="19422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oint is moved the same distance in the same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3048120"/>
            <a:ext cx="1981440" cy="1904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815000">
            <a:off x="3429000" y="365724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286000"/>
            <a:ext cx="1981080" cy="1905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2280" y="5060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vement of the translation:  Up/down; left/right, and by how much when on a coordinat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0080" y="285840"/>
            <a:ext cx="7412040" cy="3973320"/>
          </a:xfrm>
          <a:custGeom>
            <a:avLst/>
            <a:gdLst/>
            <a:ahLst/>
            <a:rect l="l" t="t" r="r" b="b"/>
            <a:pathLst>
              <a:path w="20589" h="11039">
                <a:moveTo>
                  <a:pt x="12551" y="6201"/>
                </a:moveTo>
                <a:cubicBezTo>
                  <a:pt x="13051" y="6201"/>
                  <a:pt x="13543" y="6246"/>
                  <a:pt x="14039" y="6251"/>
                </a:cubicBezTo>
                <a:cubicBezTo>
                  <a:pt x="14241" y="6253"/>
                  <a:pt x="14435" y="6269"/>
                  <a:pt x="14635" y="6276"/>
                </a:cubicBezTo>
                <a:cubicBezTo>
                  <a:pt x="14875" y="6285"/>
                  <a:pt x="15115" y="6292"/>
                  <a:pt x="15354" y="6300"/>
                </a:cubicBezTo>
                <a:cubicBezTo>
                  <a:pt x="16256" y="6329"/>
                  <a:pt x="17213" y="6352"/>
                  <a:pt x="18107" y="6251"/>
                </a:cubicBezTo>
                <a:cubicBezTo>
                  <a:pt x="18372" y="6221"/>
                  <a:pt x="18636" y="6223"/>
                  <a:pt x="18901" y="6201"/>
                </a:cubicBezTo>
                <a:cubicBezTo>
                  <a:pt x="19182" y="6177"/>
                  <a:pt x="19464" y="6175"/>
                  <a:pt x="19745" y="6152"/>
                </a:cubicBezTo>
                <a:cubicBezTo>
                  <a:pt x="20017" y="6129"/>
                  <a:pt x="20291" y="6125"/>
                  <a:pt x="20563" y="6102"/>
                </a:cubicBezTo>
                <a:cubicBezTo>
                  <a:pt x="20859" y="6077"/>
                  <a:pt x="21135" y="6090"/>
                  <a:pt x="21431" y="6102"/>
                </a:cubicBezTo>
                <a:cubicBezTo>
                  <a:pt x="21471" y="6104"/>
                  <a:pt x="22028" y="6115"/>
                  <a:pt x="22027" y="6127"/>
                </a:cubicBezTo>
                <a:cubicBezTo>
                  <a:pt x="22025" y="6163"/>
                  <a:pt x="22345" y="5981"/>
                  <a:pt x="21828" y="6201"/>
                </a:cubicBezTo>
              </a:path>
              <a:path w="20589" h="11039">
                <a:moveTo>
                  <a:pt x="2778" y="7615"/>
                </a:moveTo>
                <a:cubicBezTo>
                  <a:pt x="2840" y="7602"/>
                  <a:pt x="2927" y="7571"/>
                  <a:pt x="3001" y="7565"/>
                </a:cubicBezTo>
                <a:cubicBezTo>
                  <a:pt x="3297" y="7540"/>
                  <a:pt x="3597" y="7542"/>
                  <a:pt x="3894" y="7516"/>
                </a:cubicBezTo>
                <a:cubicBezTo>
                  <a:pt x="4190" y="7490"/>
                  <a:pt x="4490" y="7472"/>
                  <a:pt x="4787" y="7466"/>
                </a:cubicBezTo>
                <a:cubicBezTo>
                  <a:pt x="5597" y="7450"/>
                  <a:pt x="6411" y="7493"/>
                  <a:pt x="7218" y="7441"/>
                </a:cubicBezTo>
                <a:cubicBezTo>
                  <a:pt x="7564" y="7419"/>
                  <a:pt x="7915" y="7439"/>
                  <a:pt x="8260" y="7417"/>
                </a:cubicBezTo>
                <a:cubicBezTo>
                  <a:pt x="8482" y="7403"/>
                  <a:pt x="8724" y="7434"/>
                  <a:pt x="8930" y="7392"/>
                </a:cubicBezTo>
                <a:cubicBezTo>
                  <a:pt x="8970" y="7384"/>
                  <a:pt x="9014" y="7377"/>
                  <a:pt x="9054" y="7367"/>
                </a:cubicBezTo>
              </a:path>
              <a:path w="20589" h="11039">
                <a:moveTo>
                  <a:pt x="21258" y="819"/>
                </a:moveTo>
                <a:cubicBezTo>
                  <a:pt x="21290" y="917"/>
                  <a:pt x="21296" y="965"/>
                  <a:pt x="21307" y="1067"/>
                </a:cubicBezTo>
                <a:cubicBezTo>
                  <a:pt x="21358" y="1539"/>
                  <a:pt x="21423" y="1947"/>
                  <a:pt x="21555" y="2406"/>
                </a:cubicBezTo>
                <a:cubicBezTo>
                  <a:pt x="21656" y="2758"/>
                  <a:pt x="21769" y="3112"/>
                  <a:pt x="21828" y="3473"/>
                </a:cubicBezTo>
                <a:cubicBezTo>
                  <a:pt x="21860" y="3669"/>
                  <a:pt x="21940" y="3920"/>
                  <a:pt x="21927" y="4118"/>
                </a:cubicBezTo>
                <a:cubicBezTo>
                  <a:pt x="21927" y="4160"/>
                  <a:pt x="21921" y="4151"/>
                  <a:pt x="21903" y="4068"/>
                </a:cubicBezTo>
              </a:path>
              <a:path w="20589" h="11039">
                <a:moveTo>
                  <a:pt x="19893" y="2555"/>
                </a:moveTo>
                <a:cubicBezTo>
                  <a:pt x="20015" y="2433"/>
                  <a:pt x="20062" y="2437"/>
                  <a:pt x="20265" y="2431"/>
                </a:cubicBezTo>
                <a:cubicBezTo>
                  <a:pt x="20547" y="2423"/>
                  <a:pt x="20827" y="2410"/>
                  <a:pt x="21109" y="2406"/>
                </a:cubicBezTo>
                <a:cubicBezTo>
                  <a:pt x="21343" y="2403"/>
                  <a:pt x="21572" y="2394"/>
                  <a:pt x="21803" y="2381"/>
                </a:cubicBezTo>
                <a:cubicBezTo>
                  <a:pt x="22195" y="2359"/>
                  <a:pt x="22608" y="2371"/>
                  <a:pt x="22994" y="2406"/>
                </a:cubicBezTo>
                <a:cubicBezTo>
                  <a:pt x="23088" y="2415"/>
                  <a:pt x="23173" y="2428"/>
                  <a:pt x="23267" y="2431"/>
                </a:cubicBezTo>
                <a:cubicBezTo>
                  <a:pt x="23316" y="2433"/>
                  <a:pt x="23326" y="2444"/>
                  <a:pt x="23366" y="2456"/>
                </a:cubicBezTo>
              </a:path>
              <a:path w="20589" h="11039">
                <a:moveTo>
                  <a:pt x="22076" y="1513"/>
                </a:moveTo>
                <a:cubicBezTo>
                  <a:pt x="22076" y="1459"/>
                  <a:pt x="22073" y="1543"/>
                  <a:pt x="22126" y="1513"/>
                </a:cubicBezTo>
                <a:cubicBezTo>
                  <a:pt x="22154" y="1485"/>
                  <a:pt x="22163" y="1472"/>
                  <a:pt x="22151" y="1439"/>
                </a:cubicBezTo>
                <a:cubicBezTo>
                  <a:pt x="22127" y="1442"/>
                  <a:pt x="21948" y="1495"/>
                  <a:pt x="22051" y="1538"/>
                </a:cubicBezTo>
                <a:cubicBezTo>
                  <a:pt x="22121" y="1567"/>
                  <a:pt x="22119" y="1530"/>
                  <a:pt x="22126" y="1488"/>
                </a:cubicBezTo>
                <a:cubicBezTo>
                  <a:pt x="22126" y="1533"/>
                  <a:pt x="22113" y="1550"/>
                  <a:pt x="22151" y="1563"/>
                </a:cubicBezTo>
              </a:path>
              <a:path w="20589" h="11039">
                <a:moveTo>
                  <a:pt x="12601" y="11609"/>
                </a:moveTo>
                <a:cubicBezTo>
                  <a:pt x="12498" y="11629"/>
                  <a:pt x="12497" y="11709"/>
                  <a:pt x="12477" y="11807"/>
                </a:cubicBezTo>
                <a:cubicBezTo>
                  <a:pt x="12477" y="11815"/>
                  <a:pt x="12477" y="11824"/>
                  <a:pt x="12477" y="11832"/>
                </a:cubicBezTo>
                <a:cubicBezTo>
                  <a:pt x="12543" y="11805"/>
                  <a:pt x="12779" y="11701"/>
                  <a:pt x="12576" y="11658"/>
                </a:cubicBezTo>
                <a:cubicBezTo>
                  <a:pt x="12468" y="11635"/>
                  <a:pt x="12356" y="11807"/>
                  <a:pt x="12477" y="11807"/>
                </a:cubicBezTo>
                <a:cubicBezTo>
                  <a:pt x="12534" y="11788"/>
                  <a:pt x="12559" y="11797"/>
                  <a:pt x="12551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6160" y="3679920"/>
            <a:ext cx="206640" cy="411120"/>
          </a:xfrm>
          <a:custGeom>
            <a:avLst/>
            <a:gdLst/>
            <a:ahLst/>
            <a:rect l="l" t="t" r="r" b="b"/>
            <a:pathLst>
              <a:path w="572" h="1142">
                <a:moveTo>
                  <a:pt x="12254" y="10740"/>
                </a:moveTo>
                <a:cubicBezTo>
                  <a:pt x="12254" y="10852"/>
                  <a:pt x="12197" y="10699"/>
                  <a:pt x="12129" y="10691"/>
                </a:cubicBezTo>
                <a:cubicBezTo>
                  <a:pt x="11907" y="10666"/>
                  <a:pt x="11877" y="11163"/>
                  <a:pt x="11931" y="11286"/>
                </a:cubicBezTo>
                <a:cubicBezTo>
                  <a:pt x="12017" y="11483"/>
                  <a:pt x="12305" y="11279"/>
                  <a:pt x="12378" y="11187"/>
                </a:cubicBezTo>
                <a:cubicBezTo>
                  <a:pt x="12378" y="11154"/>
                  <a:pt x="12378" y="11137"/>
                  <a:pt x="12378" y="11112"/>
                </a:cubicBezTo>
              </a:path>
              <a:path w="572" h="1142">
                <a:moveTo>
                  <a:pt x="12477" y="10220"/>
                </a:moveTo>
                <a:cubicBezTo>
                  <a:pt x="12443" y="10313"/>
                  <a:pt x="12427" y="10393"/>
                  <a:pt x="12427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18080" y="2133720"/>
            <a:ext cx="447840" cy="260280"/>
          </a:xfrm>
          <a:custGeom>
            <a:avLst/>
            <a:gdLst/>
            <a:ahLst/>
            <a:rect l="l" t="t" r="r" b="b"/>
            <a:pathLst>
              <a:path w="1242" h="721">
                <a:moveTo>
                  <a:pt x="15453" y="6251"/>
                </a:moveTo>
                <a:cubicBezTo>
                  <a:pt x="15489" y="6239"/>
                  <a:pt x="15491" y="6177"/>
                  <a:pt x="15478" y="6127"/>
                </a:cubicBezTo>
                <a:cubicBezTo>
                  <a:pt x="15456" y="6083"/>
                  <a:pt x="15453" y="6072"/>
                  <a:pt x="15429" y="6052"/>
                </a:cubicBezTo>
                <a:cubicBezTo>
                  <a:pt x="15419" y="6058"/>
                  <a:pt x="15285" y="6205"/>
                  <a:pt x="15354" y="6226"/>
                </a:cubicBezTo>
                <a:cubicBezTo>
                  <a:pt x="15451" y="6255"/>
                  <a:pt x="15536" y="6209"/>
                  <a:pt x="15503" y="6127"/>
                </a:cubicBezTo>
                <a:cubicBezTo>
                  <a:pt x="15420" y="6057"/>
                  <a:pt x="15314" y="6111"/>
                  <a:pt x="15329" y="6251"/>
                </a:cubicBezTo>
                <a:cubicBezTo>
                  <a:pt x="15334" y="6303"/>
                  <a:pt x="15503" y="6304"/>
                  <a:pt x="15478" y="6201"/>
                </a:cubicBezTo>
                <a:cubicBezTo>
                  <a:pt x="15439" y="6142"/>
                  <a:pt x="15435" y="6130"/>
                  <a:pt x="15404" y="6102"/>
                </a:cubicBezTo>
                <a:cubicBezTo>
                  <a:pt x="15379" y="6135"/>
                  <a:pt x="15292" y="6365"/>
                  <a:pt x="15429" y="6325"/>
                </a:cubicBezTo>
                <a:cubicBezTo>
                  <a:pt x="15429" y="6292"/>
                  <a:pt x="15429" y="6276"/>
                  <a:pt x="15429" y="6251"/>
                </a:cubicBezTo>
              </a:path>
              <a:path w="1242" h="721">
                <a:moveTo>
                  <a:pt x="15776" y="6028"/>
                </a:moveTo>
                <a:cubicBezTo>
                  <a:pt x="15791" y="6227"/>
                  <a:pt x="15799" y="6399"/>
                  <a:pt x="15776" y="6598"/>
                </a:cubicBezTo>
                <a:cubicBezTo>
                  <a:pt x="15776" y="6677"/>
                  <a:pt x="15775" y="6315"/>
                  <a:pt x="15776" y="6300"/>
                </a:cubicBezTo>
                <a:cubicBezTo>
                  <a:pt x="15789" y="6157"/>
                  <a:pt x="15843" y="6042"/>
                  <a:pt x="15925" y="5928"/>
                </a:cubicBezTo>
                <a:cubicBezTo>
                  <a:pt x="16064" y="5999"/>
                  <a:pt x="16137" y="6225"/>
                  <a:pt x="16173" y="6375"/>
                </a:cubicBezTo>
                <a:cubicBezTo>
                  <a:pt x="16192" y="6532"/>
                  <a:pt x="16200" y="6556"/>
                  <a:pt x="16197" y="6648"/>
                </a:cubicBezTo>
              </a:path>
              <a:path w="1242" h="721">
                <a:moveTo>
                  <a:pt x="15850" y="6474"/>
                </a:moveTo>
                <a:cubicBezTo>
                  <a:pt x="15897" y="6427"/>
                  <a:pt x="16038" y="6353"/>
                  <a:pt x="16123" y="6325"/>
                </a:cubicBezTo>
                <a:cubicBezTo>
                  <a:pt x="16148" y="6325"/>
                  <a:pt x="16156" y="6325"/>
                  <a:pt x="16173" y="6325"/>
                </a:cubicBezTo>
              </a:path>
              <a:path w="1242" h="721">
                <a:moveTo>
                  <a:pt x="16570" y="5953"/>
                </a:moveTo>
                <a:cubicBezTo>
                  <a:pt x="16570" y="6021"/>
                  <a:pt x="16560" y="6056"/>
                  <a:pt x="16545" y="6127"/>
                </a:cubicBezTo>
                <a:cubicBezTo>
                  <a:pt x="16545" y="6209"/>
                  <a:pt x="16545" y="6060"/>
                  <a:pt x="16545" y="5978"/>
                </a:cubicBezTo>
                <a:cubicBezTo>
                  <a:pt x="16545" y="5906"/>
                  <a:pt x="16569" y="6156"/>
                  <a:pt x="16570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847960"/>
            <a:ext cx="4222800" cy="223920"/>
          </a:xfrm>
          <a:custGeom>
            <a:avLst/>
            <a:gdLst/>
            <a:ahLst/>
            <a:rect l="l" t="t" r="r" b="b"/>
            <a:pathLst>
              <a:path w="11733" h="621">
                <a:moveTo>
                  <a:pt x="6772" y="7987"/>
                </a:moveTo>
                <a:cubicBezTo>
                  <a:pt x="6848" y="7936"/>
                  <a:pt x="6928" y="7922"/>
                  <a:pt x="7020" y="7913"/>
                </a:cubicBezTo>
              </a:path>
              <a:path w="11733" h="621">
                <a:moveTo>
                  <a:pt x="6896" y="8533"/>
                </a:moveTo>
                <a:cubicBezTo>
                  <a:pt x="6896" y="8525"/>
                  <a:pt x="6896" y="8516"/>
                  <a:pt x="6896" y="8508"/>
                </a:cubicBezTo>
              </a:path>
              <a:path w="11733" h="621">
                <a:moveTo>
                  <a:pt x="18504" y="7913"/>
                </a:moveTo>
                <a:lnTo>
                  <a:pt x="18504" y="791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94000" y="2241720"/>
            <a:ext cx="3232080" cy="857160"/>
          </a:xfrm>
          <a:custGeom>
            <a:avLst/>
            <a:gdLst/>
            <a:ahLst/>
            <a:rect l="l" t="t" r="r" b="b"/>
            <a:pathLst>
              <a:path w="8980" h="2382">
                <a:moveTo>
                  <a:pt x="6796" y="7813"/>
                </a:moveTo>
                <a:cubicBezTo>
                  <a:pt x="6730" y="7920"/>
                  <a:pt x="6696" y="8043"/>
                  <a:pt x="6648" y="8161"/>
                </a:cubicBezTo>
                <a:cubicBezTo>
                  <a:pt x="6682" y="7985"/>
                  <a:pt x="6720" y="7792"/>
                  <a:pt x="6821" y="7640"/>
                </a:cubicBezTo>
                <a:cubicBezTo>
                  <a:pt x="6884" y="7577"/>
                  <a:pt x="6901" y="7567"/>
                  <a:pt x="6921" y="7516"/>
                </a:cubicBezTo>
                <a:cubicBezTo>
                  <a:pt x="7044" y="7641"/>
                  <a:pt x="7041" y="7785"/>
                  <a:pt x="7045" y="7962"/>
                </a:cubicBezTo>
                <a:cubicBezTo>
                  <a:pt x="7046" y="8020"/>
                  <a:pt x="7045" y="8078"/>
                  <a:pt x="7045" y="8136"/>
                </a:cubicBezTo>
              </a:path>
              <a:path w="8980" h="2382">
                <a:moveTo>
                  <a:pt x="6945" y="8310"/>
                </a:moveTo>
                <a:cubicBezTo>
                  <a:pt x="6945" y="8153"/>
                  <a:pt x="6910" y="8322"/>
                  <a:pt x="6921" y="8359"/>
                </a:cubicBezTo>
                <a:cubicBezTo>
                  <a:pt x="6956" y="8476"/>
                  <a:pt x="7039" y="8395"/>
                  <a:pt x="7045" y="8334"/>
                </a:cubicBezTo>
                <a:cubicBezTo>
                  <a:pt x="7054" y="8253"/>
                  <a:pt x="7005" y="8268"/>
                  <a:pt x="6945" y="8260"/>
                </a:cubicBezTo>
                <a:cubicBezTo>
                  <a:pt x="6917" y="8339"/>
                  <a:pt x="6880" y="8501"/>
                  <a:pt x="7020" y="8508"/>
                </a:cubicBezTo>
                <a:cubicBezTo>
                  <a:pt x="7036" y="8500"/>
                  <a:pt x="7053" y="8491"/>
                  <a:pt x="7069" y="8483"/>
                </a:cubicBezTo>
                <a:cubicBezTo>
                  <a:pt x="7101" y="8406"/>
                  <a:pt x="7104" y="8194"/>
                  <a:pt x="6945" y="8310"/>
                </a:cubicBezTo>
                <a:cubicBezTo>
                  <a:pt x="6832" y="8392"/>
                  <a:pt x="6895" y="8602"/>
                  <a:pt x="7045" y="8533"/>
                </a:cubicBezTo>
                <a:cubicBezTo>
                  <a:pt x="7173" y="8474"/>
                  <a:pt x="7061" y="8230"/>
                  <a:pt x="6945" y="8334"/>
                </a:cubicBezTo>
                <a:cubicBezTo>
                  <a:pt x="6937" y="8359"/>
                  <a:pt x="6929" y="8384"/>
                  <a:pt x="6921" y="8409"/>
                </a:cubicBezTo>
                <a:cubicBezTo>
                  <a:pt x="6896" y="8571"/>
                  <a:pt x="6996" y="8574"/>
                  <a:pt x="7045" y="8434"/>
                </a:cubicBezTo>
                <a:cubicBezTo>
                  <a:pt x="7045" y="8382"/>
                  <a:pt x="7043" y="8366"/>
                  <a:pt x="6995" y="8409"/>
                </a:cubicBezTo>
              </a:path>
              <a:path w="8980" h="2382">
                <a:moveTo>
                  <a:pt x="7045" y="8508"/>
                </a:moveTo>
                <a:cubicBezTo>
                  <a:pt x="7068" y="8500"/>
                  <a:pt x="7135" y="8483"/>
                  <a:pt x="7193" y="8458"/>
                </a:cubicBezTo>
                <a:cubicBezTo>
                  <a:pt x="7236" y="8439"/>
                  <a:pt x="7300" y="8392"/>
                  <a:pt x="7317" y="8384"/>
                </a:cubicBezTo>
                <a:cubicBezTo>
                  <a:pt x="7355" y="8365"/>
                  <a:pt x="7425" y="8348"/>
                  <a:pt x="7466" y="8334"/>
                </a:cubicBezTo>
                <a:cubicBezTo>
                  <a:pt x="7500" y="8322"/>
                  <a:pt x="7533" y="8296"/>
                  <a:pt x="7565" y="8285"/>
                </a:cubicBezTo>
                <a:cubicBezTo>
                  <a:pt x="7637" y="8261"/>
                  <a:pt x="7733" y="8227"/>
                  <a:pt x="7813" y="8235"/>
                </a:cubicBezTo>
                <a:cubicBezTo>
                  <a:pt x="7885" y="8242"/>
                  <a:pt x="7893" y="8256"/>
                  <a:pt x="7962" y="8285"/>
                </a:cubicBezTo>
                <a:cubicBezTo>
                  <a:pt x="8003" y="8302"/>
                  <a:pt x="8050" y="8336"/>
                  <a:pt x="8086" y="8359"/>
                </a:cubicBezTo>
                <a:cubicBezTo>
                  <a:pt x="8112" y="8376"/>
                  <a:pt x="8167" y="8392"/>
                  <a:pt x="8186" y="8409"/>
                </a:cubicBezTo>
                <a:cubicBezTo>
                  <a:pt x="8204" y="8425"/>
                  <a:pt x="8248" y="8495"/>
                  <a:pt x="8260" y="8508"/>
                </a:cubicBezTo>
                <a:cubicBezTo>
                  <a:pt x="8284" y="8461"/>
                  <a:pt x="8275" y="8401"/>
                  <a:pt x="8310" y="8359"/>
                </a:cubicBezTo>
                <a:cubicBezTo>
                  <a:pt x="8373" y="8283"/>
                  <a:pt x="8475" y="8250"/>
                  <a:pt x="8558" y="8210"/>
                </a:cubicBezTo>
                <a:cubicBezTo>
                  <a:pt x="8620" y="8181"/>
                  <a:pt x="8707" y="8153"/>
                  <a:pt x="8781" y="8136"/>
                </a:cubicBezTo>
                <a:cubicBezTo>
                  <a:pt x="8905" y="8108"/>
                  <a:pt x="8995" y="8132"/>
                  <a:pt x="9103" y="8136"/>
                </a:cubicBezTo>
                <a:cubicBezTo>
                  <a:pt x="9184" y="8139"/>
                  <a:pt x="9235" y="8136"/>
                  <a:pt x="9302" y="8161"/>
                </a:cubicBezTo>
                <a:cubicBezTo>
                  <a:pt x="9376" y="8189"/>
                  <a:pt x="9352" y="8178"/>
                  <a:pt x="9401" y="8235"/>
                </a:cubicBezTo>
                <a:cubicBezTo>
                  <a:pt x="9434" y="8273"/>
                  <a:pt x="9432" y="8317"/>
                  <a:pt x="9451" y="8359"/>
                </a:cubicBezTo>
                <a:cubicBezTo>
                  <a:pt x="9466" y="8391"/>
                  <a:pt x="9459" y="8394"/>
                  <a:pt x="9475" y="8434"/>
                </a:cubicBezTo>
                <a:cubicBezTo>
                  <a:pt x="9492" y="8478"/>
                  <a:pt x="9484" y="8509"/>
                  <a:pt x="9500" y="8483"/>
                </a:cubicBezTo>
                <a:cubicBezTo>
                  <a:pt x="9524" y="8444"/>
                  <a:pt x="9453" y="8429"/>
                  <a:pt x="9500" y="8359"/>
                </a:cubicBezTo>
                <a:cubicBezTo>
                  <a:pt x="9553" y="8281"/>
                  <a:pt x="9588" y="8253"/>
                  <a:pt x="9674" y="8210"/>
                </a:cubicBezTo>
                <a:cubicBezTo>
                  <a:pt x="9751" y="8172"/>
                  <a:pt x="9863" y="8126"/>
                  <a:pt x="9947" y="8111"/>
                </a:cubicBezTo>
                <a:cubicBezTo>
                  <a:pt x="10057" y="8091"/>
                  <a:pt x="10189" y="8121"/>
                  <a:pt x="10294" y="8136"/>
                </a:cubicBezTo>
                <a:cubicBezTo>
                  <a:pt x="10360" y="8145"/>
                  <a:pt x="10459" y="8157"/>
                  <a:pt x="10517" y="8186"/>
                </a:cubicBezTo>
                <a:cubicBezTo>
                  <a:pt x="10547" y="8201"/>
                  <a:pt x="10553" y="8230"/>
                  <a:pt x="10592" y="8260"/>
                </a:cubicBezTo>
                <a:cubicBezTo>
                  <a:pt x="10640" y="8297"/>
                  <a:pt x="10669" y="8324"/>
                  <a:pt x="10691" y="8359"/>
                </a:cubicBezTo>
                <a:cubicBezTo>
                  <a:pt x="10721" y="8406"/>
                  <a:pt x="10718" y="8458"/>
                  <a:pt x="10740" y="8508"/>
                </a:cubicBezTo>
                <a:cubicBezTo>
                  <a:pt x="10747" y="8487"/>
                  <a:pt x="10756" y="8401"/>
                  <a:pt x="10765" y="8384"/>
                </a:cubicBezTo>
                <a:cubicBezTo>
                  <a:pt x="10795" y="8326"/>
                  <a:pt x="10785" y="8331"/>
                  <a:pt x="10840" y="8285"/>
                </a:cubicBezTo>
                <a:cubicBezTo>
                  <a:pt x="10900" y="8236"/>
                  <a:pt x="10966" y="8186"/>
                  <a:pt x="11038" y="8161"/>
                </a:cubicBezTo>
                <a:cubicBezTo>
                  <a:pt x="11107" y="8137"/>
                  <a:pt x="11186" y="8136"/>
                  <a:pt x="11261" y="8136"/>
                </a:cubicBezTo>
                <a:cubicBezTo>
                  <a:pt x="11350" y="8136"/>
                  <a:pt x="11422" y="8164"/>
                  <a:pt x="11509" y="8186"/>
                </a:cubicBezTo>
                <a:cubicBezTo>
                  <a:pt x="11591" y="8207"/>
                  <a:pt x="11721" y="8232"/>
                  <a:pt x="11782" y="8285"/>
                </a:cubicBezTo>
                <a:cubicBezTo>
                  <a:pt x="11835" y="8332"/>
                  <a:pt x="11807" y="8337"/>
                  <a:pt x="11832" y="8384"/>
                </a:cubicBezTo>
                <a:cubicBezTo>
                  <a:pt x="11844" y="8407"/>
                  <a:pt x="11850" y="8458"/>
                  <a:pt x="11857" y="8483"/>
                </a:cubicBezTo>
                <a:cubicBezTo>
                  <a:pt x="11857" y="8491"/>
                  <a:pt x="11857" y="8500"/>
                  <a:pt x="11857" y="8508"/>
                </a:cubicBezTo>
                <a:cubicBezTo>
                  <a:pt x="11870" y="8485"/>
                  <a:pt x="11888" y="8445"/>
                  <a:pt x="11906" y="8409"/>
                </a:cubicBezTo>
                <a:cubicBezTo>
                  <a:pt x="11966" y="8286"/>
                  <a:pt x="12037" y="8251"/>
                  <a:pt x="12154" y="8186"/>
                </a:cubicBezTo>
                <a:cubicBezTo>
                  <a:pt x="12213" y="8154"/>
                  <a:pt x="12262" y="8123"/>
                  <a:pt x="12328" y="8111"/>
                </a:cubicBezTo>
                <a:cubicBezTo>
                  <a:pt x="12410" y="8096"/>
                  <a:pt x="12478" y="8127"/>
                  <a:pt x="12551" y="8136"/>
                </a:cubicBezTo>
                <a:cubicBezTo>
                  <a:pt x="12600" y="8142"/>
                  <a:pt x="12681" y="8173"/>
                  <a:pt x="12700" y="8186"/>
                </a:cubicBezTo>
                <a:cubicBezTo>
                  <a:pt x="12732" y="8208"/>
                  <a:pt x="12723" y="8246"/>
                  <a:pt x="12750" y="8285"/>
                </a:cubicBezTo>
                <a:cubicBezTo>
                  <a:pt x="12763" y="8304"/>
                  <a:pt x="12809" y="8348"/>
                  <a:pt x="12824" y="8384"/>
                </a:cubicBezTo>
                <a:cubicBezTo>
                  <a:pt x="12853" y="8452"/>
                  <a:pt x="12857" y="8491"/>
                  <a:pt x="12874" y="8558"/>
                </a:cubicBezTo>
                <a:cubicBezTo>
                  <a:pt x="12874" y="8582"/>
                  <a:pt x="12874" y="8591"/>
                  <a:pt x="12874" y="8607"/>
                </a:cubicBezTo>
                <a:cubicBezTo>
                  <a:pt x="12879" y="8487"/>
                  <a:pt x="12847" y="8511"/>
                  <a:pt x="12898" y="8384"/>
                </a:cubicBezTo>
                <a:cubicBezTo>
                  <a:pt x="12924" y="8319"/>
                  <a:pt x="12970" y="8281"/>
                  <a:pt x="13022" y="8235"/>
                </a:cubicBezTo>
                <a:cubicBezTo>
                  <a:pt x="13121" y="8149"/>
                  <a:pt x="13290" y="8057"/>
                  <a:pt x="13419" y="8037"/>
                </a:cubicBezTo>
                <a:cubicBezTo>
                  <a:pt x="13518" y="8022"/>
                  <a:pt x="13633" y="8041"/>
                  <a:pt x="13717" y="8062"/>
                </a:cubicBezTo>
                <a:cubicBezTo>
                  <a:pt x="13763" y="8074"/>
                  <a:pt x="13856" y="8092"/>
                  <a:pt x="13891" y="8136"/>
                </a:cubicBezTo>
                <a:cubicBezTo>
                  <a:pt x="13909" y="8158"/>
                  <a:pt x="13925" y="8188"/>
                  <a:pt x="13940" y="8235"/>
                </a:cubicBezTo>
                <a:cubicBezTo>
                  <a:pt x="13961" y="8298"/>
                  <a:pt x="13956" y="8343"/>
                  <a:pt x="13965" y="8409"/>
                </a:cubicBezTo>
                <a:cubicBezTo>
                  <a:pt x="13965" y="8434"/>
                  <a:pt x="13965" y="8442"/>
                  <a:pt x="13965" y="8458"/>
                </a:cubicBezTo>
                <a:cubicBezTo>
                  <a:pt x="13959" y="8430"/>
                  <a:pt x="13911" y="8369"/>
                  <a:pt x="13915" y="8334"/>
                </a:cubicBezTo>
                <a:cubicBezTo>
                  <a:pt x="13919" y="8298"/>
                  <a:pt x="13950" y="8223"/>
                  <a:pt x="13965" y="8186"/>
                </a:cubicBezTo>
                <a:cubicBezTo>
                  <a:pt x="13996" y="8107"/>
                  <a:pt x="14054" y="8070"/>
                  <a:pt x="14114" y="8012"/>
                </a:cubicBezTo>
                <a:cubicBezTo>
                  <a:pt x="14190" y="7938"/>
                  <a:pt x="14286" y="7895"/>
                  <a:pt x="14387" y="7863"/>
                </a:cubicBezTo>
                <a:cubicBezTo>
                  <a:pt x="14469" y="7837"/>
                  <a:pt x="14549" y="7822"/>
                  <a:pt x="14635" y="7813"/>
                </a:cubicBezTo>
                <a:cubicBezTo>
                  <a:pt x="14710" y="7805"/>
                  <a:pt x="14715" y="7801"/>
                  <a:pt x="14759" y="7813"/>
                </a:cubicBezTo>
                <a:cubicBezTo>
                  <a:pt x="14796" y="7823"/>
                  <a:pt x="14787" y="7846"/>
                  <a:pt x="14833" y="7863"/>
                </a:cubicBezTo>
                <a:cubicBezTo>
                  <a:pt x="15006" y="7928"/>
                  <a:pt x="15138" y="7995"/>
                  <a:pt x="15280" y="8086"/>
                </a:cubicBezTo>
                <a:cubicBezTo>
                  <a:pt x="15377" y="8148"/>
                  <a:pt x="15434" y="8175"/>
                  <a:pt x="15478" y="8285"/>
                </a:cubicBezTo>
                <a:cubicBezTo>
                  <a:pt x="15499" y="8338"/>
                  <a:pt x="15484" y="8408"/>
                  <a:pt x="15503" y="8458"/>
                </a:cubicBezTo>
                <a:cubicBezTo>
                  <a:pt x="15503" y="8483"/>
                  <a:pt x="15503" y="8491"/>
                  <a:pt x="15528" y="8483"/>
                </a:cubicBezTo>
              </a:path>
              <a:path w="8980" h="2382">
                <a:moveTo>
                  <a:pt x="15602" y="8458"/>
                </a:moveTo>
                <a:cubicBezTo>
                  <a:pt x="15546" y="8458"/>
                  <a:pt x="15549" y="8441"/>
                  <a:pt x="15503" y="8409"/>
                </a:cubicBezTo>
                <a:cubicBezTo>
                  <a:pt x="15436" y="8362"/>
                  <a:pt x="15427" y="8322"/>
                  <a:pt x="15379" y="8260"/>
                </a:cubicBezTo>
                <a:cubicBezTo>
                  <a:pt x="15344" y="8215"/>
                  <a:pt x="15311" y="8184"/>
                  <a:pt x="15280" y="8136"/>
                </a:cubicBezTo>
                <a:cubicBezTo>
                  <a:pt x="15251" y="8092"/>
                  <a:pt x="15212" y="8034"/>
                  <a:pt x="15205" y="7987"/>
                </a:cubicBezTo>
                <a:cubicBezTo>
                  <a:pt x="15195" y="7923"/>
                  <a:pt x="15197" y="7851"/>
                  <a:pt x="15180" y="7789"/>
                </a:cubicBezTo>
                <a:cubicBezTo>
                  <a:pt x="15162" y="7724"/>
                  <a:pt x="15163" y="7637"/>
                  <a:pt x="15180" y="7565"/>
                </a:cubicBezTo>
                <a:cubicBezTo>
                  <a:pt x="15191" y="7520"/>
                  <a:pt x="15208" y="7453"/>
                  <a:pt x="15230" y="7417"/>
                </a:cubicBezTo>
                <a:cubicBezTo>
                  <a:pt x="15246" y="7391"/>
                  <a:pt x="15304" y="7353"/>
                  <a:pt x="15354" y="7342"/>
                </a:cubicBezTo>
                <a:cubicBezTo>
                  <a:pt x="15403" y="7331"/>
                  <a:pt x="15429" y="7323"/>
                  <a:pt x="15478" y="7317"/>
                </a:cubicBezTo>
                <a:cubicBezTo>
                  <a:pt x="15448" y="7326"/>
                  <a:pt x="15447" y="7339"/>
                  <a:pt x="15404" y="7317"/>
                </a:cubicBezTo>
                <a:cubicBezTo>
                  <a:pt x="15370" y="7299"/>
                  <a:pt x="15333" y="7300"/>
                  <a:pt x="15304" y="7268"/>
                </a:cubicBezTo>
                <a:cubicBezTo>
                  <a:pt x="15271" y="7232"/>
                  <a:pt x="15209" y="7160"/>
                  <a:pt x="15180" y="7119"/>
                </a:cubicBezTo>
                <a:cubicBezTo>
                  <a:pt x="15159" y="7089"/>
                  <a:pt x="15146" y="7030"/>
                  <a:pt x="15131" y="6995"/>
                </a:cubicBezTo>
                <a:cubicBezTo>
                  <a:pt x="15104" y="6932"/>
                  <a:pt x="15084" y="6864"/>
                  <a:pt x="15081" y="6796"/>
                </a:cubicBezTo>
                <a:cubicBezTo>
                  <a:pt x="15078" y="6730"/>
                  <a:pt x="15079" y="6683"/>
                  <a:pt x="15106" y="6623"/>
                </a:cubicBezTo>
                <a:cubicBezTo>
                  <a:pt x="15126" y="6577"/>
                  <a:pt x="15135" y="6515"/>
                  <a:pt x="15156" y="6474"/>
                </a:cubicBezTo>
                <a:cubicBezTo>
                  <a:pt x="15198" y="6392"/>
                  <a:pt x="15247" y="6321"/>
                  <a:pt x="15329" y="6276"/>
                </a:cubicBezTo>
                <a:cubicBezTo>
                  <a:pt x="15378" y="6249"/>
                  <a:pt x="15421" y="6236"/>
                  <a:pt x="15453" y="6226"/>
                </a:cubicBezTo>
                <a:cubicBezTo>
                  <a:pt x="15461" y="6226"/>
                  <a:pt x="15470" y="6226"/>
                  <a:pt x="15478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65960" y="2795760"/>
            <a:ext cx="874800" cy="419040"/>
          </a:xfrm>
          <a:custGeom>
            <a:avLst/>
            <a:gdLst/>
            <a:ahLst/>
            <a:rect l="l" t="t" r="r" b="b"/>
            <a:pathLst>
              <a:path w="2431" h="1167">
                <a:moveTo>
                  <a:pt x="17983" y="8384"/>
                </a:moveTo>
                <a:cubicBezTo>
                  <a:pt x="18017" y="8461"/>
                  <a:pt x="18063" y="8518"/>
                  <a:pt x="18033" y="8533"/>
                </a:cubicBezTo>
                <a:cubicBezTo>
                  <a:pt x="17962" y="8360"/>
                  <a:pt x="17916" y="8249"/>
                  <a:pt x="18107" y="8136"/>
                </a:cubicBezTo>
                <a:cubicBezTo>
                  <a:pt x="18248" y="8053"/>
                  <a:pt x="18282" y="8065"/>
                  <a:pt x="18355" y="8161"/>
                </a:cubicBezTo>
              </a:path>
              <a:path w="2431" h="1167">
                <a:moveTo>
                  <a:pt x="18604" y="8334"/>
                </a:moveTo>
                <a:cubicBezTo>
                  <a:pt x="18641" y="8398"/>
                  <a:pt x="18683" y="8503"/>
                  <a:pt x="18703" y="8483"/>
                </a:cubicBezTo>
              </a:path>
              <a:path w="2431" h="1167">
                <a:moveTo>
                  <a:pt x="18504" y="7962"/>
                </a:moveTo>
                <a:cubicBezTo>
                  <a:pt x="18504" y="7938"/>
                  <a:pt x="18504" y="7929"/>
                  <a:pt x="18504" y="7913"/>
                </a:cubicBezTo>
              </a:path>
              <a:path w="2431" h="1167">
                <a:moveTo>
                  <a:pt x="19397" y="8260"/>
                </a:moveTo>
                <a:cubicBezTo>
                  <a:pt x="19326" y="8215"/>
                  <a:pt x="19207" y="8086"/>
                  <a:pt x="19124" y="8210"/>
                </a:cubicBezTo>
                <a:cubicBezTo>
                  <a:pt x="19039" y="8338"/>
                  <a:pt x="19128" y="8430"/>
                  <a:pt x="19199" y="8508"/>
                </a:cubicBezTo>
                <a:cubicBezTo>
                  <a:pt x="19289" y="8408"/>
                  <a:pt x="19293" y="8398"/>
                  <a:pt x="19273" y="8260"/>
                </a:cubicBezTo>
                <a:cubicBezTo>
                  <a:pt x="19390" y="8397"/>
                  <a:pt x="19527" y="8509"/>
                  <a:pt x="19521" y="8706"/>
                </a:cubicBezTo>
                <a:cubicBezTo>
                  <a:pt x="19508" y="9103"/>
                  <a:pt x="19204" y="8872"/>
                  <a:pt x="19124" y="8706"/>
                </a:cubicBezTo>
              </a:path>
              <a:path w="2431" h="1167">
                <a:moveTo>
                  <a:pt x="19397" y="7962"/>
                </a:moveTo>
                <a:cubicBezTo>
                  <a:pt x="19462" y="8097"/>
                  <a:pt x="19533" y="8225"/>
                  <a:pt x="19596" y="8359"/>
                </a:cubicBezTo>
                <a:cubicBezTo>
                  <a:pt x="19524" y="8258"/>
                  <a:pt x="19481" y="8137"/>
                  <a:pt x="19596" y="8037"/>
                </a:cubicBezTo>
                <a:cubicBezTo>
                  <a:pt x="19759" y="7896"/>
                  <a:pt x="19846" y="8224"/>
                  <a:pt x="19869" y="8310"/>
                </a:cubicBezTo>
                <a:cubicBezTo>
                  <a:pt x="19887" y="8384"/>
                  <a:pt x="19869" y="8417"/>
                  <a:pt x="19918" y="8409"/>
                </a:cubicBezTo>
              </a:path>
              <a:path w="2431" h="1167">
                <a:moveTo>
                  <a:pt x="20017" y="7764"/>
                </a:moveTo>
                <a:cubicBezTo>
                  <a:pt x="20017" y="7892"/>
                  <a:pt x="20039" y="8018"/>
                  <a:pt x="20092" y="8136"/>
                </a:cubicBezTo>
                <a:cubicBezTo>
                  <a:pt x="20099" y="8151"/>
                  <a:pt x="20266" y="8416"/>
                  <a:pt x="20340" y="8334"/>
                </a:cubicBezTo>
                <a:cubicBezTo>
                  <a:pt x="20340" y="8283"/>
                  <a:pt x="20342" y="8266"/>
                  <a:pt x="20389" y="8260"/>
                </a:cubicBezTo>
              </a:path>
              <a:path w="2431" h="1167">
                <a:moveTo>
                  <a:pt x="19645" y="8086"/>
                </a:moveTo>
                <a:cubicBezTo>
                  <a:pt x="19839" y="8043"/>
                  <a:pt x="20024" y="7958"/>
                  <a:pt x="20216" y="7938"/>
                </a:cubicBezTo>
                <a:cubicBezTo>
                  <a:pt x="20232" y="7938"/>
                  <a:pt x="20249" y="7938"/>
                  <a:pt x="20265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4960" y="2616120"/>
            <a:ext cx="1143000" cy="5000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20985" y="7640"/>
                </a:moveTo>
                <a:cubicBezTo>
                  <a:pt x="21117" y="7627"/>
                  <a:pt x="21256" y="7583"/>
                  <a:pt x="21382" y="7541"/>
                </a:cubicBezTo>
                <a:cubicBezTo>
                  <a:pt x="21398" y="7533"/>
                  <a:pt x="21415" y="7524"/>
                  <a:pt x="21431" y="7516"/>
                </a:cubicBezTo>
                <a:cubicBezTo>
                  <a:pt x="21502" y="7718"/>
                  <a:pt x="21506" y="7896"/>
                  <a:pt x="21506" y="8111"/>
                </a:cubicBezTo>
                <a:cubicBezTo>
                  <a:pt x="21506" y="8136"/>
                  <a:pt x="21506" y="8144"/>
                  <a:pt x="21506" y="8161"/>
                </a:cubicBezTo>
              </a:path>
              <a:path w="3176" h="1390">
                <a:moveTo>
                  <a:pt x="22374" y="7863"/>
                </a:moveTo>
                <a:cubicBezTo>
                  <a:pt x="22381" y="7970"/>
                  <a:pt x="22383" y="8084"/>
                  <a:pt x="22423" y="8186"/>
                </a:cubicBezTo>
                <a:cubicBezTo>
                  <a:pt x="22487" y="8351"/>
                  <a:pt x="22665" y="8004"/>
                  <a:pt x="22671" y="7987"/>
                </a:cubicBezTo>
                <a:cubicBezTo>
                  <a:pt x="22679" y="7954"/>
                  <a:pt x="22688" y="7921"/>
                  <a:pt x="22696" y="7888"/>
                </a:cubicBezTo>
                <a:cubicBezTo>
                  <a:pt x="22696" y="7860"/>
                  <a:pt x="22694" y="7854"/>
                  <a:pt x="22671" y="7888"/>
                </a:cubicBezTo>
                <a:cubicBezTo>
                  <a:pt x="22675" y="7949"/>
                  <a:pt x="22672" y="8210"/>
                  <a:pt x="22796" y="8161"/>
                </a:cubicBezTo>
                <a:cubicBezTo>
                  <a:pt x="22897" y="8121"/>
                  <a:pt x="22895" y="7998"/>
                  <a:pt x="22895" y="7913"/>
                </a:cubicBezTo>
                <a:cubicBezTo>
                  <a:pt x="22895" y="7905"/>
                  <a:pt x="22895" y="7896"/>
                  <a:pt x="22895" y="7888"/>
                </a:cubicBezTo>
                <a:cubicBezTo>
                  <a:pt x="22947" y="8060"/>
                  <a:pt x="23008" y="8230"/>
                  <a:pt x="23044" y="8409"/>
                </a:cubicBezTo>
                <a:cubicBezTo>
                  <a:pt x="23063" y="8549"/>
                  <a:pt x="23071" y="8574"/>
                  <a:pt x="23068" y="8657"/>
                </a:cubicBezTo>
                <a:cubicBezTo>
                  <a:pt x="23009" y="8497"/>
                  <a:pt x="22928" y="8340"/>
                  <a:pt x="22920" y="8161"/>
                </a:cubicBezTo>
                <a:cubicBezTo>
                  <a:pt x="22917" y="8095"/>
                  <a:pt x="23104" y="7456"/>
                  <a:pt x="23217" y="7789"/>
                </a:cubicBezTo>
                <a:cubicBezTo>
                  <a:pt x="23274" y="7957"/>
                  <a:pt x="23165" y="8039"/>
                  <a:pt x="23068" y="8136"/>
                </a:cubicBezTo>
                <a:cubicBezTo>
                  <a:pt x="22883" y="8123"/>
                  <a:pt x="22923" y="8154"/>
                  <a:pt x="22994" y="7962"/>
                </a:cubicBezTo>
              </a:path>
              <a:path w="3176" h="1390">
                <a:moveTo>
                  <a:pt x="23639" y="7441"/>
                </a:moveTo>
                <a:cubicBezTo>
                  <a:pt x="23684" y="7367"/>
                  <a:pt x="23820" y="7296"/>
                  <a:pt x="23912" y="7268"/>
                </a:cubicBezTo>
                <a:cubicBezTo>
                  <a:pt x="23928" y="7268"/>
                  <a:pt x="23945" y="7268"/>
                  <a:pt x="23961" y="7268"/>
                </a:cubicBezTo>
                <a:cubicBezTo>
                  <a:pt x="23961" y="7502"/>
                  <a:pt x="23898" y="7666"/>
                  <a:pt x="23837" y="7888"/>
                </a:cubicBezTo>
                <a:cubicBezTo>
                  <a:pt x="23831" y="7909"/>
                  <a:pt x="23819" y="8077"/>
                  <a:pt x="23788" y="8012"/>
                </a:cubicBezTo>
                <a:cubicBezTo>
                  <a:pt x="23816" y="7939"/>
                  <a:pt x="23841" y="7877"/>
                  <a:pt x="23887" y="7813"/>
                </a:cubicBezTo>
                <a:cubicBezTo>
                  <a:pt x="23990" y="7887"/>
                  <a:pt x="24027" y="7890"/>
                  <a:pt x="24135" y="7863"/>
                </a:cubicBezTo>
                <a:cubicBezTo>
                  <a:pt x="24192" y="7849"/>
                  <a:pt x="24147" y="7838"/>
                  <a:pt x="24110" y="7813"/>
                </a:cubicBezTo>
              </a:path>
              <a:path w="3176" h="1390">
                <a:moveTo>
                  <a:pt x="21853" y="8260"/>
                </a:moveTo>
                <a:cubicBezTo>
                  <a:pt x="21871" y="8351"/>
                  <a:pt x="21879" y="8414"/>
                  <a:pt x="21853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38960" y="493884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7884" y="13717"/>
                </a:moveTo>
                <a:lnTo>
                  <a:pt x="17884" y="13717"/>
                </a:lnTo>
              </a:path>
              <a:path w="26" h="1">
                <a:moveTo>
                  <a:pt x="17909" y="13717"/>
                </a:moveTo>
                <a:lnTo>
                  <a:pt x="17909" y="137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31920" y="4205160"/>
            <a:ext cx="5214960" cy="938520"/>
          </a:xfrm>
          <a:custGeom>
            <a:avLst/>
            <a:gdLst/>
            <a:ahLst/>
            <a:rect l="l" t="t" r="r" b="b"/>
            <a:pathLst>
              <a:path w="14487" h="2606">
                <a:moveTo>
                  <a:pt x="10120" y="13791"/>
                </a:moveTo>
                <a:cubicBezTo>
                  <a:pt x="10127" y="13931"/>
                  <a:pt x="10167" y="14088"/>
                  <a:pt x="10120" y="14213"/>
                </a:cubicBezTo>
                <a:cubicBezTo>
                  <a:pt x="10120" y="14083"/>
                  <a:pt x="10105" y="13942"/>
                  <a:pt x="10145" y="13816"/>
                </a:cubicBezTo>
                <a:cubicBezTo>
                  <a:pt x="10166" y="13749"/>
                  <a:pt x="10397" y="13440"/>
                  <a:pt x="10468" y="13643"/>
                </a:cubicBezTo>
                <a:cubicBezTo>
                  <a:pt x="10505" y="13748"/>
                  <a:pt x="10399" y="13817"/>
                  <a:pt x="10344" y="13891"/>
                </a:cubicBezTo>
                <a:cubicBezTo>
                  <a:pt x="10194" y="13939"/>
                  <a:pt x="10433" y="13839"/>
                  <a:pt x="10492" y="13866"/>
                </a:cubicBezTo>
                <a:cubicBezTo>
                  <a:pt x="10691" y="13955"/>
                  <a:pt x="10498" y="14178"/>
                  <a:pt x="10368" y="14213"/>
                </a:cubicBezTo>
                <a:cubicBezTo>
                  <a:pt x="10245" y="14246"/>
                  <a:pt x="10267" y="14206"/>
                  <a:pt x="10195" y="14188"/>
                </a:cubicBezTo>
              </a:path>
              <a:path w="14487" h="2606">
                <a:moveTo>
                  <a:pt x="3696" y="13767"/>
                </a:moveTo>
                <a:cubicBezTo>
                  <a:pt x="3667" y="13708"/>
                  <a:pt x="3628" y="13680"/>
                  <a:pt x="3572" y="13643"/>
                </a:cubicBezTo>
                <a:cubicBezTo>
                  <a:pt x="3449" y="13765"/>
                  <a:pt x="3307" y="14041"/>
                  <a:pt x="3473" y="14213"/>
                </a:cubicBezTo>
                <a:cubicBezTo>
                  <a:pt x="3564" y="14307"/>
                  <a:pt x="3759" y="14197"/>
                  <a:pt x="3845" y="14163"/>
                </a:cubicBezTo>
              </a:path>
              <a:path w="14487" h="2606">
                <a:moveTo>
                  <a:pt x="9897" y="13891"/>
                </a:moveTo>
                <a:cubicBezTo>
                  <a:pt x="9897" y="13815"/>
                  <a:pt x="9908" y="13759"/>
                  <a:pt x="9798" y="13767"/>
                </a:cubicBezTo>
                <a:cubicBezTo>
                  <a:pt x="9706" y="13774"/>
                  <a:pt x="9708" y="13799"/>
                  <a:pt x="9699" y="13866"/>
                </a:cubicBezTo>
                <a:cubicBezTo>
                  <a:pt x="9745" y="13935"/>
                  <a:pt x="9854" y="13931"/>
                  <a:pt x="9872" y="13816"/>
                </a:cubicBezTo>
                <a:cubicBezTo>
                  <a:pt x="9883" y="13748"/>
                  <a:pt x="9736" y="13626"/>
                  <a:pt x="9699" y="13717"/>
                </a:cubicBezTo>
                <a:cubicBezTo>
                  <a:pt x="9699" y="13808"/>
                  <a:pt x="9699" y="13833"/>
                  <a:pt x="9699" y="13891"/>
                </a:cubicBezTo>
                <a:cubicBezTo>
                  <a:pt x="9766" y="13873"/>
                  <a:pt x="9944" y="13760"/>
                  <a:pt x="9798" y="13692"/>
                </a:cubicBezTo>
                <a:cubicBezTo>
                  <a:pt x="9702" y="13647"/>
                  <a:pt x="9664" y="13820"/>
                  <a:pt x="9748" y="13866"/>
                </a:cubicBezTo>
                <a:cubicBezTo>
                  <a:pt x="9756" y="13866"/>
                  <a:pt x="9765" y="13866"/>
                  <a:pt x="9773" y="13866"/>
                </a:cubicBezTo>
              </a:path>
              <a:path w="14487" h="2606">
                <a:moveTo>
                  <a:pt x="9823" y="13816"/>
                </a:moveTo>
                <a:cubicBezTo>
                  <a:pt x="9823" y="13808"/>
                  <a:pt x="9823" y="13799"/>
                  <a:pt x="9823" y="13791"/>
                </a:cubicBezTo>
                <a:cubicBezTo>
                  <a:pt x="9848" y="13836"/>
                  <a:pt x="9809" y="13856"/>
                  <a:pt x="9847" y="13891"/>
                </a:cubicBezTo>
                <a:cubicBezTo>
                  <a:pt x="9924" y="13961"/>
                  <a:pt x="10027" y="14017"/>
                  <a:pt x="10120" y="14064"/>
                </a:cubicBezTo>
                <a:cubicBezTo>
                  <a:pt x="10173" y="14090"/>
                  <a:pt x="10237" y="14123"/>
                  <a:pt x="10294" y="14139"/>
                </a:cubicBezTo>
                <a:cubicBezTo>
                  <a:pt x="10356" y="14156"/>
                  <a:pt x="10450" y="14170"/>
                  <a:pt x="10517" y="14163"/>
                </a:cubicBezTo>
                <a:cubicBezTo>
                  <a:pt x="10594" y="14155"/>
                  <a:pt x="10627" y="14125"/>
                  <a:pt x="10691" y="14089"/>
                </a:cubicBezTo>
                <a:cubicBezTo>
                  <a:pt x="10759" y="14051"/>
                  <a:pt x="10794" y="14008"/>
                  <a:pt x="10840" y="13965"/>
                </a:cubicBezTo>
                <a:cubicBezTo>
                  <a:pt x="10889" y="13919"/>
                  <a:pt x="10883" y="13924"/>
                  <a:pt x="10914" y="13891"/>
                </a:cubicBezTo>
                <a:cubicBezTo>
                  <a:pt x="10962" y="13961"/>
                  <a:pt x="10980" y="14008"/>
                  <a:pt x="11038" y="14064"/>
                </a:cubicBezTo>
                <a:cubicBezTo>
                  <a:pt x="11097" y="14122"/>
                  <a:pt x="11129" y="14147"/>
                  <a:pt x="11212" y="14163"/>
                </a:cubicBezTo>
                <a:cubicBezTo>
                  <a:pt x="11344" y="14188"/>
                  <a:pt x="11489" y="14153"/>
                  <a:pt x="11609" y="14114"/>
                </a:cubicBezTo>
                <a:cubicBezTo>
                  <a:pt x="11630" y="14107"/>
                  <a:pt x="11700" y="14085"/>
                  <a:pt x="11733" y="14064"/>
                </a:cubicBezTo>
                <a:cubicBezTo>
                  <a:pt x="11795" y="14024"/>
                  <a:pt x="11853" y="13968"/>
                  <a:pt x="11906" y="13915"/>
                </a:cubicBezTo>
                <a:cubicBezTo>
                  <a:pt x="11947" y="13874"/>
                  <a:pt x="11977" y="13809"/>
                  <a:pt x="12005" y="13767"/>
                </a:cubicBezTo>
                <a:cubicBezTo>
                  <a:pt x="12013" y="13794"/>
                  <a:pt x="12017" y="13840"/>
                  <a:pt x="12030" y="13866"/>
                </a:cubicBezTo>
                <a:cubicBezTo>
                  <a:pt x="12048" y="13903"/>
                  <a:pt x="12085" y="14004"/>
                  <a:pt x="12129" y="14039"/>
                </a:cubicBezTo>
                <a:cubicBezTo>
                  <a:pt x="12174" y="14075"/>
                  <a:pt x="12350" y="14149"/>
                  <a:pt x="12402" y="14163"/>
                </a:cubicBezTo>
                <a:cubicBezTo>
                  <a:pt x="12499" y="14190"/>
                  <a:pt x="12603" y="14183"/>
                  <a:pt x="12700" y="14163"/>
                </a:cubicBezTo>
                <a:cubicBezTo>
                  <a:pt x="12805" y="14141"/>
                  <a:pt x="12830" y="14085"/>
                  <a:pt x="12923" y="14039"/>
                </a:cubicBezTo>
                <a:cubicBezTo>
                  <a:pt x="12978" y="14012"/>
                  <a:pt x="13027" y="14010"/>
                  <a:pt x="13072" y="13965"/>
                </a:cubicBezTo>
                <a:cubicBezTo>
                  <a:pt x="13108" y="13929"/>
                  <a:pt x="13141" y="13859"/>
                  <a:pt x="13171" y="13816"/>
                </a:cubicBezTo>
                <a:cubicBezTo>
                  <a:pt x="13171" y="13808"/>
                  <a:pt x="13171" y="13799"/>
                  <a:pt x="13171" y="13791"/>
                </a:cubicBezTo>
                <a:cubicBezTo>
                  <a:pt x="13193" y="13886"/>
                  <a:pt x="13164" y="13970"/>
                  <a:pt x="13221" y="14064"/>
                </a:cubicBezTo>
                <a:cubicBezTo>
                  <a:pt x="13268" y="14141"/>
                  <a:pt x="13325" y="14135"/>
                  <a:pt x="13395" y="14163"/>
                </a:cubicBezTo>
                <a:cubicBezTo>
                  <a:pt x="13459" y="14188"/>
                  <a:pt x="13540" y="14198"/>
                  <a:pt x="13618" y="14188"/>
                </a:cubicBezTo>
                <a:cubicBezTo>
                  <a:pt x="13694" y="14179"/>
                  <a:pt x="13769" y="14157"/>
                  <a:pt x="13841" y="14139"/>
                </a:cubicBezTo>
                <a:cubicBezTo>
                  <a:pt x="13907" y="14122"/>
                  <a:pt x="14002" y="14115"/>
                  <a:pt x="14064" y="14089"/>
                </a:cubicBezTo>
                <a:cubicBezTo>
                  <a:pt x="14096" y="14075"/>
                  <a:pt x="14185" y="14017"/>
                  <a:pt x="14213" y="13990"/>
                </a:cubicBezTo>
                <a:cubicBezTo>
                  <a:pt x="14278" y="13927"/>
                  <a:pt x="14294" y="13846"/>
                  <a:pt x="14337" y="13767"/>
                </a:cubicBezTo>
                <a:cubicBezTo>
                  <a:pt x="14345" y="13752"/>
                  <a:pt x="14362" y="13718"/>
                  <a:pt x="14362" y="13717"/>
                </a:cubicBezTo>
                <a:cubicBezTo>
                  <a:pt x="14384" y="13792"/>
                  <a:pt x="14376" y="13872"/>
                  <a:pt x="14412" y="13940"/>
                </a:cubicBezTo>
                <a:cubicBezTo>
                  <a:pt x="14436" y="13986"/>
                  <a:pt x="14512" y="14067"/>
                  <a:pt x="14536" y="14089"/>
                </a:cubicBezTo>
                <a:cubicBezTo>
                  <a:pt x="14582" y="14130"/>
                  <a:pt x="14617" y="14180"/>
                  <a:pt x="14684" y="14188"/>
                </a:cubicBezTo>
                <a:cubicBezTo>
                  <a:pt x="14753" y="14197"/>
                  <a:pt x="14818" y="14176"/>
                  <a:pt x="14883" y="14163"/>
                </a:cubicBezTo>
                <a:cubicBezTo>
                  <a:pt x="14950" y="14149"/>
                  <a:pt x="15046" y="14138"/>
                  <a:pt x="15106" y="14114"/>
                </a:cubicBezTo>
                <a:cubicBezTo>
                  <a:pt x="15168" y="14089"/>
                  <a:pt x="15215" y="14050"/>
                  <a:pt x="15280" y="14015"/>
                </a:cubicBezTo>
                <a:cubicBezTo>
                  <a:pt x="15337" y="13984"/>
                  <a:pt x="15409" y="13936"/>
                  <a:pt x="15453" y="13891"/>
                </a:cubicBezTo>
                <a:cubicBezTo>
                  <a:pt x="15500" y="13843"/>
                  <a:pt x="15506" y="13770"/>
                  <a:pt x="15528" y="13717"/>
                </a:cubicBezTo>
                <a:cubicBezTo>
                  <a:pt x="15528" y="13709"/>
                  <a:pt x="15528" y="13700"/>
                  <a:pt x="15528" y="13692"/>
                </a:cubicBezTo>
                <a:cubicBezTo>
                  <a:pt x="15522" y="13728"/>
                  <a:pt x="15506" y="13705"/>
                  <a:pt x="15503" y="13742"/>
                </a:cubicBezTo>
                <a:cubicBezTo>
                  <a:pt x="15490" y="13896"/>
                  <a:pt x="15510" y="14003"/>
                  <a:pt x="15627" y="14114"/>
                </a:cubicBezTo>
                <a:cubicBezTo>
                  <a:pt x="15709" y="14191"/>
                  <a:pt x="15775" y="14191"/>
                  <a:pt x="15875" y="14213"/>
                </a:cubicBezTo>
                <a:cubicBezTo>
                  <a:pt x="16003" y="14241"/>
                  <a:pt x="16097" y="14243"/>
                  <a:pt x="16222" y="14213"/>
                </a:cubicBezTo>
                <a:cubicBezTo>
                  <a:pt x="16308" y="14192"/>
                  <a:pt x="16384" y="14151"/>
                  <a:pt x="16446" y="14089"/>
                </a:cubicBezTo>
                <a:cubicBezTo>
                  <a:pt x="16490" y="14045"/>
                  <a:pt x="16511" y="13967"/>
                  <a:pt x="16545" y="13915"/>
                </a:cubicBezTo>
                <a:cubicBezTo>
                  <a:pt x="16585" y="13853"/>
                  <a:pt x="16594" y="13829"/>
                  <a:pt x="16619" y="13767"/>
                </a:cubicBezTo>
                <a:cubicBezTo>
                  <a:pt x="16626" y="13750"/>
                  <a:pt x="16640" y="13706"/>
                  <a:pt x="16644" y="13692"/>
                </a:cubicBezTo>
                <a:cubicBezTo>
                  <a:pt x="16670" y="13746"/>
                  <a:pt x="16650" y="13783"/>
                  <a:pt x="16694" y="13841"/>
                </a:cubicBezTo>
                <a:cubicBezTo>
                  <a:pt x="16770" y="13941"/>
                  <a:pt x="16861" y="13994"/>
                  <a:pt x="16966" y="14064"/>
                </a:cubicBezTo>
                <a:cubicBezTo>
                  <a:pt x="17116" y="14164"/>
                  <a:pt x="17259" y="14150"/>
                  <a:pt x="17438" y="14114"/>
                </a:cubicBezTo>
                <a:cubicBezTo>
                  <a:pt x="17505" y="14101"/>
                  <a:pt x="17633" y="14077"/>
                  <a:pt x="17686" y="14039"/>
                </a:cubicBezTo>
                <a:cubicBezTo>
                  <a:pt x="17779" y="13973"/>
                  <a:pt x="17810" y="13869"/>
                  <a:pt x="17859" y="13791"/>
                </a:cubicBezTo>
                <a:cubicBezTo>
                  <a:pt x="17889" y="13743"/>
                  <a:pt x="17869" y="13772"/>
                  <a:pt x="17884" y="13717"/>
                </a:cubicBezTo>
              </a:path>
              <a:path w="14487" h="2606">
                <a:moveTo>
                  <a:pt x="4242" y="13891"/>
                </a:moveTo>
                <a:cubicBezTo>
                  <a:pt x="4288" y="13922"/>
                  <a:pt x="4266" y="13888"/>
                  <a:pt x="4266" y="13841"/>
                </a:cubicBezTo>
                <a:cubicBezTo>
                  <a:pt x="4266" y="13782"/>
                  <a:pt x="4220" y="13769"/>
                  <a:pt x="4192" y="13717"/>
                </a:cubicBezTo>
                <a:cubicBezTo>
                  <a:pt x="4087" y="13518"/>
                  <a:pt x="4073" y="13790"/>
                  <a:pt x="4068" y="13866"/>
                </a:cubicBezTo>
                <a:cubicBezTo>
                  <a:pt x="4191" y="13940"/>
                  <a:pt x="4227" y="13772"/>
                  <a:pt x="4217" y="13667"/>
                </a:cubicBezTo>
                <a:cubicBezTo>
                  <a:pt x="4210" y="13590"/>
                  <a:pt x="4086" y="13774"/>
                  <a:pt x="4093" y="13841"/>
                </a:cubicBezTo>
              </a:path>
              <a:path w="14487" h="2606">
                <a:moveTo>
                  <a:pt x="4192" y="13816"/>
                </a:moveTo>
                <a:cubicBezTo>
                  <a:pt x="4209" y="13840"/>
                  <a:pt x="4198" y="13863"/>
                  <a:pt x="4217" y="13891"/>
                </a:cubicBezTo>
                <a:cubicBezTo>
                  <a:pt x="4226" y="13904"/>
                  <a:pt x="4262" y="13961"/>
                  <a:pt x="4266" y="13965"/>
                </a:cubicBezTo>
                <a:cubicBezTo>
                  <a:pt x="4311" y="14007"/>
                  <a:pt x="4343" y="14025"/>
                  <a:pt x="4390" y="14064"/>
                </a:cubicBezTo>
                <a:cubicBezTo>
                  <a:pt x="4441" y="14107"/>
                  <a:pt x="4458" y="14108"/>
                  <a:pt x="4514" y="14139"/>
                </a:cubicBezTo>
                <a:cubicBezTo>
                  <a:pt x="4564" y="14167"/>
                  <a:pt x="4577" y="14198"/>
                  <a:pt x="4638" y="14213"/>
                </a:cubicBezTo>
                <a:cubicBezTo>
                  <a:pt x="4826" y="14260"/>
                  <a:pt x="5071" y="14186"/>
                  <a:pt x="5209" y="14064"/>
                </a:cubicBezTo>
                <a:cubicBezTo>
                  <a:pt x="5254" y="14024"/>
                  <a:pt x="5293" y="13962"/>
                  <a:pt x="5333" y="13915"/>
                </a:cubicBezTo>
                <a:cubicBezTo>
                  <a:pt x="5353" y="13892"/>
                  <a:pt x="5353" y="13875"/>
                  <a:pt x="5383" y="13841"/>
                </a:cubicBezTo>
                <a:cubicBezTo>
                  <a:pt x="5412" y="13890"/>
                  <a:pt x="5412" y="13934"/>
                  <a:pt x="5457" y="13990"/>
                </a:cubicBezTo>
                <a:cubicBezTo>
                  <a:pt x="5520" y="14069"/>
                  <a:pt x="5524" y="14094"/>
                  <a:pt x="5606" y="14163"/>
                </a:cubicBezTo>
                <a:cubicBezTo>
                  <a:pt x="5682" y="14226"/>
                  <a:pt x="5728" y="14263"/>
                  <a:pt x="5829" y="14288"/>
                </a:cubicBezTo>
                <a:cubicBezTo>
                  <a:pt x="5980" y="14325"/>
                  <a:pt x="6136" y="14268"/>
                  <a:pt x="6276" y="14238"/>
                </a:cubicBezTo>
                <a:cubicBezTo>
                  <a:pt x="6391" y="14214"/>
                  <a:pt x="6509" y="14192"/>
                  <a:pt x="6623" y="14163"/>
                </a:cubicBezTo>
                <a:cubicBezTo>
                  <a:pt x="6725" y="14137"/>
                  <a:pt x="6750" y="14113"/>
                  <a:pt x="6821" y="14064"/>
                </a:cubicBezTo>
                <a:cubicBezTo>
                  <a:pt x="6873" y="14028"/>
                  <a:pt x="6931" y="13958"/>
                  <a:pt x="6970" y="13915"/>
                </a:cubicBezTo>
                <a:cubicBezTo>
                  <a:pt x="6998" y="13884"/>
                  <a:pt x="7029" y="13834"/>
                  <a:pt x="7045" y="13816"/>
                </a:cubicBezTo>
                <a:cubicBezTo>
                  <a:pt x="7072" y="13890"/>
                  <a:pt x="7064" y="13964"/>
                  <a:pt x="7119" y="14039"/>
                </a:cubicBezTo>
                <a:cubicBezTo>
                  <a:pt x="7181" y="14124"/>
                  <a:pt x="7186" y="14141"/>
                  <a:pt x="7268" y="14188"/>
                </a:cubicBezTo>
                <a:cubicBezTo>
                  <a:pt x="7351" y="14236"/>
                  <a:pt x="7368" y="14229"/>
                  <a:pt x="7466" y="14238"/>
                </a:cubicBezTo>
                <a:cubicBezTo>
                  <a:pt x="7551" y="14246"/>
                  <a:pt x="7594" y="14234"/>
                  <a:pt x="7689" y="14213"/>
                </a:cubicBezTo>
                <a:cubicBezTo>
                  <a:pt x="7769" y="14195"/>
                  <a:pt x="7856" y="14182"/>
                  <a:pt x="7938" y="14163"/>
                </a:cubicBezTo>
                <a:cubicBezTo>
                  <a:pt x="7982" y="14153"/>
                  <a:pt x="8044" y="14156"/>
                  <a:pt x="8086" y="14139"/>
                </a:cubicBezTo>
                <a:cubicBezTo>
                  <a:pt x="8141" y="14116"/>
                  <a:pt x="8172" y="14062"/>
                  <a:pt x="8210" y="14039"/>
                </a:cubicBezTo>
                <a:cubicBezTo>
                  <a:pt x="8291" y="13990"/>
                  <a:pt x="8316" y="13952"/>
                  <a:pt x="8384" y="13891"/>
                </a:cubicBezTo>
                <a:cubicBezTo>
                  <a:pt x="8409" y="13869"/>
                  <a:pt x="8461" y="13814"/>
                  <a:pt x="8483" y="13791"/>
                </a:cubicBezTo>
                <a:cubicBezTo>
                  <a:pt x="8515" y="13883"/>
                  <a:pt x="8502" y="13998"/>
                  <a:pt x="8558" y="14089"/>
                </a:cubicBezTo>
                <a:cubicBezTo>
                  <a:pt x="8602" y="14160"/>
                  <a:pt x="8701" y="14238"/>
                  <a:pt x="8756" y="14263"/>
                </a:cubicBezTo>
                <a:cubicBezTo>
                  <a:pt x="8804" y="14285"/>
                  <a:pt x="8872" y="14291"/>
                  <a:pt x="8930" y="14288"/>
                </a:cubicBezTo>
                <a:cubicBezTo>
                  <a:pt x="9006" y="14284"/>
                  <a:pt x="9081" y="14231"/>
                  <a:pt x="9153" y="14213"/>
                </a:cubicBezTo>
                <a:cubicBezTo>
                  <a:pt x="9210" y="14199"/>
                  <a:pt x="9299" y="14185"/>
                  <a:pt x="9351" y="14163"/>
                </a:cubicBezTo>
                <a:cubicBezTo>
                  <a:pt x="9393" y="14145"/>
                  <a:pt x="9437" y="14110"/>
                  <a:pt x="9475" y="14089"/>
                </a:cubicBezTo>
                <a:cubicBezTo>
                  <a:pt x="9544" y="14052"/>
                  <a:pt x="9650" y="14001"/>
                  <a:pt x="9699" y="13940"/>
                </a:cubicBezTo>
                <a:cubicBezTo>
                  <a:pt x="9727" y="13906"/>
                  <a:pt x="9730" y="13758"/>
                  <a:pt x="9798" y="13742"/>
                </a:cubicBezTo>
                <a:cubicBezTo>
                  <a:pt x="9841" y="13732"/>
                  <a:pt x="9750" y="13662"/>
                  <a:pt x="9798" y="13742"/>
                </a:cubicBezTo>
                <a:cubicBezTo>
                  <a:pt x="9863" y="13850"/>
                  <a:pt x="9778" y="13982"/>
                  <a:pt x="9897" y="14089"/>
                </a:cubicBezTo>
                <a:cubicBezTo>
                  <a:pt x="9934" y="14122"/>
                  <a:pt x="9999" y="14150"/>
                  <a:pt x="10046" y="14163"/>
                </a:cubicBezTo>
                <a:cubicBezTo>
                  <a:pt x="10128" y="14186"/>
                  <a:pt x="10240" y="14152"/>
                  <a:pt x="10319" y="14139"/>
                </a:cubicBezTo>
                <a:cubicBezTo>
                  <a:pt x="10388" y="14127"/>
                  <a:pt x="10458" y="14081"/>
                  <a:pt x="10517" y="14064"/>
                </a:cubicBezTo>
                <a:cubicBezTo>
                  <a:pt x="10590" y="14042"/>
                  <a:pt x="10619" y="14051"/>
                  <a:pt x="10691" y="14015"/>
                </a:cubicBezTo>
                <a:cubicBezTo>
                  <a:pt x="10732" y="13995"/>
                  <a:pt x="10776" y="13975"/>
                  <a:pt x="10815" y="13940"/>
                </a:cubicBezTo>
                <a:cubicBezTo>
                  <a:pt x="10852" y="13907"/>
                  <a:pt x="10863" y="13844"/>
                  <a:pt x="10889" y="13816"/>
                </a:cubicBezTo>
                <a:cubicBezTo>
                  <a:pt x="10906" y="13800"/>
                  <a:pt x="10922" y="13783"/>
                  <a:pt x="10939" y="13767"/>
                </a:cubicBezTo>
                <a:cubicBezTo>
                  <a:pt x="10962" y="13943"/>
                  <a:pt x="10914" y="14100"/>
                  <a:pt x="11112" y="14188"/>
                </a:cubicBezTo>
                <a:cubicBezTo>
                  <a:pt x="11203" y="14228"/>
                  <a:pt x="11270" y="14200"/>
                  <a:pt x="11361" y="14188"/>
                </a:cubicBezTo>
                <a:cubicBezTo>
                  <a:pt x="11397" y="14183"/>
                  <a:pt x="11520" y="14153"/>
                  <a:pt x="11559" y="14139"/>
                </a:cubicBezTo>
                <a:cubicBezTo>
                  <a:pt x="11609" y="14121"/>
                  <a:pt x="11670" y="14096"/>
                  <a:pt x="11708" y="14064"/>
                </a:cubicBezTo>
                <a:cubicBezTo>
                  <a:pt x="11757" y="14023"/>
                  <a:pt x="11779" y="13995"/>
                  <a:pt x="11807" y="13940"/>
                </a:cubicBezTo>
                <a:cubicBezTo>
                  <a:pt x="11826" y="13904"/>
                  <a:pt x="11818" y="13806"/>
                  <a:pt x="11832" y="13767"/>
                </a:cubicBezTo>
                <a:cubicBezTo>
                  <a:pt x="11844" y="13733"/>
                  <a:pt x="11844" y="13700"/>
                  <a:pt x="11857" y="13667"/>
                </a:cubicBezTo>
                <a:cubicBezTo>
                  <a:pt x="11857" y="13643"/>
                  <a:pt x="11857" y="13635"/>
                  <a:pt x="11881" y="13643"/>
                </a:cubicBezTo>
                <a:cubicBezTo>
                  <a:pt x="11900" y="13687"/>
                  <a:pt x="11938" y="13713"/>
                  <a:pt x="11956" y="13767"/>
                </a:cubicBezTo>
                <a:cubicBezTo>
                  <a:pt x="11974" y="13822"/>
                  <a:pt x="11982" y="13878"/>
                  <a:pt x="12005" y="13940"/>
                </a:cubicBezTo>
                <a:cubicBezTo>
                  <a:pt x="12044" y="14046"/>
                  <a:pt x="12044" y="14120"/>
                  <a:pt x="12154" y="14188"/>
                </a:cubicBezTo>
                <a:cubicBezTo>
                  <a:pt x="12223" y="14231"/>
                  <a:pt x="12326" y="14256"/>
                  <a:pt x="12402" y="14263"/>
                </a:cubicBezTo>
                <a:cubicBezTo>
                  <a:pt x="12492" y="14272"/>
                  <a:pt x="12591" y="14218"/>
                  <a:pt x="12675" y="14188"/>
                </a:cubicBezTo>
                <a:cubicBezTo>
                  <a:pt x="12756" y="14159"/>
                  <a:pt x="12847" y="14106"/>
                  <a:pt x="12923" y="14064"/>
                </a:cubicBezTo>
                <a:cubicBezTo>
                  <a:pt x="12977" y="14034"/>
                  <a:pt x="13039" y="13970"/>
                  <a:pt x="13072" y="13940"/>
                </a:cubicBezTo>
                <a:cubicBezTo>
                  <a:pt x="13105" y="13910"/>
                  <a:pt x="13150" y="13904"/>
                  <a:pt x="13171" y="13866"/>
                </a:cubicBezTo>
                <a:cubicBezTo>
                  <a:pt x="13204" y="13807"/>
                  <a:pt x="13242" y="13738"/>
                  <a:pt x="13221" y="13667"/>
                </a:cubicBezTo>
                <a:cubicBezTo>
                  <a:pt x="13214" y="13644"/>
                  <a:pt x="13183" y="13589"/>
                  <a:pt x="13171" y="13568"/>
                </a:cubicBezTo>
                <a:cubicBezTo>
                  <a:pt x="13165" y="13557"/>
                  <a:pt x="13104" y="13579"/>
                  <a:pt x="13097" y="13568"/>
                </a:cubicBezTo>
                <a:cubicBezTo>
                  <a:pt x="13145" y="13549"/>
                  <a:pt x="13182" y="13602"/>
                  <a:pt x="13221" y="13568"/>
                </a:cubicBezTo>
                <a:cubicBezTo>
                  <a:pt x="13321" y="13482"/>
                  <a:pt x="13376" y="13398"/>
                  <a:pt x="13395" y="13271"/>
                </a:cubicBezTo>
                <a:cubicBezTo>
                  <a:pt x="13406" y="13196"/>
                  <a:pt x="13396" y="13067"/>
                  <a:pt x="13370" y="12998"/>
                </a:cubicBezTo>
                <a:cubicBezTo>
                  <a:pt x="13360" y="12971"/>
                  <a:pt x="13335" y="12896"/>
                  <a:pt x="13320" y="12874"/>
                </a:cubicBezTo>
                <a:cubicBezTo>
                  <a:pt x="13262" y="12789"/>
                  <a:pt x="13131" y="12683"/>
                  <a:pt x="13047" y="12626"/>
                </a:cubicBezTo>
                <a:cubicBezTo>
                  <a:pt x="13004" y="12597"/>
                  <a:pt x="12961" y="12594"/>
                  <a:pt x="12923" y="12576"/>
                </a:cubicBezTo>
                <a:cubicBezTo>
                  <a:pt x="12899" y="12564"/>
                  <a:pt x="12871" y="12562"/>
                  <a:pt x="12849" y="12551"/>
                </a:cubicBezTo>
                <a:cubicBezTo>
                  <a:pt x="12866" y="12534"/>
                  <a:pt x="12921" y="12505"/>
                  <a:pt x="12948" y="12477"/>
                </a:cubicBezTo>
                <a:cubicBezTo>
                  <a:pt x="13045" y="12375"/>
                  <a:pt x="13110" y="12273"/>
                  <a:pt x="13122" y="12129"/>
                </a:cubicBezTo>
                <a:cubicBezTo>
                  <a:pt x="13129" y="12052"/>
                  <a:pt x="13113" y="11994"/>
                  <a:pt x="13097" y="11931"/>
                </a:cubicBezTo>
                <a:cubicBezTo>
                  <a:pt x="13084" y="11881"/>
                  <a:pt x="13096" y="11862"/>
                  <a:pt x="13072" y="11832"/>
                </a:cubicBezTo>
                <a:cubicBezTo>
                  <a:pt x="13030" y="11781"/>
                  <a:pt x="12960" y="11757"/>
                  <a:pt x="12898" y="11733"/>
                </a:cubicBezTo>
                <a:cubicBezTo>
                  <a:pt x="12833" y="11708"/>
                  <a:pt x="12703" y="11681"/>
                  <a:pt x="12626" y="11683"/>
                </a:cubicBezTo>
                <a:cubicBezTo>
                  <a:pt x="12551" y="11685"/>
                  <a:pt x="12478" y="11733"/>
                  <a:pt x="12477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02000" y="5205240"/>
            <a:ext cx="509760" cy="162000"/>
          </a:xfrm>
          <a:custGeom>
            <a:avLst/>
            <a:gdLst/>
            <a:ahLst/>
            <a:rect l="l" t="t" r="r" b="b"/>
            <a:pathLst>
              <a:path w="1414" h="448">
                <a:moveTo>
                  <a:pt x="9475" y="14536"/>
                </a:moveTo>
                <a:cubicBezTo>
                  <a:pt x="9467" y="14536"/>
                  <a:pt x="9459" y="14536"/>
                  <a:pt x="9451" y="14536"/>
                </a:cubicBezTo>
              </a:path>
              <a:path w="1414" h="448">
                <a:moveTo>
                  <a:pt x="9451" y="14536"/>
                </a:moveTo>
                <a:lnTo>
                  <a:pt x="9451" y="14536"/>
                </a:lnTo>
              </a:path>
              <a:path w="1414" h="448">
                <a:moveTo>
                  <a:pt x="10641" y="14461"/>
                </a:moveTo>
                <a:cubicBezTo>
                  <a:pt x="10681" y="14599"/>
                  <a:pt x="10738" y="14736"/>
                  <a:pt x="10765" y="14883"/>
                </a:cubicBezTo>
                <a:cubicBezTo>
                  <a:pt x="10765" y="14911"/>
                  <a:pt x="10763" y="14917"/>
                  <a:pt x="10740" y="14883"/>
                </a:cubicBezTo>
              </a:path>
              <a:path w="1414" h="448">
                <a:moveTo>
                  <a:pt x="10492" y="14709"/>
                </a:moveTo>
                <a:cubicBezTo>
                  <a:pt x="10628" y="14646"/>
                  <a:pt x="10721" y="14586"/>
                  <a:pt x="10864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97160" y="5224320"/>
            <a:ext cx="660600" cy="312840"/>
          </a:xfrm>
          <a:custGeom>
            <a:avLst/>
            <a:gdLst/>
            <a:ahLst/>
            <a:rect l="l" t="t" r="r" b="b"/>
            <a:pathLst>
              <a:path w="1837" h="869">
                <a:moveTo>
                  <a:pt x="8880" y="14833"/>
                </a:moveTo>
                <a:cubicBezTo>
                  <a:pt x="8919" y="14919"/>
                  <a:pt x="8957" y="14999"/>
                  <a:pt x="9004" y="15081"/>
                </a:cubicBezTo>
                <a:cubicBezTo>
                  <a:pt x="9004" y="14931"/>
                  <a:pt x="9045" y="14788"/>
                  <a:pt x="9128" y="14660"/>
                </a:cubicBezTo>
                <a:cubicBezTo>
                  <a:pt x="9224" y="14512"/>
                  <a:pt x="9244" y="14648"/>
                  <a:pt x="9302" y="14734"/>
                </a:cubicBezTo>
              </a:path>
              <a:path w="1837" h="869">
                <a:moveTo>
                  <a:pt x="9475" y="14660"/>
                </a:moveTo>
                <a:cubicBezTo>
                  <a:pt x="9499" y="14704"/>
                  <a:pt x="9573" y="14897"/>
                  <a:pt x="9575" y="14858"/>
                </a:cubicBezTo>
                <a:cubicBezTo>
                  <a:pt x="9575" y="14833"/>
                  <a:pt x="9575" y="14809"/>
                  <a:pt x="9575" y="14784"/>
                </a:cubicBezTo>
              </a:path>
              <a:path w="1837" h="869">
                <a:moveTo>
                  <a:pt x="9996" y="14660"/>
                </a:moveTo>
                <a:cubicBezTo>
                  <a:pt x="9966" y="14685"/>
                  <a:pt x="9672" y="15002"/>
                  <a:pt x="9872" y="14982"/>
                </a:cubicBezTo>
                <a:cubicBezTo>
                  <a:pt x="10013" y="14968"/>
                  <a:pt x="10007" y="14797"/>
                  <a:pt x="10021" y="14709"/>
                </a:cubicBezTo>
                <a:cubicBezTo>
                  <a:pt x="10013" y="14701"/>
                  <a:pt x="10004" y="14692"/>
                  <a:pt x="9996" y="14684"/>
                </a:cubicBezTo>
                <a:cubicBezTo>
                  <a:pt x="10028" y="14842"/>
                  <a:pt x="10131" y="14953"/>
                  <a:pt x="10120" y="15131"/>
                </a:cubicBezTo>
                <a:cubicBezTo>
                  <a:pt x="10107" y="15345"/>
                  <a:pt x="9996" y="15525"/>
                  <a:pt x="9996" y="15131"/>
                </a:cubicBezTo>
              </a:path>
              <a:path w="1837" h="869">
                <a:moveTo>
                  <a:pt x="10145" y="14511"/>
                </a:moveTo>
                <a:cubicBezTo>
                  <a:pt x="10182" y="14614"/>
                  <a:pt x="10226" y="14707"/>
                  <a:pt x="10269" y="14808"/>
                </a:cubicBezTo>
                <a:cubicBezTo>
                  <a:pt x="10292" y="14730"/>
                  <a:pt x="10344" y="14659"/>
                  <a:pt x="10368" y="14585"/>
                </a:cubicBezTo>
                <a:cubicBezTo>
                  <a:pt x="10399" y="14636"/>
                  <a:pt x="10509" y="14924"/>
                  <a:pt x="10567" y="14908"/>
                </a:cubicBezTo>
                <a:cubicBezTo>
                  <a:pt x="10680" y="14851"/>
                  <a:pt x="10718" y="14820"/>
                  <a:pt x="10716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1960" y="5214960"/>
            <a:ext cx="920880" cy="295200"/>
          </a:xfrm>
          <a:custGeom>
            <a:avLst/>
            <a:gdLst/>
            <a:ahLst/>
            <a:rect l="l" t="t" r="r" b="b"/>
            <a:pathLst>
              <a:path w="2556" h="819">
                <a:moveTo>
                  <a:pt x="11311" y="14610"/>
                </a:moveTo>
                <a:cubicBezTo>
                  <a:pt x="11425" y="14558"/>
                  <a:pt x="11537" y="14508"/>
                  <a:pt x="11658" y="14486"/>
                </a:cubicBezTo>
                <a:cubicBezTo>
                  <a:pt x="11688" y="14662"/>
                  <a:pt x="11676" y="14807"/>
                  <a:pt x="11658" y="14982"/>
                </a:cubicBezTo>
                <a:cubicBezTo>
                  <a:pt x="11658" y="15042"/>
                  <a:pt x="11661" y="15049"/>
                  <a:pt x="11683" y="14957"/>
                </a:cubicBezTo>
              </a:path>
              <a:path w="2556" h="819">
                <a:moveTo>
                  <a:pt x="12030" y="15007"/>
                </a:moveTo>
                <a:cubicBezTo>
                  <a:pt x="12021" y="15059"/>
                  <a:pt x="12005" y="15371"/>
                  <a:pt x="12005" y="15255"/>
                </a:cubicBezTo>
              </a:path>
              <a:path w="2556" h="819">
                <a:moveTo>
                  <a:pt x="12353" y="14709"/>
                </a:moveTo>
                <a:cubicBezTo>
                  <a:pt x="12370" y="14756"/>
                  <a:pt x="12458" y="15056"/>
                  <a:pt x="12526" y="15007"/>
                </a:cubicBezTo>
                <a:cubicBezTo>
                  <a:pt x="12605" y="14951"/>
                  <a:pt x="12631" y="14840"/>
                  <a:pt x="12650" y="14759"/>
                </a:cubicBezTo>
                <a:cubicBezTo>
                  <a:pt x="12641" y="14851"/>
                  <a:pt x="12683" y="15016"/>
                  <a:pt x="12824" y="14932"/>
                </a:cubicBezTo>
                <a:cubicBezTo>
                  <a:pt x="12924" y="14872"/>
                  <a:pt x="12914" y="14784"/>
                  <a:pt x="12923" y="14684"/>
                </a:cubicBezTo>
                <a:cubicBezTo>
                  <a:pt x="12891" y="14797"/>
                  <a:pt x="12965" y="15029"/>
                  <a:pt x="12998" y="15180"/>
                </a:cubicBezTo>
                <a:cubicBezTo>
                  <a:pt x="13016" y="15255"/>
                  <a:pt x="13024" y="15314"/>
                  <a:pt x="13022" y="15255"/>
                </a:cubicBezTo>
                <a:cubicBezTo>
                  <a:pt x="12931" y="15057"/>
                  <a:pt x="12785" y="14737"/>
                  <a:pt x="13022" y="14560"/>
                </a:cubicBezTo>
                <a:cubicBezTo>
                  <a:pt x="13047" y="14568"/>
                  <a:pt x="13072" y="14577"/>
                  <a:pt x="13097" y="14585"/>
                </a:cubicBezTo>
                <a:cubicBezTo>
                  <a:pt x="13100" y="14617"/>
                  <a:pt x="13137" y="14982"/>
                  <a:pt x="12998" y="14932"/>
                </a:cubicBezTo>
                <a:cubicBezTo>
                  <a:pt x="12990" y="14916"/>
                  <a:pt x="12981" y="14899"/>
                  <a:pt x="12973" y="14883"/>
                </a:cubicBezTo>
              </a:path>
              <a:path w="2556" h="819">
                <a:moveTo>
                  <a:pt x="13444" y="14610"/>
                </a:moveTo>
                <a:cubicBezTo>
                  <a:pt x="13507" y="14599"/>
                  <a:pt x="13587" y="14563"/>
                  <a:pt x="13618" y="14660"/>
                </a:cubicBezTo>
                <a:cubicBezTo>
                  <a:pt x="13662" y="14796"/>
                  <a:pt x="13494" y="14966"/>
                  <a:pt x="13444" y="15081"/>
                </a:cubicBezTo>
                <a:cubicBezTo>
                  <a:pt x="13436" y="15106"/>
                  <a:pt x="13427" y="15131"/>
                  <a:pt x="13419" y="15156"/>
                </a:cubicBezTo>
                <a:cubicBezTo>
                  <a:pt x="13519" y="15156"/>
                  <a:pt x="13615" y="15134"/>
                  <a:pt x="13717" y="15131"/>
                </a:cubicBezTo>
                <a:cubicBezTo>
                  <a:pt x="13777" y="15129"/>
                  <a:pt x="13829" y="15227"/>
                  <a:pt x="13866" y="15180"/>
                </a:cubicBezTo>
                <a:cubicBezTo>
                  <a:pt x="13866" y="15172"/>
                  <a:pt x="13866" y="15164"/>
                  <a:pt x="13866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46880" y="3867120"/>
            <a:ext cx="563400" cy="1081080"/>
          </a:xfrm>
          <a:custGeom>
            <a:avLst/>
            <a:gdLst/>
            <a:ahLst/>
            <a:rect l="l" t="t" r="r" b="b"/>
            <a:pathLst>
              <a:path w="1564" h="3003">
                <a:moveTo>
                  <a:pt x="18231" y="11708"/>
                </a:moveTo>
                <a:cubicBezTo>
                  <a:pt x="18244" y="11668"/>
                  <a:pt x="18243" y="11698"/>
                  <a:pt x="18256" y="11658"/>
                </a:cubicBezTo>
                <a:cubicBezTo>
                  <a:pt x="18256" y="11586"/>
                  <a:pt x="18247" y="11752"/>
                  <a:pt x="18256" y="11757"/>
                </a:cubicBezTo>
                <a:cubicBezTo>
                  <a:pt x="18338" y="11805"/>
                  <a:pt x="18470" y="11645"/>
                  <a:pt x="18430" y="11584"/>
                </a:cubicBezTo>
                <a:cubicBezTo>
                  <a:pt x="18362" y="11480"/>
                  <a:pt x="18180" y="11677"/>
                  <a:pt x="18207" y="11757"/>
                </a:cubicBezTo>
                <a:cubicBezTo>
                  <a:pt x="18223" y="11774"/>
                  <a:pt x="18240" y="11790"/>
                  <a:pt x="18256" y="11807"/>
                </a:cubicBezTo>
                <a:cubicBezTo>
                  <a:pt x="18337" y="11748"/>
                  <a:pt x="18358" y="11746"/>
                  <a:pt x="18380" y="11658"/>
                </a:cubicBezTo>
                <a:cubicBezTo>
                  <a:pt x="18316" y="11671"/>
                  <a:pt x="18065" y="11782"/>
                  <a:pt x="18256" y="11757"/>
                </a:cubicBezTo>
              </a:path>
              <a:path w="1564" h="3003">
                <a:moveTo>
                  <a:pt x="17909" y="13717"/>
                </a:moveTo>
                <a:cubicBezTo>
                  <a:pt x="18001" y="13731"/>
                  <a:pt x="17985" y="13726"/>
                  <a:pt x="18083" y="13717"/>
                </a:cubicBezTo>
                <a:cubicBezTo>
                  <a:pt x="18148" y="13711"/>
                  <a:pt x="18220" y="13678"/>
                  <a:pt x="18281" y="13643"/>
                </a:cubicBezTo>
                <a:cubicBezTo>
                  <a:pt x="18330" y="13614"/>
                  <a:pt x="18410" y="13587"/>
                  <a:pt x="18455" y="13543"/>
                </a:cubicBezTo>
                <a:cubicBezTo>
                  <a:pt x="18535" y="13466"/>
                  <a:pt x="18579" y="13330"/>
                  <a:pt x="18554" y="13221"/>
                </a:cubicBezTo>
                <a:cubicBezTo>
                  <a:pt x="18536" y="13141"/>
                  <a:pt x="18511" y="13052"/>
                  <a:pt x="18479" y="12973"/>
                </a:cubicBezTo>
                <a:cubicBezTo>
                  <a:pt x="18456" y="12916"/>
                  <a:pt x="18443" y="12873"/>
                  <a:pt x="18405" y="12824"/>
                </a:cubicBezTo>
                <a:cubicBezTo>
                  <a:pt x="18360" y="12766"/>
                  <a:pt x="18322" y="12754"/>
                  <a:pt x="18256" y="12750"/>
                </a:cubicBezTo>
                <a:cubicBezTo>
                  <a:pt x="18231" y="12750"/>
                  <a:pt x="18223" y="12750"/>
                  <a:pt x="18207" y="12750"/>
                </a:cubicBezTo>
                <a:cubicBezTo>
                  <a:pt x="18245" y="12711"/>
                  <a:pt x="18335" y="12650"/>
                  <a:pt x="18380" y="12601"/>
                </a:cubicBezTo>
                <a:cubicBezTo>
                  <a:pt x="18458" y="12515"/>
                  <a:pt x="18491" y="12363"/>
                  <a:pt x="18529" y="12254"/>
                </a:cubicBezTo>
                <a:cubicBezTo>
                  <a:pt x="18554" y="12182"/>
                  <a:pt x="18554" y="12130"/>
                  <a:pt x="18554" y="12055"/>
                </a:cubicBezTo>
                <a:cubicBezTo>
                  <a:pt x="18554" y="11985"/>
                  <a:pt x="18536" y="11995"/>
                  <a:pt x="18479" y="11956"/>
                </a:cubicBezTo>
                <a:cubicBezTo>
                  <a:pt x="18424" y="11918"/>
                  <a:pt x="18364" y="11880"/>
                  <a:pt x="18306" y="11857"/>
                </a:cubicBezTo>
                <a:cubicBezTo>
                  <a:pt x="18265" y="11841"/>
                  <a:pt x="18227" y="11815"/>
                  <a:pt x="18182" y="11807"/>
                </a:cubicBezTo>
                <a:cubicBezTo>
                  <a:pt x="18153" y="11802"/>
                  <a:pt x="18114" y="11801"/>
                  <a:pt x="18107" y="11782"/>
                </a:cubicBezTo>
                <a:cubicBezTo>
                  <a:pt x="18088" y="11734"/>
                  <a:pt x="18103" y="11656"/>
                  <a:pt x="18083" y="11609"/>
                </a:cubicBezTo>
                <a:cubicBezTo>
                  <a:pt x="18075" y="11601"/>
                  <a:pt x="18066" y="11592"/>
                  <a:pt x="18058" y="11584"/>
                </a:cubicBezTo>
              </a:path>
              <a:path w="1564" h="3003">
                <a:moveTo>
                  <a:pt x="18604" y="11410"/>
                </a:moveTo>
                <a:cubicBezTo>
                  <a:pt x="18616" y="11595"/>
                  <a:pt x="18648" y="11776"/>
                  <a:pt x="18678" y="11956"/>
                </a:cubicBezTo>
                <a:cubicBezTo>
                  <a:pt x="18678" y="11928"/>
                  <a:pt x="18676" y="11917"/>
                  <a:pt x="18653" y="11906"/>
                </a:cubicBezTo>
                <a:cubicBezTo>
                  <a:pt x="18598" y="11609"/>
                  <a:pt x="18579" y="11460"/>
                  <a:pt x="18752" y="11212"/>
                </a:cubicBezTo>
                <a:cubicBezTo>
                  <a:pt x="18822" y="11333"/>
                  <a:pt x="18841" y="11446"/>
                  <a:pt x="18728" y="11584"/>
                </a:cubicBezTo>
                <a:cubicBezTo>
                  <a:pt x="18728" y="11576"/>
                  <a:pt x="18728" y="11567"/>
                  <a:pt x="18728" y="11559"/>
                </a:cubicBezTo>
                <a:cubicBezTo>
                  <a:pt x="18862" y="11442"/>
                  <a:pt x="18977" y="11571"/>
                  <a:pt x="18901" y="11757"/>
                </a:cubicBezTo>
                <a:cubicBezTo>
                  <a:pt x="18809" y="11983"/>
                  <a:pt x="18660" y="11945"/>
                  <a:pt x="18554" y="11807"/>
                </a:cubicBezTo>
              </a:path>
              <a:path w="1564" h="3003">
                <a:moveTo>
                  <a:pt x="18852" y="10740"/>
                </a:moveTo>
                <a:cubicBezTo>
                  <a:pt x="18852" y="10839"/>
                  <a:pt x="18852" y="10939"/>
                  <a:pt x="18852" y="11038"/>
                </a:cubicBezTo>
              </a:path>
              <a:path w="1564" h="3003">
                <a:moveTo>
                  <a:pt x="19124" y="12725"/>
                </a:moveTo>
                <a:cubicBezTo>
                  <a:pt x="19124" y="12667"/>
                  <a:pt x="19147" y="12775"/>
                  <a:pt x="19149" y="12799"/>
                </a:cubicBezTo>
                <a:cubicBezTo>
                  <a:pt x="19152" y="12840"/>
                  <a:pt x="19149" y="12882"/>
                  <a:pt x="19149" y="12923"/>
                </a:cubicBezTo>
                <a:cubicBezTo>
                  <a:pt x="19170" y="12850"/>
                  <a:pt x="19140" y="12687"/>
                  <a:pt x="19248" y="12626"/>
                </a:cubicBezTo>
                <a:cubicBezTo>
                  <a:pt x="19328" y="12581"/>
                  <a:pt x="19421" y="12667"/>
                  <a:pt x="19472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27920" y="4510080"/>
            <a:ext cx="812880" cy="268200"/>
          </a:xfrm>
          <a:custGeom>
            <a:avLst/>
            <a:gdLst/>
            <a:ahLst/>
            <a:rect l="l" t="t" r="r" b="b"/>
            <a:pathLst>
              <a:path w="2259" h="746">
                <a:moveTo>
                  <a:pt x="19571" y="12824"/>
                </a:moveTo>
                <a:cubicBezTo>
                  <a:pt x="19579" y="12858"/>
                  <a:pt x="19591" y="13069"/>
                  <a:pt x="19621" y="12948"/>
                </a:cubicBezTo>
              </a:path>
              <a:path w="2259" h="746">
                <a:moveTo>
                  <a:pt x="19546" y="12526"/>
                </a:moveTo>
                <a:cubicBezTo>
                  <a:pt x="19538" y="12526"/>
                  <a:pt x="19529" y="12526"/>
                  <a:pt x="19521" y="12526"/>
                </a:cubicBezTo>
              </a:path>
              <a:path w="2259" h="746">
                <a:moveTo>
                  <a:pt x="19521" y="12526"/>
                </a:moveTo>
                <a:lnTo>
                  <a:pt x="19521" y="12526"/>
                </a:lnTo>
              </a:path>
              <a:path w="2259" h="746">
                <a:moveTo>
                  <a:pt x="21779" y="13171"/>
                </a:moveTo>
                <a:cubicBezTo>
                  <a:pt x="21779" y="13204"/>
                  <a:pt x="21779" y="13238"/>
                  <a:pt x="21779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08920" y="4394160"/>
            <a:ext cx="669960" cy="455760"/>
          </a:xfrm>
          <a:custGeom>
            <a:avLst/>
            <a:gdLst/>
            <a:ahLst/>
            <a:rect l="l" t="t" r="r" b="b"/>
            <a:pathLst>
              <a:path w="1861" h="1266">
                <a:moveTo>
                  <a:pt x="20067" y="12700"/>
                </a:moveTo>
                <a:cubicBezTo>
                  <a:pt x="19942" y="12774"/>
                  <a:pt x="19908" y="12823"/>
                  <a:pt x="19893" y="12973"/>
                </a:cubicBezTo>
                <a:cubicBezTo>
                  <a:pt x="20032" y="12909"/>
                  <a:pt x="20029" y="12841"/>
                  <a:pt x="20117" y="12750"/>
                </a:cubicBezTo>
                <a:cubicBezTo>
                  <a:pt x="20223" y="12640"/>
                  <a:pt x="20171" y="13053"/>
                  <a:pt x="20117" y="13196"/>
                </a:cubicBezTo>
                <a:cubicBezTo>
                  <a:pt x="20025" y="13437"/>
                  <a:pt x="19945" y="13439"/>
                  <a:pt x="19745" y="13419"/>
                </a:cubicBezTo>
                <a:cubicBezTo>
                  <a:pt x="19745" y="13204"/>
                  <a:pt x="19762" y="13108"/>
                  <a:pt x="19869" y="12973"/>
                </a:cubicBezTo>
              </a:path>
              <a:path w="1861" h="1266">
                <a:moveTo>
                  <a:pt x="20216" y="12650"/>
                </a:moveTo>
                <a:cubicBezTo>
                  <a:pt x="20230" y="12762"/>
                  <a:pt x="20241" y="12840"/>
                  <a:pt x="20241" y="12948"/>
                </a:cubicBezTo>
                <a:cubicBezTo>
                  <a:pt x="20257" y="12762"/>
                  <a:pt x="20272" y="12719"/>
                  <a:pt x="20439" y="12675"/>
                </a:cubicBezTo>
                <a:cubicBezTo>
                  <a:pt x="20496" y="12776"/>
                  <a:pt x="20447" y="12978"/>
                  <a:pt x="20563" y="12973"/>
                </a:cubicBezTo>
                <a:cubicBezTo>
                  <a:pt x="20596" y="12965"/>
                  <a:pt x="20629" y="12956"/>
                  <a:pt x="20662" y="12948"/>
                </a:cubicBezTo>
              </a:path>
              <a:path w="1861" h="1266">
                <a:moveTo>
                  <a:pt x="20737" y="12378"/>
                </a:moveTo>
                <a:cubicBezTo>
                  <a:pt x="20766" y="12565"/>
                  <a:pt x="20823" y="12733"/>
                  <a:pt x="20836" y="12923"/>
                </a:cubicBezTo>
                <a:cubicBezTo>
                  <a:pt x="20836" y="12948"/>
                  <a:pt x="20836" y="12956"/>
                  <a:pt x="20836" y="12923"/>
                </a:cubicBezTo>
              </a:path>
              <a:path w="1861" h="1266">
                <a:moveTo>
                  <a:pt x="20613" y="12626"/>
                </a:moveTo>
                <a:cubicBezTo>
                  <a:pt x="20734" y="12626"/>
                  <a:pt x="20843" y="12609"/>
                  <a:pt x="20960" y="12576"/>
                </a:cubicBezTo>
                <a:cubicBezTo>
                  <a:pt x="20985" y="12568"/>
                  <a:pt x="21009" y="12559"/>
                  <a:pt x="21034" y="12551"/>
                </a:cubicBezTo>
              </a:path>
              <a:path w="1861" h="1266">
                <a:moveTo>
                  <a:pt x="20191" y="12204"/>
                </a:moveTo>
                <a:cubicBezTo>
                  <a:pt x="20191" y="12320"/>
                  <a:pt x="20213" y="12433"/>
                  <a:pt x="20216" y="12551"/>
                </a:cubicBezTo>
                <a:cubicBezTo>
                  <a:pt x="20216" y="12634"/>
                  <a:pt x="20216" y="12650"/>
                  <a:pt x="20216" y="12700"/>
                </a:cubicBezTo>
              </a:path>
              <a:path w="1861" h="1266">
                <a:moveTo>
                  <a:pt x="21158" y="12502"/>
                </a:moveTo>
                <a:cubicBezTo>
                  <a:pt x="21316" y="12502"/>
                  <a:pt x="21452" y="12493"/>
                  <a:pt x="21605" y="12452"/>
                </a:cubicBezTo>
                <a:cubicBezTo>
                  <a:pt x="21589" y="12622"/>
                  <a:pt x="21541" y="12787"/>
                  <a:pt x="21481" y="12948"/>
                </a:cubicBezTo>
                <a:cubicBezTo>
                  <a:pt x="21473" y="12965"/>
                  <a:pt x="21464" y="12981"/>
                  <a:pt x="21456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0360" y="4518000"/>
            <a:ext cx="347760" cy="304920"/>
          </a:xfrm>
          <a:custGeom>
            <a:avLst/>
            <a:gdLst/>
            <a:ahLst/>
            <a:rect l="l" t="t" r="r" b="b"/>
            <a:pathLst>
              <a:path w="968" h="845">
                <a:moveTo>
                  <a:pt x="22275" y="12650"/>
                </a:moveTo>
                <a:cubicBezTo>
                  <a:pt x="22266" y="12742"/>
                  <a:pt x="22208" y="12890"/>
                  <a:pt x="22324" y="12948"/>
                </a:cubicBezTo>
                <a:cubicBezTo>
                  <a:pt x="22447" y="13009"/>
                  <a:pt x="22493" y="12810"/>
                  <a:pt x="22523" y="12750"/>
                </a:cubicBezTo>
                <a:cubicBezTo>
                  <a:pt x="22558" y="12826"/>
                  <a:pt x="22690" y="13076"/>
                  <a:pt x="22796" y="12898"/>
                </a:cubicBezTo>
                <a:cubicBezTo>
                  <a:pt x="22818" y="12783"/>
                  <a:pt x="22826" y="12751"/>
                  <a:pt x="22820" y="12675"/>
                </a:cubicBezTo>
                <a:cubicBezTo>
                  <a:pt x="22881" y="12929"/>
                  <a:pt x="22912" y="13137"/>
                  <a:pt x="22895" y="13395"/>
                </a:cubicBezTo>
                <a:cubicBezTo>
                  <a:pt x="22817" y="13118"/>
                  <a:pt x="22759" y="12830"/>
                  <a:pt x="22994" y="12601"/>
                </a:cubicBezTo>
                <a:cubicBezTo>
                  <a:pt x="23035" y="12584"/>
                  <a:pt x="23077" y="12568"/>
                  <a:pt x="23118" y="12551"/>
                </a:cubicBezTo>
                <a:cubicBezTo>
                  <a:pt x="23181" y="12673"/>
                  <a:pt x="23231" y="13078"/>
                  <a:pt x="22920" y="12948"/>
                </a:cubicBezTo>
                <a:cubicBezTo>
                  <a:pt x="22903" y="12915"/>
                  <a:pt x="22887" y="12882"/>
                  <a:pt x="22870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18680" y="4411800"/>
            <a:ext cx="134640" cy="204480"/>
          </a:xfrm>
          <a:custGeom>
            <a:avLst/>
            <a:gdLst/>
            <a:ahLst/>
            <a:rect l="l" t="t" r="r" b="b"/>
            <a:pathLst>
              <a:path w="373" h="571">
                <a:moveTo>
                  <a:pt x="23713" y="12303"/>
                </a:moveTo>
                <a:cubicBezTo>
                  <a:pt x="23799" y="12230"/>
                  <a:pt x="23939" y="12234"/>
                  <a:pt x="23912" y="12402"/>
                </a:cubicBezTo>
                <a:cubicBezTo>
                  <a:pt x="23884" y="12574"/>
                  <a:pt x="23772" y="12677"/>
                  <a:pt x="23664" y="12799"/>
                </a:cubicBezTo>
                <a:cubicBezTo>
                  <a:pt x="23783" y="12839"/>
                  <a:pt x="23906" y="12808"/>
                  <a:pt x="24036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82880" y="2257560"/>
            <a:ext cx="3376800" cy="3193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84720" y="2724120"/>
            <a:ext cx="1652400" cy="214200"/>
          </a:xfrm>
          <a:custGeom>
            <a:avLst/>
            <a:gdLst/>
            <a:ahLst/>
            <a:rect l="l" t="t" r="r" b="b"/>
            <a:pathLst>
              <a:path w="4590" h="597">
                <a:moveTo>
                  <a:pt x="9699" y="7838"/>
                </a:moveTo>
                <a:cubicBezTo>
                  <a:pt x="9699" y="7876"/>
                  <a:pt x="9685" y="7821"/>
                  <a:pt x="9624" y="7813"/>
                </a:cubicBezTo>
                <a:cubicBezTo>
                  <a:pt x="9497" y="7796"/>
                  <a:pt x="9461" y="8022"/>
                  <a:pt x="9525" y="8111"/>
                </a:cubicBezTo>
                <a:cubicBezTo>
                  <a:pt x="9542" y="8111"/>
                  <a:pt x="9558" y="8111"/>
                  <a:pt x="9575" y="8111"/>
                </a:cubicBezTo>
                <a:cubicBezTo>
                  <a:pt x="9640" y="8046"/>
                  <a:pt x="9764" y="7840"/>
                  <a:pt x="9575" y="7789"/>
                </a:cubicBezTo>
                <a:cubicBezTo>
                  <a:pt x="9417" y="7747"/>
                  <a:pt x="9348" y="7998"/>
                  <a:pt x="9451" y="8086"/>
                </a:cubicBezTo>
                <a:cubicBezTo>
                  <a:pt x="9476" y="8086"/>
                  <a:pt x="9500" y="8086"/>
                  <a:pt x="9525" y="8086"/>
                </a:cubicBezTo>
                <a:cubicBezTo>
                  <a:pt x="9571" y="8014"/>
                  <a:pt x="9555" y="7769"/>
                  <a:pt x="9525" y="7813"/>
                </a:cubicBezTo>
                <a:cubicBezTo>
                  <a:pt x="9468" y="7897"/>
                  <a:pt x="9475" y="7949"/>
                  <a:pt x="9475" y="8037"/>
                </a:cubicBezTo>
                <a:cubicBezTo>
                  <a:pt x="9553" y="7985"/>
                  <a:pt x="9579" y="7964"/>
                  <a:pt x="9575" y="7888"/>
                </a:cubicBezTo>
                <a:cubicBezTo>
                  <a:pt x="9502" y="7778"/>
                  <a:pt x="9472" y="7917"/>
                  <a:pt x="9500" y="7987"/>
                </a:cubicBezTo>
                <a:cubicBezTo>
                  <a:pt x="9519" y="8034"/>
                  <a:pt x="9550" y="7856"/>
                  <a:pt x="9550" y="7838"/>
                </a:cubicBezTo>
                <a:cubicBezTo>
                  <a:pt x="9550" y="7784"/>
                  <a:pt x="9546" y="7900"/>
                  <a:pt x="9599" y="7888"/>
                </a:cubicBezTo>
              </a:path>
              <a:path w="4590" h="597">
                <a:moveTo>
                  <a:pt x="13915" y="7913"/>
                </a:moveTo>
                <a:cubicBezTo>
                  <a:pt x="13879" y="7901"/>
                  <a:pt x="13877" y="7874"/>
                  <a:pt x="13816" y="7863"/>
                </a:cubicBezTo>
                <a:cubicBezTo>
                  <a:pt x="13707" y="7843"/>
                  <a:pt x="13701" y="7931"/>
                  <a:pt x="13692" y="8012"/>
                </a:cubicBezTo>
                <a:cubicBezTo>
                  <a:pt x="13884" y="8067"/>
                  <a:pt x="13928" y="8010"/>
                  <a:pt x="13915" y="7813"/>
                </a:cubicBezTo>
                <a:cubicBezTo>
                  <a:pt x="13818" y="7748"/>
                  <a:pt x="13688" y="7754"/>
                  <a:pt x="13717" y="7938"/>
                </a:cubicBezTo>
                <a:cubicBezTo>
                  <a:pt x="13751" y="8153"/>
                  <a:pt x="13957" y="7969"/>
                  <a:pt x="13965" y="7838"/>
                </a:cubicBezTo>
                <a:cubicBezTo>
                  <a:pt x="13973" y="7696"/>
                  <a:pt x="13867" y="7760"/>
                  <a:pt x="13816" y="7789"/>
                </a:cubicBezTo>
                <a:cubicBezTo>
                  <a:pt x="13799" y="7870"/>
                  <a:pt x="13821" y="8182"/>
                  <a:pt x="13965" y="7962"/>
                </a:cubicBezTo>
                <a:cubicBezTo>
                  <a:pt x="14027" y="7867"/>
                  <a:pt x="13919" y="7629"/>
                  <a:pt x="13866" y="7863"/>
                </a:cubicBezTo>
                <a:cubicBezTo>
                  <a:pt x="13845" y="7954"/>
                  <a:pt x="13896" y="7924"/>
                  <a:pt x="13940" y="7913"/>
                </a:cubicBezTo>
              </a:path>
              <a:path w="4590" h="597">
                <a:moveTo>
                  <a:pt x="9699" y="7987"/>
                </a:moveTo>
                <a:cubicBezTo>
                  <a:pt x="9667" y="8005"/>
                  <a:pt x="9646" y="7987"/>
                  <a:pt x="9624" y="8012"/>
                </a:cubicBezTo>
                <a:cubicBezTo>
                  <a:pt x="9624" y="8020"/>
                  <a:pt x="9624" y="8029"/>
                  <a:pt x="9624" y="8037"/>
                </a:cubicBezTo>
                <a:cubicBezTo>
                  <a:pt x="9633" y="7978"/>
                  <a:pt x="9624" y="7911"/>
                  <a:pt x="9674" y="7863"/>
                </a:cubicBezTo>
                <a:cubicBezTo>
                  <a:pt x="9696" y="7842"/>
                  <a:pt x="9828" y="7774"/>
                  <a:pt x="9872" y="7764"/>
                </a:cubicBezTo>
                <a:cubicBezTo>
                  <a:pt x="9961" y="7744"/>
                  <a:pt x="10051" y="7739"/>
                  <a:pt x="10145" y="7739"/>
                </a:cubicBezTo>
                <a:cubicBezTo>
                  <a:pt x="10213" y="7739"/>
                  <a:pt x="10256" y="7737"/>
                  <a:pt x="10319" y="7764"/>
                </a:cubicBezTo>
                <a:cubicBezTo>
                  <a:pt x="10358" y="7781"/>
                  <a:pt x="10390" y="7783"/>
                  <a:pt x="10418" y="7813"/>
                </a:cubicBezTo>
                <a:cubicBezTo>
                  <a:pt x="10472" y="7872"/>
                  <a:pt x="10481" y="7936"/>
                  <a:pt x="10517" y="7987"/>
                </a:cubicBezTo>
                <a:cubicBezTo>
                  <a:pt x="10532" y="8008"/>
                  <a:pt x="10599" y="8097"/>
                  <a:pt x="10616" y="8111"/>
                </a:cubicBezTo>
                <a:cubicBezTo>
                  <a:pt x="10624" y="8111"/>
                  <a:pt x="10633" y="8111"/>
                  <a:pt x="10641" y="8111"/>
                </a:cubicBezTo>
                <a:cubicBezTo>
                  <a:pt x="10656" y="8051"/>
                  <a:pt x="10671" y="7990"/>
                  <a:pt x="10691" y="7938"/>
                </a:cubicBezTo>
                <a:cubicBezTo>
                  <a:pt x="10728" y="7845"/>
                  <a:pt x="10806" y="7768"/>
                  <a:pt x="10889" y="7714"/>
                </a:cubicBezTo>
                <a:cubicBezTo>
                  <a:pt x="10970" y="7661"/>
                  <a:pt x="11065" y="7630"/>
                  <a:pt x="11162" y="7640"/>
                </a:cubicBezTo>
                <a:cubicBezTo>
                  <a:pt x="11235" y="7647"/>
                  <a:pt x="11293" y="7666"/>
                  <a:pt x="11361" y="7689"/>
                </a:cubicBezTo>
                <a:cubicBezTo>
                  <a:pt x="11388" y="7698"/>
                  <a:pt x="11467" y="7723"/>
                  <a:pt x="11485" y="7739"/>
                </a:cubicBezTo>
                <a:cubicBezTo>
                  <a:pt x="11506" y="7757"/>
                  <a:pt x="11539" y="7831"/>
                  <a:pt x="11559" y="7863"/>
                </a:cubicBezTo>
                <a:cubicBezTo>
                  <a:pt x="11594" y="7920"/>
                  <a:pt x="11602" y="7980"/>
                  <a:pt x="11633" y="8037"/>
                </a:cubicBezTo>
                <a:cubicBezTo>
                  <a:pt x="11646" y="8061"/>
                  <a:pt x="11668" y="8119"/>
                  <a:pt x="11683" y="8136"/>
                </a:cubicBezTo>
                <a:cubicBezTo>
                  <a:pt x="11691" y="8136"/>
                  <a:pt x="11700" y="8136"/>
                  <a:pt x="11708" y="8136"/>
                </a:cubicBezTo>
                <a:cubicBezTo>
                  <a:pt x="11702" y="8082"/>
                  <a:pt x="11705" y="8036"/>
                  <a:pt x="11708" y="7987"/>
                </a:cubicBezTo>
                <a:cubicBezTo>
                  <a:pt x="11714" y="7893"/>
                  <a:pt x="11718" y="7886"/>
                  <a:pt x="11782" y="7813"/>
                </a:cubicBezTo>
                <a:cubicBezTo>
                  <a:pt x="11842" y="7744"/>
                  <a:pt x="11900" y="7704"/>
                  <a:pt x="11981" y="7665"/>
                </a:cubicBezTo>
                <a:cubicBezTo>
                  <a:pt x="12067" y="7624"/>
                  <a:pt x="12140" y="7606"/>
                  <a:pt x="12229" y="7590"/>
                </a:cubicBezTo>
                <a:cubicBezTo>
                  <a:pt x="12314" y="7574"/>
                  <a:pt x="12388" y="7559"/>
                  <a:pt x="12477" y="7590"/>
                </a:cubicBezTo>
                <a:cubicBezTo>
                  <a:pt x="12509" y="7601"/>
                  <a:pt x="12574" y="7622"/>
                  <a:pt x="12601" y="7640"/>
                </a:cubicBezTo>
                <a:cubicBezTo>
                  <a:pt x="12664" y="7683"/>
                  <a:pt x="12679" y="7746"/>
                  <a:pt x="12700" y="7813"/>
                </a:cubicBezTo>
                <a:cubicBezTo>
                  <a:pt x="12721" y="7879"/>
                  <a:pt x="12723" y="7918"/>
                  <a:pt x="12725" y="7987"/>
                </a:cubicBezTo>
                <a:cubicBezTo>
                  <a:pt x="12727" y="8053"/>
                  <a:pt x="12739" y="8129"/>
                  <a:pt x="12750" y="8161"/>
                </a:cubicBezTo>
                <a:cubicBezTo>
                  <a:pt x="12739" y="8115"/>
                  <a:pt x="12714" y="8094"/>
                  <a:pt x="12725" y="8012"/>
                </a:cubicBezTo>
                <a:cubicBezTo>
                  <a:pt x="12734" y="7942"/>
                  <a:pt x="12751" y="7869"/>
                  <a:pt x="12799" y="7813"/>
                </a:cubicBezTo>
                <a:cubicBezTo>
                  <a:pt x="12864" y="7738"/>
                  <a:pt x="12958" y="7740"/>
                  <a:pt x="13047" y="7714"/>
                </a:cubicBezTo>
                <a:cubicBezTo>
                  <a:pt x="13102" y="7698"/>
                  <a:pt x="13141" y="7701"/>
                  <a:pt x="13196" y="7689"/>
                </a:cubicBezTo>
                <a:cubicBezTo>
                  <a:pt x="13251" y="7677"/>
                  <a:pt x="13285" y="7656"/>
                  <a:pt x="13345" y="7665"/>
                </a:cubicBezTo>
                <a:cubicBezTo>
                  <a:pt x="13369" y="7668"/>
                  <a:pt x="13422" y="7678"/>
                  <a:pt x="13444" y="7689"/>
                </a:cubicBezTo>
                <a:cubicBezTo>
                  <a:pt x="13498" y="7715"/>
                  <a:pt x="13556" y="7761"/>
                  <a:pt x="13618" y="7789"/>
                </a:cubicBezTo>
                <a:cubicBezTo>
                  <a:pt x="13662" y="7809"/>
                  <a:pt x="13674" y="7795"/>
                  <a:pt x="13717" y="7838"/>
                </a:cubicBezTo>
                <a:cubicBezTo>
                  <a:pt x="13765" y="7887"/>
                  <a:pt x="13771" y="7924"/>
                  <a:pt x="13816" y="7987"/>
                </a:cubicBezTo>
                <a:cubicBezTo>
                  <a:pt x="13851" y="7987"/>
                  <a:pt x="13864" y="7996"/>
                  <a:pt x="1386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4080" y="3732120"/>
            <a:ext cx="2419200" cy="196920"/>
          </a:xfrm>
          <a:custGeom>
            <a:avLst/>
            <a:gdLst/>
            <a:ahLst/>
            <a:rect l="l" t="t" r="r" b="b"/>
            <a:pathLst>
              <a:path w="6723" h="547">
                <a:moveTo>
                  <a:pt x="11460" y="10592"/>
                </a:moveTo>
                <a:cubicBezTo>
                  <a:pt x="11417" y="10578"/>
                  <a:pt x="11393" y="10616"/>
                  <a:pt x="11435" y="10666"/>
                </a:cubicBezTo>
                <a:cubicBezTo>
                  <a:pt x="11460" y="10666"/>
                  <a:pt x="11468" y="10666"/>
                  <a:pt x="11485" y="10666"/>
                </a:cubicBezTo>
                <a:cubicBezTo>
                  <a:pt x="11497" y="10621"/>
                  <a:pt x="11468" y="10403"/>
                  <a:pt x="11385" y="10517"/>
                </a:cubicBezTo>
                <a:cubicBezTo>
                  <a:pt x="11352" y="10563"/>
                  <a:pt x="11359" y="10800"/>
                  <a:pt x="11460" y="10716"/>
                </a:cubicBezTo>
                <a:cubicBezTo>
                  <a:pt x="11515" y="10670"/>
                  <a:pt x="11476" y="10588"/>
                  <a:pt x="11460" y="10567"/>
                </a:cubicBezTo>
                <a:cubicBezTo>
                  <a:pt x="11407" y="10590"/>
                  <a:pt x="11332" y="10716"/>
                  <a:pt x="11460" y="10716"/>
                </a:cubicBezTo>
                <a:cubicBezTo>
                  <a:pt x="11530" y="10681"/>
                  <a:pt x="11560" y="10654"/>
                  <a:pt x="11584" y="10592"/>
                </a:cubicBezTo>
              </a:path>
              <a:path w="6723" h="547">
                <a:moveTo>
                  <a:pt x="16123" y="10666"/>
                </a:moveTo>
                <a:cubicBezTo>
                  <a:pt x="16144" y="10623"/>
                  <a:pt x="16092" y="10563"/>
                  <a:pt x="16024" y="10567"/>
                </a:cubicBezTo>
                <a:cubicBezTo>
                  <a:pt x="15904" y="10574"/>
                  <a:pt x="15956" y="10755"/>
                  <a:pt x="15974" y="10815"/>
                </a:cubicBezTo>
                <a:cubicBezTo>
                  <a:pt x="16077" y="10796"/>
                  <a:pt x="16184" y="10723"/>
                  <a:pt x="16098" y="10592"/>
                </a:cubicBezTo>
                <a:cubicBezTo>
                  <a:pt x="16021" y="10475"/>
                  <a:pt x="15925" y="10655"/>
                  <a:pt x="15925" y="10716"/>
                </a:cubicBezTo>
                <a:cubicBezTo>
                  <a:pt x="15933" y="10724"/>
                  <a:pt x="15941" y="10732"/>
                  <a:pt x="15949" y="10740"/>
                </a:cubicBezTo>
                <a:cubicBezTo>
                  <a:pt x="16080" y="10682"/>
                  <a:pt x="16073" y="10662"/>
                  <a:pt x="16073" y="10517"/>
                </a:cubicBezTo>
                <a:cubicBezTo>
                  <a:pt x="15995" y="10545"/>
                  <a:pt x="15874" y="10624"/>
                  <a:pt x="15999" y="10666"/>
                </a:cubicBezTo>
              </a:path>
              <a:path w="6723" h="547">
                <a:moveTo>
                  <a:pt x="11559" y="10666"/>
                </a:moveTo>
                <a:cubicBezTo>
                  <a:pt x="11564" y="10687"/>
                  <a:pt x="11542" y="10707"/>
                  <a:pt x="11609" y="10790"/>
                </a:cubicBezTo>
                <a:cubicBezTo>
                  <a:pt x="11687" y="10886"/>
                  <a:pt x="11788" y="10910"/>
                  <a:pt x="11906" y="10914"/>
                </a:cubicBezTo>
                <a:cubicBezTo>
                  <a:pt x="12034" y="10918"/>
                  <a:pt x="12132" y="10903"/>
                  <a:pt x="12254" y="10864"/>
                </a:cubicBezTo>
                <a:cubicBezTo>
                  <a:pt x="12340" y="10837"/>
                  <a:pt x="12424" y="10787"/>
                  <a:pt x="12502" y="10740"/>
                </a:cubicBezTo>
                <a:cubicBezTo>
                  <a:pt x="12561" y="10705"/>
                  <a:pt x="12581" y="10686"/>
                  <a:pt x="12601" y="10616"/>
                </a:cubicBezTo>
                <a:cubicBezTo>
                  <a:pt x="12601" y="10592"/>
                  <a:pt x="12601" y="10583"/>
                  <a:pt x="12601" y="10567"/>
                </a:cubicBezTo>
                <a:cubicBezTo>
                  <a:pt x="12615" y="10608"/>
                  <a:pt x="12600" y="10606"/>
                  <a:pt x="12626" y="10641"/>
                </a:cubicBezTo>
                <a:cubicBezTo>
                  <a:pt x="12677" y="10709"/>
                  <a:pt x="12742" y="10767"/>
                  <a:pt x="12824" y="10790"/>
                </a:cubicBezTo>
                <a:cubicBezTo>
                  <a:pt x="12926" y="10819"/>
                  <a:pt x="13016" y="10810"/>
                  <a:pt x="13122" y="10790"/>
                </a:cubicBezTo>
                <a:cubicBezTo>
                  <a:pt x="13218" y="10772"/>
                  <a:pt x="13304" y="10721"/>
                  <a:pt x="13395" y="10691"/>
                </a:cubicBezTo>
                <a:cubicBezTo>
                  <a:pt x="13478" y="10663"/>
                  <a:pt x="13568" y="10639"/>
                  <a:pt x="13643" y="10592"/>
                </a:cubicBezTo>
                <a:cubicBezTo>
                  <a:pt x="13695" y="10559"/>
                  <a:pt x="13779" y="10518"/>
                  <a:pt x="13816" y="10468"/>
                </a:cubicBezTo>
                <a:cubicBezTo>
                  <a:pt x="13833" y="10446"/>
                  <a:pt x="13853" y="10385"/>
                  <a:pt x="13866" y="10368"/>
                </a:cubicBezTo>
                <a:cubicBezTo>
                  <a:pt x="13878" y="10473"/>
                  <a:pt x="13867" y="10493"/>
                  <a:pt x="13915" y="10592"/>
                </a:cubicBezTo>
                <a:cubicBezTo>
                  <a:pt x="13962" y="10690"/>
                  <a:pt x="13992" y="10695"/>
                  <a:pt x="14089" y="10740"/>
                </a:cubicBezTo>
                <a:cubicBezTo>
                  <a:pt x="14203" y="10793"/>
                  <a:pt x="14300" y="10753"/>
                  <a:pt x="14412" y="10740"/>
                </a:cubicBezTo>
                <a:cubicBezTo>
                  <a:pt x="14509" y="10729"/>
                  <a:pt x="14545" y="10730"/>
                  <a:pt x="14635" y="10691"/>
                </a:cubicBezTo>
                <a:cubicBezTo>
                  <a:pt x="14708" y="10659"/>
                  <a:pt x="14751" y="10619"/>
                  <a:pt x="14808" y="10567"/>
                </a:cubicBezTo>
                <a:cubicBezTo>
                  <a:pt x="14865" y="10515"/>
                  <a:pt x="14829" y="10521"/>
                  <a:pt x="14858" y="10468"/>
                </a:cubicBezTo>
                <a:cubicBezTo>
                  <a:pt x="14868" y="10487"/>
                  <a:pt x="14897" y="10515"/>
                  <a:pt x="14908" y="10542"/>
                </a:cubicBezTo>
                <a:cubicBezTo>
                  <a:pt x="14938" y="10616"/>
                  <a:pt x="14939" y="10682"/>
                  <a:pt x="15032" y="10716"/>
                </a:cubicBezTo>
                <a:cubicBezTo>
                  <a:pt x="15126" y="10750"/>
                  <a:pt x="15251" y="10751"/>
                  <a:pt x="15354" y="10740"/>
                </a:cubicBezTo>
                <a:cubicBezTo>
                  <a:pt x="15447" y="10730"/>
                  <a:pt x="15537" y="10718"/>
                  <a:pt x="15627" y="10691"/>
                </a:cubicBezTo>
                <a:cubicBezTo>
                  <a:pt x="15744" y="10656"/>
                  <a:pt x="15779" y="10620"/>
                  <a:pt x="15825" y="10517"/>
                </a:cubicBezTo>
                <a:cubicBezTo>
                  <a:pt x="15852" y="10456"/>
                  <a:pt x="15855" y="10453"/>
                  <a:pt x="15825" y="10418"/>
                </a:cubicBezTo>
                <a:cubicBezTo>
                  <a:pt x="15809" y="10418"/>
                  <a:pt x="15792" y="10418"/>
                  <a:pt x="15776" y="10418"/>
                </a:cubicBezTo>
              </a:path>
              <a:path w="6723" h="547">
                <a:moveTo>
                  <a:pt x="9649" y="10567"/>
                </a:moveTo>
                <a:cubicBezTo>
                  <a:pt x="9547" y="10491"/>
                  <a:pt x="9536" y="10700"/>
                  <a:pt x="9525" y="10765"/>
                </a:cubicBezTo>
                <a:cubicBezTo>
                  <a:pt x="9510" y="10853"/>
                  <a:pt x="9568" y="10807"/>
                  <a:pt x="9624" y="10790"/>
                </a:cubicBezTo>
                <a:cubicBezTo>
                  <a:pt x="9634" y="10727"/>
                  <a:pt x="9585" y="10433"/>
                  <a:pt x="9451" y="10567"/>
                </a:cubicBezTo>
                <a:cubicBezTo>
                  <a:pt x="9379" y="10639"/>
                  <a:pt x="9443" y="10935"/>
                  <a:pt x="9575" y="10840"/>
                </a:cubicBezTo>
                <a:cubicBezTo>
                  <a:pt x="9659" y="10780"/>
                  <a:pt x="9597" y="10651"/>
                  <a:pt x="9575" y="10592"/>
                </a:cubicBezTo>
                <a:cubicBezTo>
                  <a:pt x="9363" y="10591"/>
                  <a:pt x="9544" y="10803"/>
                  <a:pt x="9575" y="10790"/>
                </a:cubicBezTo>
                <a:cubicBezTo>
                  <a:pt x="9616" y="10749"/>
                  <a:pt x="9658" y="10707"/>
                  <a:pt x="9699" y="10666"/>
                </a:cubicBezTo>
              </a:path>
              <a:path w="6723" h="547">
                <a:moveTo>
                  <a:pt x="13891" y="10517"/>
                </a:moveTo>
                <a:cubicBezTo>
                  <a:pt x="13958" y="10517"/>
                  <a:pt x="13951" y="10515"/>
                  <a:pt x="13940" y="10468"/>
                </a:cubicBezTo>
                <a:cubicBezTo>
                  <a:pt x="13940" y="10460"/>
                  <a:pt x="13940" y="10451"/>
                  <a:pt x="13940" y="10443"/>
                </a:cubicBezTo>
                <a:cubicBezTo>
                  <a:pt x="13918" y="10500"/>
                  <a:pt x="13890" y="10575"/>
                  <a:pt x="13965" y="10616"/>
                </a:cubicBezTo>
                <a:cubicBezTo>
                  <a:pt x="13973" y="10616"/>
                  <a:pt x="13982" y="10616"/>
                  <a:pt x="13990" y="10616"/>
                </a:cubicBezTo>
                <a:cubicBezTo>
                  <a:pt x="13993" y="10582"/>
                  <a:pt x="13938" y="10357"/>
                  <a:pt x="13866" y="10468"/>
                </a:cubicBezTo>
                <a:cubicBezTo>
                  <a:pt x="13833" y="10518"/>
                  <a:pt x="13826" y="10664"/>
                  <a:pt x="13915" y="10567"/>
                </a:cubicBezTo>
                <a:cubicBezTo>
                  <a:pt x="13937" y="10523"/>
                  <a:pt x="13950" y="10511"/>
                  <a:pt x="13915" y="10492"/>
                </a:cubicBezTo>
                <a:cubicBezTo>
                  <a:pt x="13875" y="10452"/>
                  <a:pt x="13880" y="10492"/>
                  <a:pt x="13866" y="10542"/>
                </a:cubicBezTo>
              </a:path>
              <a:path w="6723" h="547">
                <a:moveTo>
                  <a:pt x="9525" y="10641"/>
                </a:moveTo>
                <a:cubicBezTo>
                  <a:pt x="9525" y="10666"/>
                  <a:pt x="9525" y="10674"/>
                  <a:pt x="9500" y="10666"/>
                </a:cubicBezTo>
                <a:cubicBezTo>
                  <a:pt x="9527" y="10697"/>
                  <a:pt x="9524" y="10718"/>
                  <a:pt x="9575" y="10765"/>
                </a:cubicBezTo>
                <a:cubicBezTo>
                  <a:pt x="9660" y="10844"/>
                  <a:pt x="9708" y="10835"/>
                  <a:pt x="9823" y="10864"/>
                </a:cubicBezTo>
                <a:cubicBezTo>
                  <a:pt x="9918" y="10888"/>
                  <a:pt x="9932" y="10882"/>
                  <a:pt x="10021" y="10864"/>
                </a:cubicBezTo>
                <a:cubicBezTo>
                  <a:pt x="10100" y="10848"/>
                  <a:pt x="10166" y="10818"/>
                  <a:pt x="10244" y="10790"/>
                </a:cubicBezTo>
                <a:cubicBezTo>
                  <a:pt x="10334" y="10758"/>
                  <a:pt x="10350" y="10730"/>
                  <a:pt x="10393" y="10641"/>
                </a:cubicBezTo>
                <a:cubicBezTo>
                  <a:pt x="10417" y="10591"/>
                  <a:pt x="10424" y="10598"/>
                  <a:pt x="10443" y="10567"/>
                </a:cubicBezTo>
                <a:cubicBezTo>
                  <a:pt x="10519" y="10632"/>
                  <a:pt x="10596" y="10702"/>
                  <a:pt x="10691" y="10740"/>
                </a:cubicBezTo>
                <a:cubicBezTo>
                  <a:pt x="10784" y="10777"/>
                  <a:pt x="10939" y="10780"/>
                  <a:pt x="11038" y="10765"/>
                </a:cubicBezTo>
                <a:cubicBezTo>
                  <a:pt x="11127" y="10751"/>
                  <a:pt x="11204" y="10699"/>
                  <a:pt x="11286" y="10666"/>
                </a:cubicBezTo>
                <a:cubicBezTo>
                  <a:pt x="11391" y="10624"/>
                  <a:pt x="11366" y="10614"/>
                  <a:pt x="11435" y="10542"/>
                </a:cubicBezTo>
                <a:cubicBezTo>
                  <a:pt x="11458" y="10518"/>
                  <a:pt x="11473" y="10505"/>
                  <a:pt x="11485" y="10492"/>
                </a:cubicBezTo>
                <a:cubicBezTo>
                  <a:pt x="11500" y="10540"/>
                  <a:pt x="11506" y="10592"/>
                  <a:pt x="11534" y="10641"/>
                </a:cubicBezTo>
                <a:cubicBezTo>
                  <a:pt x="11578" y="10719"/>
                  <a:pt x="11638" y="10800"/>
                  <a:pt x="11733" y="10815"/>
                </a:cubicBezTo>
                <a:cubicBezTo>
                  <a:pt x="11855" y="10835"/>
                  <a:pt x="11988" y="10792"/>
                  <a:pt x="12105" y="10765"/>
                </a:cubicBezTo>
                <a:cubicBezTo>
                  <a:pt x="12238" y="10734"/>
                  <a:pt x="12352" y="10691"/>
                  <a:pt x="12477" y="10641"/>
                </a:cubicBezTo>
                <a:cubicBezTo>
                  <a:pt x="12542" y="10615"/>
                  <a:pt x="12556" y="10526"/>
                  <a:pt x="12626" y="10517"/>
                </a:cubicBezTo>
                <a:cubicBezTo>
                  <a:pt x="12671" y="10511"/>
                  <a:pt x="12640" y="10476"/>
                  <a:pt x="12675" y="10567"/>
                </a:cubicBezTo>
                <a:cubicBezTo>
                  <a:pt x="12702" y="10637"/>
                  <a:pt x="12667" y="10679"/>
                  <a:pt x="12750" y="10740"/>
                </a:cubicBezTo>
                <a:cubicBezTo>
                  <a:pt x="12838" y="10805"/>
                  <a:pt x="12932" y="10843"/>
                  <a:pt x="13047" y="10840"/>
                </a:cubicBezTo>
                <a:cubicBezTo>
                  <a:pt x="13156" y="10837"/>
                  <a:pt x="13288" y="10797"/>
                  <a:pt x="13395" y="10765"/>
                </a:cubicBezTo>
                <a:cubicBezTo>
                  <a:pt x="13598" y="10704"/>
                  <a:pt x="13830" y="10647"/>
                  <a:pt x="14015" y="10542"/>
                </a:cubicBezTo>
                <a:cubicBezTo>
                  <a:pt x="14045" y="10525"/>
                  <a:pt x="14119" y="10507"/>
                  <a:pt x="14139" y="10492"/>
                </a:cubicBezTo>
                <a:cubicBezTo>
                  <a:pt x="14139" y="10484"/>
                  <a:pt x="14139" y="10476"/>
                  <a:pt x="14139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Steps if the object is on a coordinat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each point and move it the direction and number of spaces ind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each point and draw the new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 will look like:  (x, y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x + 3, y – 2) Which means move the x positive 3 and move the y down negative 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9760" y="3589200"/>
            <a:ext cx="3100320" cy="652680"/>
          </a:xfrm>
          <a:custGeom>
            <a:avLst/>
            <a:gdLst/>
            <a:ahLst/>
            <a:rect l="l" t="t" r="r" b="b"/>
            <a:pathLst>
              <a:path w="8609" h="1812">
                <a:moveTo>
                  <a:pt x="13667" y="10815"/>
                </a:moveTo>
                <a:cubicBezTo>
                  <a:pt x="13675" y="10815"/>
                  <a:pt x="13684" y="10815"/>
                  <a:pt x="13692" y="10815"/>
                </a:cubicBezTo>
              </a:path>
              <a:path w="8609" h="1812">
                <a:moveTo>
                  <a:pt x="13692" y="10815"/>
                </a:moveTo>
                <a:lnTo>
                  <a:pt x="13692" y="10815"/>
                </a:lnTo>
              </a:path>
              <a:path w="8609" h="1812">
                <a:moveTo>
                  <a:pt x="14089" y="10294"/>
                </a:moveTo>
                <a:cubicBezTo>
                  <a:pt x="14091" y="10256"/>
                  <a:pt x="14100" y="9993"/>
                  <a:pt x="14139" y="10071"/>
                </a:cubicBezTo>
              </a:path>
              <a:path w="8609" h="1812">
                <a:moveTo>
                  <a:pt x="14585" y="10765"/>
                </a:moveTo>
                <a:lnTo>
                  <a:pt x="14585" y="10765"/>
                </a:lnTo>
              </a:path>
              <a:path w="8609" h="1812">
                <a:moveTo>
                  <a:pt x="14585" y="10790"/>
                </a:moveTo>
                <a:cubicBezTo>
                  <a:pt x="14610" y="10815"/>
                  <a:pt x="14618" y="10823"/>
                  <a:pt x="14635" y="10840"/>
                </a:cubicBezTo>
              </a:path>
              <a:path w="8609" h="1812">
                <a:moveTo>
                  <a:pt x="14759" y="10517"/>
                </a:moveTo>
                <a:cubicBezTo>
                  <a:pt x="14767" y="10492"/>
                  <a:pt x="14776" y="10468"/>
                  <a:pt x="14784" y="10443"/>
                </a:cubicBezTo>
              </a:path>
              <a:path w="8609" h="1812">
                <a:moveTo>
                  <a:pt x="14461" y="10765"/>
                </a:moveTo>
                <a:cubicBezTo>
                  <a:pt x="14467" y="10875"/>
                  <a:pt x="14478" y="10979"/>
                  <a:pt x="14486" y="11088"/>
                </a:cubicBezTo>
              </a:path>
              <a:path w="8609" h="1812">
                <a:moveTo>
                  <a:pt x="16049" y="10393"/>
                </a:moveTo>
                <a:cubicBezTo>
                  <a:pt x="16120" y="10450"/>
                  <a:pt x="16182" y="10502"/>
                  <a:pt x="16247" y="10567"/>
                </a:cubicBezTo>
              </a:path>
              <a:path w="8609" h="1812">
                <a:moveTo>
                  <a:pt x="16073" y="10592"/>
                </a:moveTo>
                <a:cubicBezTo>
                  <a:pt x="16109" y="10499"/>
                  <a:pt x="16128" y="10406"/>
                  <a:pt x="16222" y="10368"/>
                </a:cubicBezTo>
              </a:path>
              <a:path w="8609" h="1812">
                <a:moveTo>
                  <a:pt x="16594" y="11137"/>
                </a:moveTo>
                <a:cubicBezTo>
                  <a:pt x="16637" y="11083"/>
                  <a:pt x="16716" y="11004"/>
                  <a:pt x="16743" y="10964"/>
                </a:cubicBezTo>
                <a:cubicBezTo>
                  <a:pt x="16743" y="10956"/>
                  <a:pt x="16743" y="10947"/>
                  <a:pt x="16743" y="10939"/>
                </a:cubicBezTo>
              </a:path>
              <a:path w="8609" h="1812">
                <a:moveTo>
                  <a:pt x="19447" y="10765"/>
                </a:moveTo>
                <a:cubicBezTo>
                  <a:pt x="19520" y="10838"/>
                  <a:pt x="19551" y="10903"/>
                  <a:pt x="19621" y="10889"/>
                </a:cubicBezTo>
              </a:path>
              <a:path w="8609" h="1812">
                <a:moveTo>
                  <a:pt x="19621" y="10889"/>
                </a:moveTo>
                <a:lnTo>
                  <a:pt x="19621" y="10889"/>
                </a:lnTo>
              </a:path>
              <a:path w="8609" h="1812">
                <a:moveTo>
                  <a:pt x="19323" y="10592"/>
                </a:moveTo>
                <a:cubicBezTo>
                  <a:pt x="19339" y="10575"/>
                  <a:pt x="19356" y="10559"/>
                  <a:pt x="19372" y="10542"/>
                </a:cubicBezTo>
              </a:path>
              <a:path w="8609" h="1812">
                <a:moveTo>
                  <a:pt x="19993" y="10170"/>
                </a:moveTo>
                <a:cubicBezTo>
                  <a:pt x="20059" y="10090"/>
                  <a:pt x="20105" y="10014"/>
                  <a:pt x="20191" y="9971"/>
                </a:cubicBezTo>
              </a:path>
              <a:path w="8609" h="1812">
                <a:moveTo>
                  <a:pt x="20191" y="9971"/>
                </a:moveTo>
                <a:lnTo>
                  <a:pt x="20191" y="9971"/>
                </a:lnTo>
              </a:path>
              <a:path w="8609" h="1812">
                <a:moveTo>
                  <a:pt x="22076" y="11286"/>
                </a:moveTo>
                <a:cubicBezTo>
                  <a:pt x="22129" y="11443"/>
                  <a:pt x="22221" y="11596"/>
                  <a:pt x="22275" y="11757"/>
                </a:cubicBezTo>
                <a:cubicBezTo>
                  <a:pt x="22275" y="11804"/>
                  <a:pt x="22257" y="11800"/>
                  <a:pt x="22200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95920" y="3803760"/>
            <a:ext cx="17280" cy="125280"/>
          </a:xfrm>
          <a:custGeom>
            <a:avLst/>
            <a:gdLst/>
            <a:ahLst/>
            <a:rect l="l" t="t" r="r" b="b"/>
            <a:pathLst>
              <a:path w="51" h="348">
                <a:moveTo>
                  <a:pt x="13320" y="10914"/>
                </a:moveTo>
                <a:cubicBezTo>
                  <a:pt x="13320" y="10797"/>
                  <a:pt x="13272" y="10632"/>
                  <a:pt x="13370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46760" y="3652920"/>
            <a:ext cx="447480" cy="473040"/>
          </a:xfrm>
          <a:custGeom>
            <a:avLst/>
            <a:gdLst/>
            <a:ahLst/>
            <a:rect l="l" t="t" r="r" b="b"/>
            <a:pathLst>
              <a:path w="1241" h="1316">
                <a:moveTo>
                  <a:pt x="13767" y="11286"/>
                </a:moveTo>
                <a:cubicBezTo>
                  <a:pt x="13850" y="11286"/>
                  <a:pt x="13932" y="11286"/>
                  <a:pt x="14015" y="11286"/>
                </a:cubicBezTo>
                <a:cubicBezTo>
                  <a:pt x="14022" y="11286"/>
                  <a:pt x="13877" y="11236"/>
                  <a:pt x="13816" y="11187"/>
                </a:cubicBezTo>
                <a:cubicBezTo>
                  <a:pt x="13770" y="11141"/>
                  <a:pt x="13756" y="11128"/>
                  <a:pt x="13742" y="11088"/>
                </a:cubicBezTo>
              </a:path>
              <a:path w="1241" h="1316">
                <a:moveTo>
                  <a:pt x="13791" y="10964"/>
                </a:moveTo>
                <a:cubicBezTo>
                  <a:pt x="13862" y="10964"/>
                  <a:pt x="14035" y="10934"/>
                  <a:pt x="14089" y="10988"/>
                </a:cubicBezTo>
                <a:cubicBezTo>
                  <a:pt x="14081" y="10988"/>
                  <a:pt x="14072" y="10988"/>
                  <a:pt x="14064" y="10988"/>
                </a:cubicBezTo>
              </a:path>
              <a:path w="1241" h="1316">
                <a:moveTo>
                  <a:pt x="13965" y="10616"/>
                </a:moveTo>
                <a:cubicBezTo>
                  <a:pt x="13942" y="10698"/>
                  <a:pt x="13978" y="10870"/>
                  <a:pt x="14114" y="10790"/>
                </a:cubicBezTo>
                <a:cubicBezTo>
                  <a:pt x="14215" y="10730"/>
                  <a:pt x="14048" y="10658"/>
                  <a:pt x="14015" y="10641"/>
                </a:cubicBezTo>
                <a:cubicBezTo>
                  <a:pt x="14134" y="10598"/>
                  <a:pt x="14235" y="10592"/>
                  <a:pt x="14362" y="10592"/>
                </a:cubicBezTo>
                <a:cubicBezTo>
                  <a:pt x="14370" y="10592"/>
                  <a:pt x="14379" y="10592"/>
                  <a:pt x="14387" y="10592"/>
                </a:cubicBezTo>
              </a:path>
              <a:path w="1241" h="1316">
                <a:moveTo>
                  <a:pt x="13767" y="10393"/>
                </a:moveTo>
                <a:cubicBezTo>
                  <a:pt x="13855" y="10421"/>
                  <a:pt x="14074" y="10535"/>
                  <a:pt x="14163" y="10492"/>
                </a:cubicBezTo>
                <a:cubicBezTo>
                  <a:pt x="14220" y="10464"/>
                  <a:pt x="14071" y="10422"/>
                  <a:pt x="14015" y="10393"/>
                </a:cubicBezTo>
                <a:cubicBezTo>
                  <a:pt x="14083" y="10393"/>
                  <a:pt x="14209" y="10457"/>
                  <a:pt x="14263" y="10418"/>
                </a:cubicBezTo>
                <a:cubicBezTo>
                  <a:pt x="14271" y="10393"/>
                  <a:pt x="14280" y="10369"/>
                  <a:pt x="14288" y="10344"/>
                </a:cubicBezTo>
              </a:path>
              <a:path w="1241" h="1316">
                <a:moveTo>
                  <a:pt x="13940" y="10145"/>
                </a:moveTo>
                <a:cubicBezTo>
                  <a:pt x="14063" y="10156"/>
                  <a:pt x="14173" y="10191"/>
                  <a:pt x="14288" y="10170"/>
                </a:cubicBezTo>
              </a:path>
              <a:path w="1241" h="1316">
                <a:moveTo>
                  <a:pt x="14560" y="10964"/>
                </a:moveTo>
                <a:cubicBezTo>
                  <a:pt x="14566" y="10933"/>
                  <a:pt x="14622" y="10745"/>
                  <a:pt x="14585" y="10716"/>
                </a:cubicBezTo>
                <a:cubicBezTo>
                  <a:pt x="14577" y="10716"/>
                  <a:pt x="14568" y="10716"/>
                  <a:pt x="14560" y="10716"/>
                </a:cubicBezTo>
              </a:path>
              <a:path w="1241" h="1316">
                <a:moveTo>
                  <a:pt x="14585" y="11385"/>
                </a:moveTo>
                <a:cubicBezTo>
                  <a:pt x="14658" y="11409"/>
                  <a:pt x="14735" y="11445"/>
                  <a:pt x="14808" y="11460"/>
                </a:cubicBezTo>
                <a:cubicBezTo>
                  <a:pt x="14843" y="11382"/>
                  <a:pt x="14850" y="11364"/>
                  <a:pt x="14833" y="11286"/>
                </a:cubicBezTo>
              </a:path>
              <a:path w="1241" h="1316">
                <a:moveTo>
                  <a:pt x="14734" y="11187"/>
                </a:moveTo>
                <a:cubicBezTo>
                  <a:pt x="14734" y="11113"/>
                  <a:pt x="14763" y="11063"/>
                  <a:pt x="14684" y="11063"/>
                </a:cubicBezTo>
                <a:cubicBezTo>
                  <a:pt x="14676" y="11063"/>
                  <a:pt x="14668" y="11063"/>
                  <a:pt x="14660" y="11063"/>
                </a:cubicBezTo>
                <a:cubicBezTo>
                  <a:pt x="14685" y="11126"/>
                  <a:pt x="14758" y="11201"/>
                  <a:pt x="14833" y="11137"/>
                </a:cubicBezTo>
                <a:cubicBezTo>
                  <a:pt x="14841" y="11121"/>
                  <a:pt x="14850" y="11104"/>
                  <a:pt x="14858" y="11088"/>
                </a:cubicBezTo>
              </a:path>
              <a:path w="1241" h="1316">
                <a:moveTo>
                  <a:pt x="14635" y="10716"/>
                </a:moveTo>
                <a:cubicBezTo>
                  <a:pt x="14662" y="10849"/>
                  <a:pt x="14755" y="10813"/>
                  <a:pt x="14858" y="10840"/>
                </a:cubicBezTo>
                <a:cubicBezTo>
                  <a:pt x="14875" y="10848"/>
                  <a:pt x="14891" y="10856"/>
                  <a:pt x="14908" y="10864"/>
                </a:cubicBezTo>
              </a:path>
              <a:path w="1241" h="1316">
                <a:moveTo>
                  <a:pt x="14784" y="10914"/>
                </a:moveTo>
                <a:cubicBezTo>
                  <a:pt x="14817" y="10826"/>
                  <a:pt x="14844" y="10756"/>
                  <a:pt x="14858" y="10666"/>
                </a:cubicBezTo>
              </a:path>
              <a:path w="1241" h="1316">
                <a:moveTo>
                  <a:pt x="14610" y="10468"/>
                </a:moveTo>
                <a:cubicBezTo>
                  <a:pt x="14696" y="10482"/>
                  <a:pt x="14829" y="10584"/>
                  <a:pt x="14908" y="10567"/>
                </a:cubicBezTo>
                <a:cubicBezTo>
                  <a:pt x="14972" y="10554"/>
                  <a:pt x="14976" y="10462"/>
                  <a:pt x="14982" y="10418"/>
                </a:cubicBezTo>
              </a:path>
              <a:path w="1241" h="1316">
                <a:moveTo>
                  <a:pt x="14461" y="10864"/>
                </a:moveTo>
                <a:cubicBezTo>
                  <a:pt x="14403" y="10864"/>
                  <a:pt x="14346" y="10864"/>
                  <a:pt x="14288" y="10864"/>
                </a:cubicBezTo>
                <a:cubicBezTo>
                  <a:pt x="14389" y="10843"/>
                  <a:pt x="14481" y="10840"/>
                  <a:pt x="1458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1800" y="3429000"/>
            <a:ext cx="946080" cy="938160"/>
          </a:xfrm>
          <a:custGeom>
            <a:avLst/>
            <a:gdLst/>
            <a:ahLst/>
            <a:rect l="l" t="t" r="r" b="b"/>
            <a:pathLst>
              <a:path w="2630" h="2605">
                <a:moveTo>
                  <a:pt x="15503" y="12129"/>
                </a:moveTo>
                <a:cubicBezTo>
                  <a:pt x="15583" y="11997"/>
                  <a:pt x="15673" y="11826"/>
                  <a:pt x="15751" y="11683"/>
                </a:cubicBezTo>
                <a:cubicBezTo>
                  <a:pt x="15852" y="11498"/>
                  <a:pt x="16009" y="11292"/>
                  <a:pt x="16098" y="11112"/>
                </a:cubicBezTo>
              </a:path>
              <a:path w="2630" h="2605">
                <a:moveTo>
                  <a:pt x="15602" y="11311"/>
                </a:moveTo>
                <a:cubicBezTo>
                  <a:pt x="15712" y="11201"/>
                  <a:pt x="15834" y="11108"/>
                  <a:pt x="15974" y="11038"/>
                </a:cubicBezTo>
                <a:cubicBezTo>
                  <a:pt x="15999" y="11030"/>
                  <a:pt x="16024" y="11021"/>
                  <a:pt x="16049" y="11013"/>
                </a:cubicBezTo>
                <a:cubicBezTo>
                  <a:pt x="16067" y="11108"/>
                  <a:pt x="16142" y="11181"/>
                  <a:pt x="16197" y="11261"/>
                </a:cubicBezTo>
              </a:path>
              <a:path w="2630" h="2605">
                <a:moveTo>
                  <a:pt x="16470" y="10120"/>
                </a:moveTo>
                <a:cubicBezTo>
                  <a:pt x="16516" y="10197"/>
                  <a:pt x="16554" y="10225"/>
                  <a:pt x="16619" y="10145"/>
                </a:cubicBezTo>
                <a:cubicBezTo>
                  <a:pt x="16704" y="10040"/>
                  <a:pt x="16639" y="10008"/>
                  <a:pt x="16570" y="9922"/>
                </a:cubicBezTo>
                <a:cubicBezTo>
                  <a:pt x="16644" y="9935"/>
                  <a:pt x="16791" y="9999"/>
                  <a:pt x="16842" y="9897"/>
                </a:cubicBezTo>
                <a:cubicBezTo>
                  <a:pt x="16842" y="9864"/>
                  <a:pt x="16842" y="9831"/>
                  <a:pt x="16842" y="9798"/>
                </a:cubicBezTo>
              </a:path>
              <a:path w="2630" h="2605">
                <a:moveTo>
                  <a:pt x="16793" y="9699"/>
                </a:moveTo>
                <a:cubicBezTo>
                  <a:pt x="16935" y="9770"/>
                  <a:pt x="16979" y="9791"/>
                  <a:pt x="17066" y="9847"/>
                </a:cubicBezTo>
                <a:cubicBezTo>
                  <a:pt x="17105" y="9908"/>
                  <a:pt x="16982" y="9834"/>
                  <a:pt x="16942" y="9773"/>
                </a:cubicBezTo>
                <a:cubicBezTo>
                  <a:pt x="16853" y="9638"/>
                  <a:pt x="16876" y="9596"/>
                  <a:pt x="16966" y="9525"/>
                </a:cubicBezTo>
                <a:cubicBezTo>
                  <a:pt x="17060" y="9619"/>
                  <a:pt x="17118" y="9692"/>
                  <a:pt x="16966" y="9748"/>
                </a:cubicBezTo>
              </a:path>
              <a:path w="2630" h="2605">
                <a:moveTo>
                  <a:pt x="17016" y="10567"/>
                </a:moveTo>
                <a:cubicBezTo>
                  <a:pt x="17016" y="10542"/>
                  <a:pt x="17016" y="10534"/>
                  <a:pt x="17016" y="10517"/>
                </a:cubicBezTo>
                <a:cubicBezTo>
                  <a:pt x="16923" y="10517"/>
                  <a:pt x="16881" y="10587"/>
                  <a:pt x="16917" y="10691"/>
                </a:cubicBezTo>
                <a:cubicBezTo>
                  <a:pt x="16973" y="10852"/>
                  <a:pt x="17165" y="10904"/>
                  <a:pt x="17165" y="10691"/>
                </a:cubicBezTo>
                <a:cubicBezTo>
                  <a:pt x="17157" y="10658"/>
                  <a:pt x="17148" y="10625"/>
                  <a:pt x="17140" y="10592"/>
                </a:cubicBezTo>
              </a:path>
              <a:path w="2630" h="2605">
                <a:moveTo>
                  <a:pt x="16793" y="10443"/>
                </a:moveTo>
                <a:cubicBezTo>
                  <a:pt x="16953" y="10475"/>
                  <a:pt x="17065" y="10599"/>
                  <a:pt x="17214" y="10641"/>
                </a:cubicBezTo>
                <a:cubicBezTo>
                  <a:pt x="17214" y="10633"/>
                  <a:pt x="17214" y="10624"/>
                  <a:pt x="17214" y="10616"/>
                </a:cubicBezTo>
              </a:path>
              <a:path w="2630" h="2605">
                <a:moveTo>
                  <a:pt x="17239" y="10344"/>
                </a:moveTo>
                <a:cubicBezTo>
                  <a:pt x="17232" y="10444"/>
                  <a:pt x="17277" y="10635"/>
                  <a:pt x="17413" y="10468"/>
                </a:cubicBezTo>
                <a:cubicBezTo>
                  <a:pt x="17495" y="10368"/>
                  <a:pt x="17325" y="10273"/>
                  <a:pt x="17239" y="10294"/>
                </a:cubicBezTo>
                <a:cubicBezTo>
                  <a:pt x="17239" y="10319"/>
                  <a:pt x="17239" y="10327"/>
                  <a:pt x="17239" y="10294"/>
                </a:cubicBezTo>
              </a:path>
              <a:path w="2630" h="2605">
                <a:moveTo>
                  <a:pt x="17338" y="10195"/>
                </a:moveTo>
                <a:cubicBezTo>
                  <a:pt x="17361" y="10200"/>
                  <a:pt x="17561" y="10273"/>
                  <a:pt x="17562" y="10269"/>
                </a:cubicBezTo>
                <a:cubicBezTo>
                  <a:pt x="17598" y="10171"/>
                  <a:pt x="17514" y="10108"/>
                  <a:pt x="17462" y="10046"/>
                </a:cubicBezTo>
                <a:cubicBezTo>
                  <a:pt x="17462" y="10054"/>
                  <a:pt x="17462" y="10063"/>
                  <a:pt x="17462" y="10071"/>
                </a:cubicBezTo>
                <a:cubicBezTo>
                  <a:pt x="17545" y="10115"/>
                  <a:pt x="17765" y="10202"/>
                  <a:pt x="17735" y="9996"/>
                </a:cubicBezTo>
                <a:cubicBezTo>
                  <a:pt x="17713" y="9849"/>
                  <a:pt x="17564" y="9913"/>
                  <a:pt x="17487" y="9947"/>
                </a:cubicBezTo>
              </a:path>
              <a:path w="2630" h="2605">
                <a:moveTo>
                  <a:pt x="17785" y="9872"/>
                </a:moveTo>
                <a:cubicBezTo>
                  <a:pt x="17810" y="9889"/>
                  <a:pt x="17834" y="9905"/>
                  <a:pt x="17859" y="9922"/>
                </a:cubicBezTo>
                <a:cubicBezTo>
                  <a:pt x="17886" y="9922"/>
                  <a:pt x="17803" y="9881"/>
                  <a:pt x="17785" y="9798"/>
                </a:cubicBezTo>
                <a:cubicBezTo>
                  <a:pt x="17738" y="9577"/>
                  <a:pt x="18018" y="9640"/>
                  <a:pt x="18132" y="9699"/>
                </a:cubicBezTo>
                <a:cubicBezTo>
                  <a:pt x="18132" y="9707"/>
                  <a:pt x="18132" y="9715"/>
                  <a:pt x="18132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19920" y="3598920"/>
            <a:ext cx="482760" cy="687240"/>
          </a:xfrm>
          <a:custGeom>
            <a:avLst/>
            <a:gdLst/>
            <a:ahLst/>
            <a:rect l="l" t="t" r="r" b="b"/>
            <a:pathLst>
              <a:path w="1340" h="1911">
                <a:moveTo>
                  <a:pt x="19248" y="11485"/>
                </a:moveTo>
                <a:cubicBezTo>
                  <a:pt x="19293" y="11584"/>
                  <a:pt x="19387" y="11774"/>
                  <a:pt x="19372" y="11832"/>
                </a:cubicBezTo>
              </a:path>
              <a:path w="1340" h="1911">
                <a:moveTo>
                  <a:pt x="19224" y="11807"/>
                </a:moveTo>
                <a:cubicBezTo>
                  <a:pt x="19277" y="11837"/>
                  <a:pt x="19325" y="11867"/>
                  <a:pt x="19372" y="11906"/>
                </a:cubicBezTo>
                <a:cubicBezTo>
                  <a:pt x="19424" y="11772"/>
                  <a:pt x="19492" y="11620"/>
                  <a:pt x="19596" y="11534"/>
                </a:cubicBezTo>
              </a:path>
              <a:path w="1340" h="1911">
                <a:moveTo>
                  <a:pt x="19323" y="11063"/>
                </a:moveTo>
                <a:cubicBezTo>
                  <a:pt x="19348" y="11063"/>
                  <a:pt x="19356" y="11063"/>
                  <a:pt x="19323" y="11063"/>
                </a:cubicBezTo>
              </a:path>
              <a:path w="1340" h="1911">
                <a:moveTo>
                  <a:pt x="19224" y="11013"/>
                </a:moveTo>
                <a:cubicBezTo>
                  <a:pt x="19256" y="11020"/>
                  <a:pt x="19407" y="11092"/>
                  <a:pt x="19397" y="11112"/>
                </a:cubicBezTo>
                <a:cubicBezTo>
                  <a:pt x="19348" y="11204"/>
                  <a:pt x="19274" y="10899"/>
                  <a:pt x="19273" y="10889"/>
                </a:cubicBezTo>
                <a:cubicBezTo>
                  <a:pt x="19270" y="10853"/>
                  <a:pt x="19299" y="10839"/>
                  <a:pt x="19323" y="10815"/>
                </a:cubicBezTo>
              </a:path>
              <a:path w="1340" h="1911">
                <a:moveTo>
                  <a:pt x="19645" y="10468"/>
                </a:moveTo>
                <a:cubicBezTo>
                  <a:pt x="19632" y="10543"/>
                  <a:pt x="19636" y="10803"/>
                  <a:pt x="19794" y="10765"/>
                </a:cubicBezTo>
                <a:cubicBezTo>
                  <a:pt x="19900" y="10740"/>
                  <a:pt x="19704" y="10561"/>
                  <a:pt x="19670" y="10542"/>
                </a:cubicBezTo>
                <a:cubicBezTo>
                  <a:pt x="19770" y="10525"/>
                  <a:pt x="19955" y="10678"/>
                  <a:pt x="20042" y="10765"/>
                </a:cubicBezTo>
                <a:cubicBezTo>
                  <a:pt x="20042" y="10793"/>
                  <a:pt x="20040" y="10799"/>
                  <a:pt x="20017" y="10765"/>
                </a:cubicBezTo>
              </a:path>
              <a:path w="1340" h="1911">
                <a:moveTo>
                  <a:pt x="19695" y="10393"/>
                </a:moveTo>
                <a:cubicBezTo>
                  <a:pt x="19773" y="10432"/>
                  <a:pt x="19895" y="10482"/>
                  <a:pt x="19943" y="10542"/>
                </a:cubicBezTo>
                <a:cubicBezTo>
                  <a:pt x="19894" y="10396"/>
                  <a:pt x="19780" y="10367"/>
                  <a:pt x="19993" y="10418"/>
                </a:cubicBezTo>
                <a:cubicBezTo>
                  <a:pt x="20154" y="10456"/>
                  <a:pt x="20123" y="10414"/>
                  <a:pt x="20166" y="10269"/>
                </a:cubicBezTo>
              </a:path>
              <a:path w="1340" h="1911">
                <a:moveTo>
                  <a:pt x="19893" y="9996"/>
                </a:moveTo>
                <a:cubicBezTo>
                  <a:pt x="19990" y="10045"/>
                  <a:pt x="20134" y="10166"/>
                  <a:pt x="20216" y="10244"/>
                </a:cubicBezTo>
                <a:cubicBezTo>
                  <a:pt x="20216" y="10285"/>
                  <a:pt x="20216" y="10277"/>
                  <a:pt x="20216" y="10195"/>
                </a:cubicBezTo>
              </a:path>
              <a:path w="1340" h="1911">
                <a:moveTo>
                  <a:pt x="20191" y="10939"/>
                </a:moveTo>
                <a:cubicBezTo>
                  <a:pt x="20191" y="10938"/>
                  <a:pt x="20359" y="10666"/>
                  <a:pt x="20389" y="10740"/>
                </a:cubicBezTo>
                <a:cubicBezTo>
                  <a:pt x="20389" y="10843"/>
                  <a:pt x="20387" y="10880"/>
                  <a:pt x="20340" y="10939"/>
                </a:cubicBezTo>
                <a:cubicBezTo>
                  <a:pt x="20340" y="10947"/>
                  <a:pt x="20340" y="10956"/>
                  <a:pt x="20340" y="10964"/>
                </a:cubicBezTo>
                <a:cubicBezTo>
                  <a:pt x="20422" y="10919"/>
                  <a:pt x="20617" y="10823"/>
                  <a:pt x="20538" y="11013"/>
                </a:cubicBezTo>
                <a:cubicBezTo>
                  <a:pt x="20478" y="11157"/>
                  <a:pt x="20396" y="11096"/>
                  <a:pt x="20290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31080" y="3633840"/>
            <a:ext cx="652680" cy="590400"/>
          </a:xfrm>
          <a:custGeom>
            <a:avLst/>
            <a:gdLst/>
            <a:ahLst/>
            <a:rect l="l" t="t" r="r" b="b"/>
            <a:pathLst>
              <a:path w="1811" h="1638">
                <a:moveTo>
                  <a:pt x="22076" y="11609"/>
                </a:moveTo>
                <a:cubicBezTo>
                  <a:pt x="22121" y="11647"/>
                  <a:pt x="22305" y="11828"/>
                  <a:pt x="22374" y="11708"/>
                </a:cubicBezTo>
                <a:cubicBezTo>
                  <a:pt x="22444" y="11585"/>
                  <a:pt x="22408" y="11536"/>
                  <a:pt x="22523" y="11460"/>
                </a:cubicBezTo>
              </a:path>
              <a:path w="1811" h="1638">
                <a:moveTo>
                  <a:pt x="21903" y="10790"/>
                </a:moveTo>
                <a:cubicBezTo>
                  <a:pt x="21850" y="10790"/>
                  <a:pt x="21840" y="10783"/>
                  <a:pt x="21779" y="10765"/>
                </a:cubicBezTo>
                <a:cubicBezTo>
                  <a:pt x="21766" y="10832"/>
                  <a:pt x="21719" y="11244"/>
                  <a:pt x="21927" y="11112"/>
                </a:cubicBezTo>
                <a:cubicBezTo>
                  <a:pt x="21944" y="11079"/>
                  <a:pt x="21960" y="11046"/>
                  <a:pt x="21977" y="11013"/>
                </a:cubicBezTo>
              </a:path>
              <a:path w="1811" h="1638">
                <a:moveTo>
                  <a:pt x="21754" y="10666"/>
                </a:moveTo>
                <a:cubicBezTo>
                  <a:pt x="21841" y="10754"/>
                  <a:pt x="21935" y="10878"/>
                  <a:pt x="22027" y="10939"/>
                </a:cubicBezTo>
              </a:path>
              <a:path w="1811" h="1638">
                <a:moveTo>
                  <a:pt x="22027" y="10616"/>
                </a:moveTo>
                <a:cubicBezTo>
                  <a:pt x="22017" y="10704"/>
                  <a:pt x="22001" y="11056"/>
                  <a:pt x="22200" y="10914"/>
                </a:cubicBezTo>
                <a:cubicBezTo>
                  <a:pt x="22358" y="10802"/>
                  <a:pt x="22232" y="10627"/>
                  <a:pt x="22076" y="10641"/>
                </a:cubicBezTo>
                <a:cubicBezTo>
                  <a:pt x="22060" y="10649"/>
                  <a:pt x="22043" y="10658"/>
                  <a:pt x="22027" y="10666"/>
                </a:cubicBezTo>
              </a:path>
              <a:path w="1811" h="1638">
                <a:moveTo>
                  <a:pt x="22151" y="10517"/>
                </a:moveTo>
                <a:cubicBezTo>
                  <a:pt x="22205" y="10587"/>
                  <a:pt x="22368" y="10779"/>
                  <a:pt x="22374" y="10567"/>
                </a:cubicBezTo>
                <a:cubicBezTo>
                  <a:pt x="22366" y="10526"/>
                  <a:pt x="22357" y="10484"/>
                  <a:pt x="22349" y="10443"/>
                </a:cubicBezTo>
                <a:cubicBezTo>
                  <a:pt x="22341" y="10435"/>
                  <a:pt x="22332" y="10426"/>
                  <a:pt x="22324" y="10418"/>
                </a:cubicBezTo>
                <a:cubicBezTo>
                  <a:pt x="22341" y="10461"/>
                  <a:pt x="22442" y="10580"/>
                  <a:pt x="22498" y="10492"/>
                </a:cubicBezTo>
                <a:cubicBezTo>
                  <a:pt x="22605" y="10326"/>
                  <a:pt x="22410" y="10323"/>
                  <a:pt x="22324" y="10368"/>
                </a:cubicBezTo>
                <a:cubicBezTo>
                  <a:pt x="22316" y="10376"/>
                  <a:pt x="22307" y="10385"/>
                  <a:pt x="22299" y="10393"/>
                </a:cubicBezTo>
              </a:path>
              <a:path w="1811" h="1638">
                <a:moveTo>
                  <a:pt x="22547" y="10368"/>
                </a:moveTo>
                <a:cubicBezTo>
                  <a:pt x="22555" y="10376"/>
                  <a:pt x="22564" y="10385"/>
                  <a:pt x="22572" y="10393"/>
                </a:cubicBezTo>
                <a:cubicBezTo>
                  <a:pt x="22582" y="10326"/>
                  <a:pt x="22498" y="10204"/>
                  <a:pt x="22572" y="10120"/>
                </a:cubicBezTo>
                <a:cubicBezTo>
                  <a:pt x="22666" y="10013"/>
                  <a:pt x="22796" y="10096"/>
                  <a:pt x="22820" y="10195"/>
                </a:cubicBezTo>
              </a:path>
              <a:path w="1811" h="1638">
                <a:moveTo>
                  <a:pt x="23019" y="10443"/>
                </a:moveTo>
                <a:cubicBezTo>
                  <a:pt x="23046" y="10374"/>
                  <a:pt x="23096" y="10154"/>
                  <a:pt x="23168" y="10269"/>
                </a:cubicBezTo>
                <a:cubicBezTo>
                  <a:pt x="23219" y="10372"/>
                  <a:pt x="23235" y="10410"/>
                  <a:pt x="23217" y="10492"/>
                </a:cubicBezTo>
                <a:cubicBezTo>
                  <a:pt x="23217" y="10500"/>
                  <a:pt x="23217" y="10509"/>
                  <a:pt x="23217" y="10517"/>
                </a:cubicBezTo>
                <a:cubicBezTo>
                  <a:pt x="23320" y="10448"/>
                  <a:pt x="23418" y="10316"/>
                  <a:pt x="23540" y="10244"/>
                </a:cubicBezTo>
                <a:cubicBezTo>
                  <a:pt x="23548" y="10244"/>
                  <a:pt x="23556" y="10244"/>
                  <a:pt x="23564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9920" y="6715080"/>
            <a:ext cx="125280" cy="9720"/>
          </a:xfrm>
          <a:custGeom>
            <a:avLst/>
            <a:gdLst/>
            <a:ahLst/>
            <a:rect l="l" t="t" r="r" b="b"/>
            <a:pathLst>
              <a:path w="348" h="26">
                <a:moveTo>
                  <a:pt x="4068" y="18678"/>
                </a:moveTo>
                <a:cubicBezTo>
                  <a:pt x="3952" y="18671"/>
                  <a:pt x="3837" y="18659"/>
                  <a:pt x="3721" y="18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68920" y="4160880"/>
            <a:ext cx="4010040" cy="723960"/>
          </a:xfrm>
          <a:custGeom>
            <a:avLst/>
            <a:gdLst/>
            <a:ahLst/>
            <a:rect l="l" t="t" r="r" b="b"/>
            <a:pathLst>
              <a:path w="11138" h="2010">
                <a:moveTo>
                  <a:pt x="13271" y="12005"/>
                </a:moveTo>
                <a:cubicBezTo>
                  <a:pt x="13261" y="12206"/>
                  <a:pt x="13252" y="12398"/>
                  <a:pt x="13271" y="12601"/>
                </a:cubicBezTo>
                <a:cubicBezTo>
                  <a:pt x="13290" y="12811"/>
                  <a:pt x="13315" y="13009"/>
                  <a:pt x="13320" y="13221"/>
                </a:cubicBezTo>
                <a:cubicBezTo>
                  <a:pt x="13322" y="13295"/>
                  <a:pt x="13320" y="13370"/>
                  <a:pt x="13320" y="13444"/>
                </a:cubicBezTo>
                <a:cubicBezTo>
                  <a:pt x="13432" y="13418"/>
                  <a:pt x="13553" y="13359"/>
                  <a:pt x="13667" y="13345"/>
                </a:cubicBezTo>
                <a:cubicBezTo>
                  <a:pt x="13900" y="13316"/>
                  <a:pt x="14154" y="13329"/>
                  <a:pt x="14387" y="13320"/>
                </a:cubicBezTo>
                <a:cubicBezTo>
                  <a:pt x="14597" y="13312"/>
                  <a:pt x="14800" y="13337"/>
                  <a:pt x="15007" y="13345"/>
                </a:cubicBezTo>
                <a:cubicBezTo>
                  <a:pt x="15135" y="13350"/>
                  <a:pt x="15253" y="13359"/>
                  <a:pt x="15379" y="13370"/>
                </a:cubicBezTo>
                <a:cubicBezTo>
                  <a:pt x="15504" y="13381"/>
                  <a:pt x="15625" y="13386"/>
                  <a:pt x="15751" y="13395"/>
                </a:cubicBezTo>
                <a:cubicBezTo>
                  <a:pt x="15923" y="13408"/>
                  <a:pt x="16100" y="13425"/>
                  <a:pt x="16272" y="13444"/>
                </a:cubicBezTo>
                <a:cubicBezTo>
                  <a:pt x="16459" y="13465"/>
                  <a:pt x="16654" y="13488"/>
                  <a:pt x="16842" y="13494"/>
                </a:cubicBezTo>
                <a:cubicBezTo>
                  <a:pt x="17086" y="13502"/>
                  <a:pt x="17321" y="13477"/>
                  <a:pt x="17562" y="13469"/>
                </a:cubicBezTo>
                <a:cubicBezTo>
                  <a:pt x="17843" y="13459"/>
                  <a:pt x="18126" y="13471"/>
                  <a:pt x="18405" y="13494"/>
                </a:cubicBezTo>
                <a:cubicBezTo>
                  <a:pt x="18531" y="13504"/>
                  <a:pt x="18650" y="13515"/>
                  <a:pt x="18777" y="13519"/>
                </a:cubicBezTo>
                <a:cubicBezTo>
                  <a:pt x="19011" y="13527"/>
                  <a:pt x="19240" y="13525"/>
                  <a:pt x="19472" y="13543"/>
                </a:cubicBezTo>
                <a:cubicBezTo>
                  <a:pt x="19604" y="13553"/>
                  <a:pt x="19737" y="13564"/>
                  <a:pt x="19869" y="13568"/>
                </a:cubicBezTo>
                <a:cubicBezTo>
                  <a:pt x="20844" y="13597"/>
                  <a:pt x="21825" y="13554"/>
                  <a:pt x="22796" y="13543"/>
                </a:cubicBezTo>
                <a:cubicBezTo>
                  <a:pt x="23004" y="13541"/>
                  <a:pt x="23208" y="13521"/>
                  <a:pt x="23416" y="13519"/>
                </a:cubicBezTo>
                <a:cubicBezTo>
                  <a:pt x="23639" y="13516"/>
                  <a:pt x="23978" y="13533"/>
                  <a:pt x="24160" y="13543"/>
                </a:cubicBezTo>
                <a:cubicBezTo>
                  <a:pt x="24185" y="13543"/>
                  <a:pt x="24193" y="13543"/>
                  <a:pt x="24209" y="13543"/>
                </a:cubicBezTo>
                <a:cubicBezTo>
                  <a:pt x="24219" y="13356"/>
                  <a:pt x="24217" y="13183"/>
                  <a:pt x="24234" y="12998"/>
                </a:cubicBezTo>
                <a:cubicBezTo>
                  <a:pt x="24245" y="12878"/>
                  <a:pt x="24266" y="12770"/>
                  <a:pt x="24284" y="12650"/>
                </a:cubicBezTo>
                <a:cubicBezTo>
                  <a:pt x="24303" y="12525"/>
                  <a:pt x="24326" y="12380"/>
                  <a:pt x="24333" y="12254"/>
                </a:cubicBezTo>
                <a:cubicBezTo>
                  <a:pt x="24341" y="12108"/>
                  <a:pt x="24340" y="11974"/>
                  <a:pt x="24358" y="11832"/>
                </a:cubicBezTo>
                <a:cubicBezTo>
                  <a:pt x="24364" y="11781"/>
                  <a:pt x="24378" y="11752"/>
                  <a:pt x="24383" y="11708"/>
                </a:cubicBezTo>
                <a:cubicBezTo>
                  <a:pt x="24383" y="11700"/>
                  <a:pt x="24383" y="11691"/>
                  <a:pt x="24383" y="11683"/>
                </a:cubicBezTo>
                <a:cubicBezTo>
                  <a:pt x="24294" y="11690"/>
                  <a:pt x="24225" y="11704"/>
                  <a:pt x="24135" y="11708"/>
                </a:cubicBezTo>
                <a:cubicBezTo>
                  <a:pt x="24021" y="11713"/>
                  <a:pt x="23921" y="11686"/>
                  <a:pt x="23812" y="11683"/>
                </a:cubicBezTo>
                <a:cubicBezTo>
                  <a:pt x="23579" y="11677"/>
                  <a:pt x="23349" y="11655"/>
                  <a:pt x="23118" y="11633"/>
                </a:cubicBezTo>
                <a:cubicBezTo>
                  <a:pt x="22919" y="11614"/>
                  <a:pt x="22722" y="11599"/>
                  <a:pt x="22523" y="11584"/>
                </a:cubicBezTo>
                <a:cubicBezTo>
                  <a:pt x="22135" y="11555"/>
                  <a:pt x="21747" y="11559"/>
                  <a:pt x="21357" y="11559"/>
                </a:cubicBezTo>
                <a:cubicBezTo>
                  <a:pt x="21171" y="11559"/>
                  <a:pt x="20995" y="11578"/>
                  <a:pt x="20811" y="11584"/>
                </a:cubicBezTo>
                <a:cubicBezTo>
                  <a:pt x="20619" y="11591"/>
                  <a:pt x="20431" y="11602"/>
                  <a:pt x="20241" y="11609"/>
                </a:cubicBezTo>
                <a:cubicBezTo>
                  <a:pt x="19907" y="11621"/>
                  <a:pt x="19579" y="11587"/>
                  <a:pt x="19248" y="11584"/>
                </a:cubicBezTo>
                <a:cubicBezTo>
                  <a:pt x="18817" y="11580"/>
                  <a:pt x="18386" y="11580"/>
                  <a:pt x="17959" y="11609"/>
                </a:cubicBezTo>
                <a:cubicBezTo>
                  <a:pt x="17712" y="11626"/>
                  <a:pt x="17461" y="11638"/>
                  <a:pt x="17214" y="11658"/>
                </a:cubicBezTo>
                <a:cubicBezTo>
                  <a:pt x="16942" y="11680"/>
                  <a:pt x="16668" y="11698"/>
                  <a:pt x="16396" y="11708"/>
                </a:cubicBezTo>
                <a:cubicBezTo>
                  <a:pt x="15866" y="11728"/>
                  <a:pt x="15335" y="11691"/>
                  <a:pt x="14808" y="11733"/>
                </a:cubicBezTo>
                <a:cubicBezTo>
                  <a:pt x="14681" y="11743"/>
                  <a:pt x="14582" y="11733"/>
                  <a:pt x="14461" y="11733"/>
                </a:cubicBezTo>
                <a:cubicBezTo>
                  <a:pt x="14256" y="11733"/>
                  <a:pt x="14030" y="11750"/>
                  <a:pt x="13841" y="11757"/>
                </a:cubicBezTo>
                <a:cubicBezTo>
                  <a:pt x="13722" y="11762"/>
                  <a:pt x="13610" y="11767"/>
                  <a:pt x="13494" y="11782"/>
                </a:cubicBezTo>
                <a:cubicBezTo>
                  <a:pt x="13474" y="11785"/>
                  <a:pt x="13393" y="11793"/>
                  <a:pt x="13370" y="11807"/>
                </a:cubicBezTo>
                <a:cubicBezTo>
                  <a:pt x="13329" y="11833"/>
                  <a:pt x="13294" y="11795"/>
                  <a:pt x="13271" y="11832"/>
                </a:cubicBezTo>
                <a:cubicBezTo>
                  <a:pt x="13219" y="11917"/>
                  <a:pt x="13252" y="12059"/>
                  <a:pt x="13246" y="12154"/>
                </a:cubicBezTo>
                <a:cubicBezTo>
                  <a:pt x="13244" y="12179"/>
                  <a:pt x="13248" y="12204"/>
                  <a:pt x="13246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 , 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(x + 4) , ( y – 2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08160" y="228600"/>
            <a:ext cx="6727680" cy="50720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981080" y="1066680"/>
            <a:ext cx="1295280" cy="1295280"/>
            <a:chOff x="1981080" y="1066680"/>
            <a:chExt cx="1295280" cy="1295280"/>
          </a:xfrm>
        </p:grpSpPr>
        <p:sp>
          <p:nvSpPr>
            <p:cNvPr id="122" name=""/>
            <p:cNvSpPr/>
            <p:nvPr/>
          </p:nvSpPr>
          <p:spPr>
            <a:xfrm flipH="1">
              <a:off x="1981080" y="1066680"/>
              <a:ext cx="838080" cy="12952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2361960"/>
              <a:ext cx="1295280" cy="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9160" y="1066680"/>
              <a:ext cx="457200" cy="129528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438880" y="5322960"/>
            <a:ext cx="1258920" cy="338040"/>
          </a:xfrm>
          <a:custGeom>
            <a:avLst/>
            <a:gdLst/>
            <a:ahLst/>
            <a:rect l="l" t="t" r="r" b="b"/>
            <a:pathLst>
              <a:path w="3499" h="943">
                <a:moveTo>
                  <a:pt x="15106" y="15602"/>
                </a:moveTo>
                <a:cubicBezTo>
                  <a:pt x="15125" y="15676"/>
                  <a:pt x="15133" y="15683"/>
                  <a:pt x="15131" y="15726"/>
                </a:cubicBezTo>
              </a:path>
              <a:path w="3499" h="943">
                <a:moveTo>
                  <a:pt x="15280" y="15007"/>
                </a:moveTo>
                <a:cubicBezTo>
                  <a:pt x="15298" y="15141"/>
                  <a:pt x="15310" y="15272"/>
                  <a:pt x="15329" y="15404"/>
                </a:cubicBezTo>
              </a:path>
              <a:path w="3499" h="943">
                <a:moveTo>
                  <a:pt x="15280" y="14784"/>
                </a:moveTo>
                <a:cubicBezTo>
                  <a:pt x="15577" y="15028"/>
                  <a:pt x="15764" y="15183"/>
                  <a:pt x="15553" y="15577"/>
                </a:cubicBezTo>
                <a:cubicBezTo>
                  <a:pt x="15512" y="15627"/>
                  <a:pt x="15470" y="15676"/>
                  <a:pt x="15429" y="15726"/>
                </a:cubicBezTo>
              </a:path>
              <a:path w="3499" h="943">
                <a:moveTo>
                  <a:pt x="18306" y="15404"/>
                </a:moveTo>
                <a:cubicBezTo>
                  <a:pt x="18405" y="15368"/>
                  <a:pt x="18503" y="15334"/>
                  <a:pt x="18604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8920" y="5402160"/>
            <a:ext cx="588960" cy="312840"/>
          </a:xfrm>
          <a:custGeom>
            <a:avLst/>
            <a:gdLst/>
            <a:ahLst/>
            <a:rect l="l" t="t" r="r" b="b"/>
            <a:pathLst>
              <a:path w="1638" h="869">
                <a:moveTo>
                  <a:pt x="13519" y="15255"/>
                </a:moveTo>
                <a:cubicBezTo>
                  <a:pt x="13519" y="15147"/>
                  <a:pt x="13499" y="15420"/>
                  <a:pt x="13494" y="15528"/>
                </a:cubicBezTo>
                <a:cubicBezTo>
                  <a:pt x="13494" y="15693"/>
                  <a:pt x="13494" y="15726"/>
                  <a:pt x="13494" y="15825"/>
                </a:cubicBezTo>
              </a:path>
              <a:path w="1638" h="869">
                <a:moveTo>
                  <a:pt x="13271" y="15329"/>
                </a:moveTo>
                <a:cubicBezTo>
                  <a:pt x="13208" y="15308"/>
                  <a:pt x="13308" y="15231"/>
                  <a:pt x="13345" y="15205"/>
                </a:cubicBezTo>
                <a:cubicBezTo>
                  <a:pt x="13449" y="15143"/>
                  <a:pt x="13467" y="15118"/>
                  <a:pt x="13543" y="15131"/>
                </a:cubicBezTo>
                <a:cubicBezTo>
                  <a:pt x="13559" y="15257"/>
                  <a:pt x="13564" y="15387"/>
                  <a:pt x="13419" y="15453"/>
                </a:cubicBezTo>
                <a:cubicBezTo>
                  <a:pt x="13419" y="15425"/>
                  <a:pt x="13422" y="15415"/>
                  <a:pt x="13444" y="15404"/>
                </a:cubicBezTo>
                <a:cubicBezTo>
                  <a:pt x="13677" y="15392"/>
                  <a:pt x="13813" y="15474"/>
                  <a:pt x="13643" y="15726"/>
                </a:cubicBezTo>
                <a:cubicBezTo>
                  <a:pt x="13600" y="15791"/>
                  <a:pt x="13372" y="15979"/>
                  <a:pt x="13320" y="15825"/>
                </a:cubicBezTo>
                <a:cubicBezTo>
                  <a:pt x="13320" y="15817"/>
                  <a:pt x="13320" y="15809"/>
                  <a:pt x="13320" y="15801"/>
                </a:cubicBezTo>
              </a:path>
              <a:path w="1638" h="869">
                <a:moveTo>
                  <a:pt x="14139" y="15007"/>
                </a:moveTo>
                <a:cubicBezTo>
                  <a:pt x="14043" y="15134"/>
                  <a:pt x="14006" y="15438"/>
                  <a:pt x="14015" y="15602"/>
                </a:cubicBezTo>
                <a:cubicBezTo>
                  <a:pt x="14022" y="15722"/>
                  <a:pt x="14069" y="15757"/>
                  <a:pt x="14139" y="15825"/>
                </a:cubicBezTo>
              </a:path>
              <a:path w="1638" h="869">
                <a:moveTo>
                  <a:pt x="14312" y="15478"/>
                </a:moveTo>
                <a:cubicBezTo>
                  <a:pt x="14363" y="15491"/>
                  <a:pt x="14399" y="15503"/>
                  <a:pt x="14461" y="15503"/>
                </a:cubicBezTo>
              </a:path>
              <a:path w="1638" h="869">
                <a:moveTo>
                  <a:pt x="14610" y="15106"/>
                </a:moveTo>
                <a:cubicBezTo>
                  <a:pt x="14644" y="15060"/>
                  <a:pt x="14804" y="14977"/>
                  <a:pt x="14858" y="15081"/>
                </a:cubicBezTo>
                <a:cubicBezTo>
                  <a:pt x="14911" y="15182"/>
                  <a:pt x="14783" y="15303"/>
                  <a:pt x="14734" y="15379"/>
                </a:cubicBezTo>
                <a:cubicBezTo>
                  <a:pt x="14751" y="15310"/>
                  <a:pt x="14854" y="15295"/>
                  <a:pt x="14883" y="15379"/>
                </a:cubicBezTo>
                <a:cubicBezTo>
                  <a:pt x="14935" y="15528"/>
                  <a:pt x="14769" y="15671"/>
                  <a:pt x="14635" y="15677"/>
                </a:cubicBezTo>
                <a:cubicBezTo>
                  <a:pt x="14627" y="15669"/>
                  <a:pt x="14618" y="15660"/>
                  <a:pt x="14610" y="156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07080" y="5840280"/>
            <a:ext cx="28800" cy="160560"/>
          </a:xfrm>
          <a:custGeom>
            <a:avLst/>
            <a:gdLst/>
            <a:ahLst/>
            <a:rect l="l" t="t" r="r" b="b"/>
            <a:pathLst>
              <a:path w="76" h="448">
                <a:moveTo>
                  <a:pt x="18355" y="16222"/>
                </a:moveTo>
                <a:cubicBezTo>
                  <a:pt x="18412" y="16241"/>
                  <a:pt x="18431" y="16473"/>
                  <a:pt x="18430" y="16520"/>
                </a:cubicBezTo>
                <a:cubicBezTo>
                  <a:pt x="18429" y="16579"/>
                  <a:pt x="18405" y="16703"/>
                  <a:pt x="18405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19920" y="5796000"/>
            <a:ext cx="331920" cy="320760"/>
          </a:xfrm>
          <a:custGeom>
            <a:avLst/>
            <a:gdLst/>
            <a:ahLst/>
            <a:rect l="l" t="t" r="r" b="b"/>
            <a:pathLst>
              <a:path w="918" h="894">
                <a:moveTo>
                  <a:pt x="19298" y="16842"/>
                </a:moveTo>
                <a:cubicBezTo>
                  <a:pt x="19298" y="16977"/>
                  <a:pt x="19333" y="16967"/>
                  <a:pt x="19224" y="16991"/>
                </a:cubicBezTo>
              </a:path>
              <a:path w="918" h="894">
                <a:moveTo>
                  <a:pt x="19546" y="16470"/>
                </a:moveTo>
                <a:cubicBezTo>
                  <a:pt x="19644" y="16482"/>
                  <a:pt x="19692" y="16496"/>
                  <a:pt x="19794" y="16470"/>
                </a:cubicBezTo>
              </a:path>
              <a:path w="918" h="894">
                <a:moveTo>
                  <a:pt x="20117" y="16098"/>
                </a:moveTo>
                <a:cubicBezTo>
                  <a:pt x="20141" y="16264"/>
                  <a:pt x="20141" y="16425"/>
                  <a:pt x="20141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27960" y="5724360"/>
            <a:ext cx="295200" cy="231840"/>
          </a:xfrm>
          <a:custGeom>
            <a:avLst/>
            <a:gdLst/>
            <a:ahLst/>
            <a:rect l="l" t="t" r="r" b="b"/>
            <a:pathLst>
              <a:path w="820" h="646">
                <a:moveTo>
                  <a:pt x="21084" y="16148"/>
                </a:moveTo>
                <a:cubicBezTo>
                  <a:pt x="21088" y="16261"/>
                  <a:pt x="21155" y="16543"/>
                  <a:pt x="21084" y="16495"/>
                </a:cubicBezTo>
              </a:path>
              <a:path w="820" h="646">
                <a:moveTo>
                  <a:pt x="20910" y="16024"/>
                </a:moveTo>
                <a:cubicBezTo>
                  <a:pt x="21011" y="15999"/>
                  <a:pt x="21376" y="15872"/>
                  <a:pt x="21258" y="16123"/>
                </a:cubicBezTo>
                <a:cubicBezTo>
                  <a:pt x="21233" y="16156"/>
                  <a:pt x="21208" y="16189"/>
                  <a:pt x="21183" y="16222"/>
                </a:cubicBezTo>
                <a:cubicBezTo>
                  <a:pt x="21167" y="16230"/>
                  <a:pt x="21150" y="16239"/>
                  <a:pt x="21134" y="16247"/>
                </a:cubicBezTo>
                <a:cubicBezTo>
                  <a:pt x="21224" y="16236"/>
                  <a:pt x="21442" y="16152"/>
                  <a:pt x="21481" y="16297"/>
                </a:cubicBezTo>
                <a:cubicBezTo>
                  <a:pt x="21510" y="16404"/>
                  <a:pt x="21164" y="16597"/>
                  <a:pt x="21134" y="16495"/>
                </a:cubicBezTo>
                <a:cubicBezTo>
                  <a:pt x="21142" y="16445"/>
                  <a:pt x="21150" y="16396"/>
                  <a:pt x="21158" y="16346"/>
                </a:cubicBezTo>
              </a:path>
              <a:path w="820" h="646">
                <a:moveTo>
                  <a:pt x="21729" y="15900"/>
                </a:moveTo>
                <a:cubicBezTo>
                  <a:pt x="21729" y="15974"/>
                  <a:pt x="21729" y="15983"/>
                  <a:pt x="21729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80120" y="5313240"/>
            <a:ext cx="1571760" cy="428760"/>
          </a:xfrm>
          <a:custGeom>
            <a:avLst/>
            <a:gdLst/>
            <a:ahLst/>
            <a:rect l="l" t="t" r="r" b="b"/>
            <a:pathLst>
              <a:path w="4366" h="1191">
                <a:moveTo>
                  <a:pt x="17363" y="14858"/>
                </a:moveTo>
                <a:cubicBezTo>
                  <a:pt x="17268" y="15099"/>
                  <a:pt x="17042" y="15461"/>
                  <a:pt x="17239" y="15701"/>
                </a:cubicBezTo>
                <a:cubicBezTo>
                  <a:pt x="17351" y="15769"/>
                  <a:pt x="17378" y="15797"/>
                  <a:pt x="17462" y="15751"/>
                </a:cubicBezTo>
              </a:path>
              <a:path w="4366" h="1191">
                <a:moveTo>
                  <a:pt x="18852" y="14858"/>
                </a:moveTo>
                <a:cubicBezTo>
                  <a:pt x="19062" y="15034"/>
                  <a:pt x="19232" y="15274"/>
                  <a:pt x="19124" y="15577"/>
                </a:cubicBezTo>
                <a:cubicBezTo>
                  <a:pt x="19091" y="15618"/>
                  <a:pt x="19058" y="15660"/>
                  <a:pt x="19025" y="15701"/>
                </a:cubicBezTo>
              </a:path>
              <a:path w="4366" h="1191">
                <a:moveTo>
                  <a:pt x="19372" y="15751"/>
                </a:moveTo>
                <a:cubicBezTo>
                  <a:pt x="19389" y="15859"/>
                  <a:pt x="19399" y="15873"/>
                  <a:pt x="19323" y="15949"/>
                </a:cubicBezTo>
              </a:path>
              <a:path w="4366" h="1191">
                <a:moveTo>
                  <a:pt x="21233" y="14759"/>
                </a:moveTo>
                <a:cubicBezTo>
                  <a:pt x="21521" y="15046"/>
                  <a:pt x="21577" y="15131"/>
                  <a:pt x="21382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6920" y="5438880"/>
            <a:ext cx="268200" cy="204840"/>
          </a:xfrm>
          <a:custGeom>
            <a:avLst/>
            <a:gdLst/>
            <a:ahLst/>
            <a:rect l="l" t="t" r="r" b="b"/>
            <a:pathLst>
              <a:path w="745" h="572">
                <a:moveTo>
                  <a:pt x="16049" y="15280"/>
                </a:moveTo>
                <a:cubicBezTo>
                  <a:pt x="16250" y="15280"/>
                  <a:pt x="16424" y="15304"/>
                  <a:pt x="16619" y="15354"/>
                </a:cubicBezTo>
                <a:cubicBezTo>
                  <a:pt x="16683" y="15370"/>
                  <a:pt x="16705" y="15364"/>
                  <a:pt x="16718" y="15404"/>
                </a:cubicBezTo>
              </a:path>
              <a:path w="745" h="572">
                <a:moveTo>
                  <a:pt x="16470" y="15106"/>
                </a:moveTo>
                <a:cubicBezTo>
                  <a:pt x="16558" y="15137"/>
                  <a:pt x="16802" y="15157"/>
                  <a:pt x="16793" y="15280"/>
                </a:cubicBezTo>
                <a:cubicBezTo>
                  <a:pt x="16781" y="15453"/>
                  <a:pt x="16592" y="15585"/>
                  <a:pt x="16470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9680" y="5411880"/>
            <a:ext cx="563400" cy="241200"/>
          </a:xfrm>
          <a:custGeom>
            <a:avLst/>
            <a:gdLst/>
            <a:ahLst/>
            <a:rect l="l" t="t" r="r" b="b"/>
            <a:pathLst>
              <a:path w="1564" h="670">
                <a:moveTo>
                  <a:pt x="17388" y="15304"/>
                </a:moveTo>
                <a:cubicBezTo>
                  <a:pt x="17487" y="15304"/>
                  <a:pt x="17566" y="15284"/>
                  <a:pt x="17661" y="15255"/>
                </a:cubicBezTo>
              </a:path>
              <a:path w="1564" h="670">
                <a:moveTo>
                  <a:pt x="17810" y="15056"/>
                </a:moveTo>
                <a:cubicBezTo>
                  <a:pt x="17904" y="15043"/>
                  <a:pt x="18056" y="14985"/>
                  <a:pt x="18008" y="15156"/>
                </a:cubicBezTo>
                <a:cubicBezTo>
                  <a:pt x="17940" y="15292"/>
                  <a:pt x="17926" y="15333"/>
                  <a:pt x="17835" y="15379"/>
                </a:cubicBezTo>
                <a:cubicBezTo>
                  <a:pt x="17827" y="15387"/>
                  <a:pt x="17818" y="15396"/>
                  <a:pt x="17810" y="15404"/>
                </a:cubicBezTo>
                <a:cubicBezTo>
                  <a:pt x="17907" y="15376"/>
                  <a:pt x="18148" y="15293"/>
                  <a:pt x="18083" y="15503"/>
                </a:cubicBezTo>
                <a:cubicBezTo>
                  <a:pt x="18025" y="15690"/>
                  <a:pt x="17800" y="15732"/>
                  <a:pt x="17735" y="15627"/>
                </a:cubicBezTo>
              </a:path>
              <a:path w="1564" h="670">
                <a:moveTo>
                  <a:pt x="18430" y="15230"/>
                </a:moveTo>
                <a:cubicBezTo>
                  <a:pt x="18443" y="15310"/>
                  <a:pt x="18509" y="15430"/>
                  <a:pt x="18504" y="15503"/>
                </a:cubicBezTo>
                <a:cubicBezTo>
                  <a:pt x="18496" y="15511"/>
                  <a:pt x="18487" y="15520"/>
                  <a:pt x="18479" y="15528"/>
                </a:cubicBezTo>
              </a:path>
              <a:path w="1564" h="670">
                <a:moveTo>
                  <a:pt x="18678" y="15255"/>
                </a:moveTo>
                <a:cubicBezTo>
                  <a:pt x="18720" y="15324"/>
                  <a:pt x="18687" y="15393"/>
                  <a:pt x="18802" y="15379"/>
                </a:cubicBezTo>
                <a:cubicBezTo>
                  <a:pt x="18861" y="15372"/>
                  <a:pt x="18926" y="15338"/>
                  <a:pt x="18951" y="15304"/>
                </a:cubicBezTo>
              </a:path>
              <a:path w="1564" h="670">
                <a:moveTo>
                  <a:pt x="18901" y="15081"/>
                </a:moveTo>
                <a:cubicBezTo>
                  <a:pt x="18882" y="15241"/>
                  <a:pt x="18914" y="15391"/>
                  <a:pt x="1892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72200" y="5357880"/>
            <a:ext cx="571680" cy="277920"/>
          </a:xfrm>
          <a:custGeom>
            <a:avLst/>
            <a:gdLst/>
            <a:ahLst/>
            <a:rect l="l" t="t" r="r" b="b"/>
            <a:pathLst>
              <a:path w="1589" h="770">
                <a:moveTo>
                  <a:pt x="19819" y="14908"/>
                </a:moveTo>
                <a:cubicBezTo>
                  <a:pt x="19857" y="14888"/>
                  <a:pt x="19656" y="15299"/>
                  <a:pt x="19645" y="15354"/>
                </a:cubicBezTo>
                <a:cubicBezTo>
                  <a:pt x="19605" y="15550"/>
                  <a:pt x="19695" y="15627"/>
                  <a:pt x="19869" y="15652"/>
                </a:cubicBezTo>
              </a:path>
              <a:path w="1589" h="770">
                <a:moveTo>
                  <a:pt x="20141" y="15007"/>
                </a:moveTo>
                <a:cubicBezTo>
                  <a:pt x="20133" y="15190"/>
                  <a:pt x="20117" y="15370"/>
                  <a:pt x="20117" y="15553"/>
                </a:cubicBezTo>
              </a:path>
              <a:path w="1589" h="770">
                <a:moveTo>
                  <a:pt x="20489" y="15329"/>
                </a:moveTo>
                <a:cubicBezTo>
                  <a:pt x="20558" y="15329"/>
                  <a:pt x="20619" y="15310"/>
                  <a:pt x="20687" y="15304"/>
                </a:cubicBezTo>
                <a:cubicBezTo>
                  <a:pt x="20695" y="15304"/>
                  <a:pt x="20704" y="15304"/>
                  <a:pt x="20712" y="15304"/>
                </a:cubicBezTo>
              </a:path>
              <a:path w="1589" h="770">
                <a:moveTo>
                  <a:pt x="20836" y="15081"/>
                </a:moveTo>
                <a:cubicBezTo>
                  <a:pt x="20909" y="15032"/>
                  <a:pt x="21061" y="14992"/>
                  <a:pt x="21084" y="15131"/>
                </a:cubicBezTo>
                <a:cubicBezTo>
                  <a:pt x="21105" y="15259"/>
                  <a:pt x="20932" y="15422"/>
                  <a:pt x="20861" y="15503"/>
                </a:cubicBezTo>
                <a:cubicBezTo>
                  <a:pt x="20970" y="15517"/>
                  <a:pt x="21075" y="15531"/>
                  <a:pt x="21183" y="15503"/>
                </a:cubicBezTo>
                <a:cubicBezTo>
                  <a:pt x="21200" y="15495"/>
                  <a:pt x="21216" y="15486"/>
                  <a:pt x="21233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31920" y="5724360"/>
            <a:ext cx="6197760" cy="517680"/>
          </a:xfrm>
          <a:custGeom>
            <a:avLst/>
            <a:gdLst/>
            <a:ahLst/>
            <a:rect l="l" t="t" r="r" b="b"/>
            <a:pathLst>
              <a:path w="17216" h="1439">
                <a:moveTo>
                  <a:pt x="3423" y="17115"/>
                </a:moveTo>
                <a:cubicBezTo>
                  <a:pt x="3446" y="17230"/>
                  <a:pt x="3455" y="17262"/>
                  <a:pt x="3448" y="17338"/>
                </a:cubicBezTo>
              </a:path>
              <a:path w="17216" h="1439">
                <a:moveTo>
                  <a:pt x="5854" y="16272"/>
                </a:moveTo>
                <a:cubicBezTo>
                  <a:pt x="5714" y="16412"/>
                  <a:pt x="5705" y="16687"/>
                  <a:pt x="5730" y="16892"/>
                </a:cubicBezTo>
                <a:cubicBezTo>
                  <a:pt x="5750" y="17055"/>
                  <a:pt x="5818" y="17163"/>
                  <a:pt x="5978" y="17190"/>
                </a:cubicBezTo>
              </a:path>
              <a:path w="17216" h="1439">
                <a:moveTo>
                  <a:pt x="10939" y="16123"/>
                </a:moveTo>
                <a:cubicBezTo>
                  <a:pt x="11126" y="16286"/>
                  <a:pt x="11343" y="16489"/>
                  <a:pt x="11286" y="16768"/>
                </a:cubicBezTo>
                <a:cubicBezTo>
                  <a:pt x="11194" y="16952"/>
                  <a:pt x="11172" y="17007"/>
                  <a:pt x="11063" y="17090"/>
                </a:cubicBezTo>
              </a:path>
              <a:path w="17216" h="1439">
                <a:moveTo>
                  <a:pt x="20414" y="15900"/>
                </a:moveTo>
                <a:cubicBezTo>
                  <a:pt x="20621" y="16263"/>
                  <a:pt x="20730" y="16375"/>
                  <a:pt x="20389" y="16644"/>
                </a:cubicBezTo>
              </a:path>
              <a:path w="17216" h="1439">
                <a:moveTo>
                  <a:pt x="17959" y="15974"/>
                </a:moveTo>
                <a:cubicBezTo>
                  <a:pt x="17837" y="16217"/>
                  <a:pt x="17619" y="16565"/>
                  <a:pt x="17760" y="16842"/>
                </a:cubicBezTo>
                <a:cubicBezTo>
                  <a:pt x="17895" y="16951"/>
                  <a:pt x="17950" y="16982"/>
                  <a:pt x="18083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120" y="5929200"/>
            <a:ext cx="169920" cy="258840"/>
          </a:xfrm>
          <a:custGeom>
            <a:avLst/>
            <a:gdLst/>
            <a:ahLst/>
            <a:rect l="l" t="t" r="r" b="b"/>
            <a:pathLst>
              <a:path w="472" h="721">
                <a:moveTo>
                  <a:pt x="1116" y="16669"/>
                </a:moveTo>
                <a:cubicBezTo>
                  <a:pt x="1053" y="16668"/>
                  <a:pt x="1101" y="16963"/>
                  <a:pt x="1091" y="17066"/>
                </a:cubicBezTo>
                <a:cubicBezTo>
                  <a:pt x="1073" y="17140"/>
                  <a:pt x="1065" y="17147"/>
                  <a:pt x="1067" y="17190"/>
                </a:cubicBezTo>
                <a:cubicBezTo>
                  <a:pt x="1067" y="17026"/>
                  <a:pt x="1049" y="16855"/>
                  <a:pt x="1091" y="16694"/>
                </a:cubicBezTo>
                <a:cubicBezTo>
                  <a:pt x="1120" y="16583"/>
                  <a:pt x="1158" y="16532"/>
                  <a:pt x="1240" y="16470"/>
                </a:cubicBezTo>
                <a:cubicBezTo>
                  <a:pt x="1398" y="16575"/>
                  <a:pt x="1439" y="16725"/>
                  <a:pt x="1488" y="16917"/>
                </a:cubicBezTo>
                <a:cubicBezTo>
                  <a:pt x="1490" y="16923"/>
                  <a:pt x="1548" y="17177"/>
                  <a:pt x="1538" y="17190"/>
                </a:cubicBezTo>
                <a:cubicBezTo>
                  <a:pt x="1530" y="17190"/>
                  <a:pt x="1521" y="17190"/>
                  <a:pt x="1513" y="17190"/>
                </a:cubicBezTo>
              </a:path>
              <a:path w="472" h="721">
                <a:moveTo>
                  <a:pt x="1091" y="16942"/>
                </a:moveTo>
                <a:cubicBezTo>
                  <a:pt x="1186" y="16904"/>
                  <a:pt x="1337" y="16857"/>
                  <a:pt x="1439" y="16867"/>
                </a:cubicBezTo>
                <a:cubicBezTo>
                  <a:pt x="1467" y="16870"/>
                  <a:pt x="1491" y="16892"/>
                  <a:pt x="1463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2880" y="5919840"/>
            <a:ext cx="349200" cy="295200"/>
          </a:xfrm>
          <a:custGeom>
            <a:avLst/>
            <a:gdLst/>
            <a:ahLst/>
            <a:rect l="l" t="t" r="r" b="b"/>
            <a:pathLst>
              <a:path w="969" h="819">
                <a:moveTo>
                  <a:pt x="2456" y="16446"/>
                </a:moveTo>
                <a:cubicBezTo>
                  <a:pt x="2384" y="16610"/>
                  <a:pt x="2286" y="16749"/>
                  <a:pt x="2257" y="16942"/>
                </a:cubicBezTo>
                <a:cubicBezTo>
                  <a:pt x="2228" y="17139"/>
                  <a:pt x="2360" y="17217"/>
                  <a:pt x="2530" y="17264"/>
                </a:cubicBezTo>
                <a:cubicBezTo>
                  <a:pt x="2538" y="17264"/>
                  <a:pt x="2547" y="17264"/>
                  <a:pt x="2555" y="17264"/>
                </a:cubicBezTo>
              </a:path>
              <a:path w="969" h="819">
                <a:moveTo>
                  <a:pt x="2629" y="16892"/>
                </a:moveTo>
                <a:cubicBezTo>
                  <a:pt x="2670" y="16892"/>
                  <a:pt x="2712" y="16892"/>
                  <a:pt x="2753" y="16892"/>
                </a:cubicBezTo>
              </a:path>
              <a:path w="969" h="819">
                <a:moveTo>
                  <a:pt x="2828" y="16694"/>
                </a:moveTo>
                <a:cubicBezTo>
                  <a:pt x="2854" y="16711"/>
                  <a:pt x="2869" y="16803"/>
                  <a:pt x="2927" y="16818"/>
                </a:cubicBezTo>
                <a:cubicBezTo>
                  <a:pt x="3007" y="16838"/>
                  <a:pt x="3061" y="16779"/>
                  <a:pt x="3125" y="16743"/>
                </a:cubicBezTo>
              </a:path>
              <a:path w="969" h="819">
                <a:moveTo>
                  <a:pt x="3051" y="16594"/>
                </a:moveTo>
                <a:cubicBezTo>
                  <a:pt x="3043" y="16594"/>
                  <a:pt x="3034" y="16594"/>
                  <a:pt x="3026" y="16594"/>
                </a:cubicBezTo>
                <a:cubicBezTo>
                  <a:pt x="3068" y="16719"/>
                  <a:pt x="3100" y="16861"/>
                  <a:pt x="3150" y="16991"/>
                </a:cubicBezTo>
                <a:cubicBezTo>
                  <a:pt x="3192" y="17074"/>
                  <a:pt x="3200" y="17090"/>
                  <a:pt x="3225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76200" y="598320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3547" y="16768"/>
                </a:moveTo>
                <a:cubicBezTo>
                  <a:pt x="3556" y="16803"/>
                  <a:pt x="3584" y="16871"/>
                  <a:pt x="3621" y="16892"/>
                </a:cubicBezTo>
                <a:cubicBezTo>
                  <a:pt x="3664" y="16916"/>
                  <a:pt x="3788" y="16844"/>
                  <a:pt x="3820" y="16818"/>
                </a:cubicBezTo>
                <a:cubicBezTo>
                  <a:pt x="3828" y="16810"/>
                  <a:pt x="3837" y="16801"/>
                  <a:pt x="3845" y="16793"/>
                </a:cubicBezTo>
              </a:path>
              <a:path w="299" h="398">
                <a:moveTo>
                  <a:pt x="3746" y="16619"/>
                </a:moveTo>
                <a:cubicBezTo>
                  <a:pt x="3761" y="16728"/>
                  <a:pt x="3778" y="16863"/>
                  <a:pt x="3820" y="16966"/>
                </a:cubicBezTo>
                <a:cubicBezTo>
                  <a:pt x="3843" y="16989"/>
                  <a:pt x="3851" y="16993"/>
                  <a:pt x="3845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35040" y="5857920"/>
            <a:ext cx="403200" cy="366840"/>
          </a:xfrm>
          <a:custGeom>
            <a:avLst/>
            <a:gdLst/>
            <a:ahLst/>
            <a:rect l="l" t="t" r="r" b="b"/>
            <a:pathLst>
              <a:path w="1118" h="1018">
                <a:moveTo>
                  <a:pt x="4291" y="16272"/>
                </a:moveTo>
                <a:cubicBezTo>
                  <a:pt x="4454" y="16341"/>
                  <a:pt x="4533" y="16493"/>
                  <a:pt x="4564" y="16669"/>
                </a:cubicBezTo>
                <a:cubicBezTo>
                  <a:pt x="4604" y="16899"/>
                  <a:pt x="4460" y="17040"/>
                  <a:pt x="4316" y="17190"/>
                </a:cubicBezTo>
                <a:cubicBezTo>
                  <a:pt x="4291" y="17214"/>
                  <a:pt x="4282" y="17222"/>
                  <a:pt x="4266" y="17239"/>
                </a:cubicBezTo>
              </a:path>
              <a:path w="1118" h="1018">
                <a:moveTo>
                  <a:pt x="4688" y="16917"/>
                </a:moveTo>
                <a:cubicBezTo>
                  <a:pt x="4806" y="16947"/>
                  <a:pt x="4950" y="16868"/>
                  <a:pt x="5085" y="16892"/>
                </a:cubicBezTo>
                <a:cubicBezTo>
                  <a:pt x="5108" y="16915"/>
                  <a:pt x="5112" y="16923"/>
                  <a:pt x="5135" y="16917"/>
                </a:cubicBezTo>
              </a:path>
              <a:path w="1118" h="1018">
                <a:moveTo>
                  <a:pt x="4986" y="16718"/>
                </a:moveTo>
                <a:cubicBezTo>
                  <a:pt x="5090" y="16718"/>
                  <a:pt x="5184" y="16762"/>
                  <a:pt x="5283" y="16793"/>
                </a:cubicBezTo>
                <a:cubicBezTo>
                  <a:pt x="5424" y="16837"/>
                  <a:pt x="5401" y="16875"/>
                  <a:pt x="5358" y="17041"/>
                </a:cubicBezTo>
                <a:cubicBezTo>
                  <a:pt x="5314" y="17173"/>
                  <a:pt x="5302" y="17204"/>
                  <a:pt x="5283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52800" y="5823000"/>
            <a:ext cx="795240" cy="338040"/>
          </a:xfrm>
          <a:custGeom>
            <a:avLst/>
            <a:gdLst/>
            <a:ahLst/>
            <a:rect l="l" t="t" r="r" b="b"/>
            <a:pathLst>
              <a:path w="2209" h="943">
                <a:moveTo>
                  <a:pt x="5978" y="16793"/>
                </a:moveTo>
                <a:cubicBezTo>
                  <a:pt x="6072" y="16793"/>
                  <a:pt x="6138" y="16766"/>
                  <a:pt x="6226" y="16743"/>
                </a:cubicBezTo>
                <a:cubicBezTo>
                  <a:pt x="6234" y="16743"/>
                  <a:pt x="6243" y="16743"/>
                  <a:pt x="6251" y="16743"/>
                </a:cubicBezTo>
              </a:path>
              <a:path w="2209" h="943">
                <a:moveTo>
                  <a:pt x="6325" y="16570"/>
                </a:moveTo>
                <a:cubicBezTo>
                  <a:pt x="6334" y="16662"/>
                  <a:pt x="6362" y="16750"/>
                  <a:pt x="6375" y="16842"/>
                </a:cubicBezTo>
                <a:cubicBezTo>
                  <a:pt x="6477" y="16826"/>
                  <a:pt x="6546" y="16784"/>
                  <a:pt x="6623" y="16718"/>
                </a:cubicBezTo>
                <a:cubicBezTo>
                  <a:pt x="6631" y="16710"/>
                  <a:pt x="6640" y="16702"/>
                  <a:pt x="6648" y="16694"/>
                </a:cubicBezTo>
              </a:path>
              <a:path w="2209" h="943">
                <a:moveTo>
                  <a:pt x="6623" y="16421"/>
                </a:moveTo>
                <a:cubicBezTo>
                  <a:pt x="6623" y="16554"/>
                  <a:pt x="6646" y="16688"/>
                  <a:pt x="6672" y="16818"/>
                </a:cubicBezTo>
                <a:cubicBezTo>
                  <a:pt x="6687" y="16895"/>
                  <a:pt x="6669" y="17027"/>
                  <a:pt x="6722" y="16942"/>
                </a:cubicBezTo>
              </a:path>
              <a:path w="2209" h="943">
                <a:moveTo>
                  <a:pt x="7069" y="16594"/>
                </a:moveTo>
                <a:cubicBezTo>
                  <a:pt x="7084" y="16685"/>
                  <a:pt x="7127" y="16779"/>
                  <a:pt x="7144" y="16867"/>
                </a:cubicBezTo>
                <a:cubicBezTo>
                  <a:pt x="7150" y="16900"/>
                  <a:pt x="7144" y="16950"/>
                  <a:pt x="7144" y="16917"/>
                </a:cubicBezTo>
              </a:path>
              <a:path w="2209" h="943">
                <a:moveTo>
                  <a:pt x="6970" y="16842"/>
                </a:moveTo>
                <a:cubicBezTo>
                  <a:pt x="7042" y="16825"/>
                  <a:pt x="7154" y="16828"/>
                  <a:pt x="7218" y="16793"/>
                </a:cubicBezTo>
                <a:cubicBezTo>
                  <a:pt x="7226" y="16785"/>
                  <a:pt x="7235" y="16776"/>
                  <a:pt x="7243" y="16768"/>
                </a:cubicBezTo>
              </a:path>
              <a:path w="2209" h="943">
                <a:moveTo>
                  <a:pt x="7516" y="16570"/>
                </a:moveTo>
                <a:cubicBezTo>
                  <a:pt x="7516" y="16636"/>
                  <a:pt x="7516" y="16702"/>
                  <a:pt x="7516" y="16768"/>
                </a:cubicBezTo>
                <a:cubicBezTo>
                  <a:pt x="7592" y="16768"/>
                  <a:pt x="7640" y="16715"/>
                  <a:pt x="7714" y="16694"/>
                </a:cubicBezTo>
                <a:cubicBezTo>
                  <a:pt x="7742" y="16694"/>
                  <a:pt x="7753" y="16692"/>
                  <a:pt x="7764" y="16669"/>
                </a:cubicBezTo>
              </a:path>
              <a:path w="2209" h="943">
                <a:moveTo>
                  <a:pt x="7714" y="16446"/>
                </a:moveTo>
                <a:cubicBezTo>
                  <a:pt x="7714" y="16548"/>
                  <a:pt x="7732" y="16643"/>
                  <a:pt x="7739" y="16743"/>
                </a:cubicBezTo>
                <a:cubicBezTo>
                  <a:pt x="7739" y="16834"/>
                  <a:pt x="7739" y="16842"/>
                  <a:pt x="7739" y="16892"/>
                </a:cubicBezTo>
              </a:path>
              <a:path w="2209" h="943">
                <a:moveTo>
                  <a:pt x="7888" y="16173"/>
                </a:moveTo>
                <a:cubicBezTo>
                  <a:pt x="7949" y="16314"/>
                  <a:pt x="8076" y="16419"/>
                  <a:pt x="8136" y="16570"/>
                </a:cubicBezTo>
                <a:cubicBezTo>
                  <a:pt x="8211" y="16758"/>
                  <a:pt x="8191" y="16951"/>
                  <a:pt x="8037" y="17090"/>
                </a:cubicBezTo>
                <a:cubicBezTo>
                  <a:pt x="7996" y="17110"/>
                  <a:pt x="7990" y="17119"/>
                  <a:pt x="7962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6160" y="6170760"/>
            <a:ext cx="27000" cy="98280"/>
          </a:xfrm>
          <a:custGeom>
            <a:avLst/>
            <a:gdLst/>
            <a:ahLst/>
            <a:rect l="l" t="t" r="r" b="b"/>
            <a:pathLst>
              <a:path w="75" h="274">
                <a:moveTo>
                  <a:pt x="8731" y="17140"/>
                </a:moveTo>
                <a:cubicBezTo>
                  <a:pt x="8719" y="17260"/>
                  <a:pt x="8711" y="17305"/>
                  <a:pt x="8657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86080" y="5875200"/>
            <a:ext cx="277920" cy="349560"/>
          </a:xfrm>
          <a:custGeom>
            <a:avLst/>
            <a:gdLst/>
            <a:ahLst/>
            <a:rect l="l" t="t" r="r" b="b"/>
            <a:pathLst>
              <a:path w="770" h="969">
                <a:moveTo>
                  <a:pt x="9302" y="16321"/>
                </a:moveTo>
                <a:cubicBezTo>
                  <a:pt x="9132" y="16416"/>
                  <a:pt x="9105" y="16665"/>
                  <a:pt x="9128" y="16867"/>
                </a:cubicBezTo>
                <a:cubicBezTo>
                  <a:pt x="9132" y="16903"/>
                  <a:pt x="9263" y="17243"/>
                  <a:pt x="9351" y="17214"/>
                </a:cubicBezTo>
                <a:cubicBezTo>
                  <a:pt x="9368" y="17198"/>
                  <a:pt x="9384" y="17181"/>
                  <a:pt x="9401" y="17165"/>
                </a:cubicBezTo>
              </a:path>
              <a:path w="770" h="969">
                <a:moveTo>
                  <a:pt x="9624" y="16644"/>
                </a:moveTo>
                <a:cubicBezTo>
                  <a:pt x="9624" y="16716"/>
                  <a:pt x="9623" y="16770"/>
                  <a:pt x="9599" y="16842"/>
                </a:cubicBezTo>
                <a:cubicBezTo>
                  <a:pt x="9557" y="16949"/>
                  <a:pt x="9546" y="16973"/>
                  <a:pt x="9525" y="17041"/>
                </a:cubicBezTo>
                <a:cubicBezTo>
                  <a:pt x="9639" y="16995"/>
                  <a:pt x="9752" y="16878"/>
                  <a:pt x="9872" y="16818"/>
                </a:cubicBezTo>
                <a:cubicBezTo>
                  <a:pt x="9897" y="16818"/>
                  <a:pt x="9905" y="16818"/>
                  <a:pt x="9872" y="16818"/>
                </a:cubicBezTo>
              </a:path>
              <a:path w="770" h="969">
                <a:moveTo>
                  <a:pt x="9723" y="16470"/>
                </a:moveTo>
                <a:cubicBezTo>
                  <a:pt x="9758" y="16736"/>
                  <a:pt x="9772" y="16974"/>
                  <a:pt x="9748" y="17239"/>
                </a:cubicBezTo>
                <a:cubicBezTo>
                  <a:pt x="9748" y="17291"/>
                  <a:pt x="9749" y="17306"/>
                  <a:pt x="9773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9920" y="5875200"/>
            <a:ext cx="29376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0220" y="16793"/>
                </a:moveTo>
                <a:cubicBezTo>
                  <a:pt x="10299" y="16793"/>
                  <a:pt x="10366" y="16779"/>
                  <a:pt x="10443" y="16768"/>
                </a:cubicBezTo>
              </a:path>
              <a:path w="819" h="770">
                <a:moveTo>
                  <a:pt x="10691" y="16421"/>
                </a:moveTo>
                <a:cubicBezTo>
                  <a:pt x="10734" y="16355"/>
                  <a:pt x="10740" y="16335"/>
                  <a:pt x="10790" y="16321"/>
                </a:cubicBezTo>
                <a:cubicBezTo>
                  <a:pt x="10863" y="16522"/>
                  <a:pt x="10803" y="16649"/>
                  <a:pt x="10716" y="16842"/>
                </a:cubicBezTo>
                <a:cubicBezTo>
                  <a:pt x="10649" y="16974"/>
                  <a:pt x="10633" y="17007"/>
                  <a:pt x="10592" y="17090"/>
                </a:cubicBezTo>
                <a:cubicBezTo>
                  <a:pt x="10624" y="16993"/>
                  <a:pt x="10748" y="16896"/>
                  <a:pt x="10864" y="16917"/>
                </a:cubicBezTo>
                <a:cubicBezTo>
                  <a:pt x="11003" y="16942"/>
                  <a:pt x="10925" y="17085"/>
                  <a:pt x="11038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82920" y="6054840"/>
            <a:ext cx="5357880" cy="598320"/>
          </a:xfrm>
          <a:custGeom>
            <a:avLst/>
            <a:gdLst/>
            <a:ahLst/>
            <a:rect l="l" t="t" r="r" b="b"/>
            <a:pathLst>
              <a:path w="14884" h="1662">
                <a:moveTo>
                  <a:pt x="7243" y="17338"/>
                </a:moveTo>
                <a:cubicBezTo>
                  <a:pt x="7170" y="17286"/>
                  <a:pt x="7075" y="17348"/>
                  <a:pt x="7020" y="17413"/>
                </a:cubicBezTo>
                <a:cubicBezTo>
                  <a:pt x="6844" y="17619"/>
                  <a:pt x="6854" y="17993"/>
                  <a:pt x="6945" y="18231"/>
                </a:cubicBezTo>
                <a:cubicBezTo>
                  <a:pt x="7007" y="18393"/>
                  <a:pt x="7078" y="18408"/>
                  <a:pt x="7218" y="18430"/>
                </a:cubicBezTo>
              </a:path>
              <a:path w="14884" h="1662">
                <a:moveTo>
                  <a:pt x="8930" y="17661"/>
                </a:moveTo>
                <a:cubicBezTo>
                  <a:pt x="9102" y="17857"/>
                  <a:pt x="9143" y="18075"/>
                  <a:pt x="9004" y="18331"/>
                </a:cubicBezTo>
                <a:cubicBezTo>
                  <a:pt x="8963" y="18380"/>
                  <a:pt x="8921" y="18430"/>
                  <a:pt x="8880" y="18479"/>
                </a:cubicBezTo>
              </a:path>
              <a:path w="14884" h="1662">
                <a:moveTo>
                  <a:pt x="9947" y="17636"/>
                </a:moveTo>
                <a:cubicBezTo>
                  <a:pt x="9952" y="17713"/>
                  <a:pt x="9962" y="17763"/>
                  <a:pt x="9971" y="17835"/>
                </a:cubicBezTo>
              </a:path>
              <a:path w="14884" h="1662">
                <a:moveTo>
                  <a:pt x="15379" y="16818"/>
                </a:moveTo>
                <a:cubicBezTo>
                  <a:pt x="15637" y="16937"/>
                  <a:pt x="15878" y="17080"/>
                  <a:pt x="15850" y="17413"/>
                </a:cubicBezTo>
                <a:cubicBezTo>
                  <a:pt x="15838" y="17564"/>
                  <a:pt x="15783" y="17611"/>
                  <a:pt x="15677" y="17611"/>
                </a:cubicBezTo>
              </a:path>
              <a:path w="14884" h="1662">
                <a:moveTo>
                  <a:pt x="21357" y="16867"/>
                </a:moveTo>
                <a:cubicBezTo>
                  <a:pt x="21567" y="16882"/>
                  <a:pt x="21678" y="16953"/>
                  <a:pt x="21754" y="17165"/>
                </a:cubicBezTo>
                <a:cubicBezTo>
                  <a:pt x="21814" y="17332"/>
                  <a:pt x="21751" y="17373"/>
                  <a:pt x="21654" y="17487"/>
                </a:cubicBezTo>
              </a:path>
              <a:path w="14884" h="1662">
                <a:moveTo>
                  <a:pt x="18405" y="18306"/>
                </a:moveTo>
                <a:cubicBezTo>
                  <a:pt x="18498" y="18299"/>
                  <a:pt x="18585" y="18287"/>
                  <a:pt x="18678" y="18281"/>
                </a:cubicBezTo>
              </a:path>
              <a:path w="14884" h="1662">
                <a:moveTo>
                  <a:pt x="19745" y="18331"/>
                </a:moveTo>
                <a:cubicBezTo>
                  <a:pt x="19764" y="18408"/>
                  <a:pt x="19787" y="18425"/>
                  <a:pt x="19745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52840" y="6259680"/>
            <a:ext cx="527040" cy="304560"/>
          </a:xfrm>
          <a:custGeom>
            <a:avLst/>
            <a:gdLst/>
            <a:ahLst/>
            <a:rect l="l" t="t" r="r" b="b"/>
            <a:pathLst>
              <a:path w="1464" h="844">
                <a:moveTo>
                  <a:pt x="7565" y="17388"/>
                </a:moveTo>
                <a:cubicBezTo>
                  <a:pt x="7457" y="17410"/>
                  <a:pt x="7388" y="17500"/>
                  <a:pt x="7367" y="17611"/>
                </a:cubicBezTo>
                <a:cubicBezTo>
                  <a:pt x="7341" y="17748"/>
                  <a:pt x="7385" y="17845"/>
                  <a:pt x="7441" y="17959"/>
                </a:cubicBezTo>
                <a:cubicBezTo>
                  <a:pt x="7576" y="17892"/>
                  <a:pt x="7677" y="17770"/>
                  <a:pt x="7640" y="17587"/>
                </a:cubicBezTo>
                <a:cubicBezTo>
                  <a:pt x="7624" y="17508"/>
                  <a:pt x="7525" y="17365"/>
                  <a:pt x="7491" y="17438"/>
                </a:cubicBezTo>
                <a:cubicBezTo>
                  <a:pt x="7491" y="17463"/>
                  <a:pt x="7491" y="17487"/>
                  <a:pt x="7491" y="17512"/>
                </a:cubicBezTo>
              </a:path>
              <a:path w="1464" h="844">
                <a:moveTo>
                  <a:pt x="8012" y="17859"/>
                </a:moveTo>
                <a:cubicBezTo>
                  <a:pt x="8040" y="18000"/>
                  <a:pt x="8065" y="18130"/>
                  <a:pt x="7987" y="18231"/>
                </a:cubicBezTo>
              </a:path>
              <a:path w="1464" h="844">
                <a:moveTo>
                  <a:pt x="8409" y="17835"/>
                </a:moveTo>
                <a:cubicBezTo>
                  <a:pt x="8409" y="17778"/>
                  <a:pt x="8406" y="17724"/>
                  <a:pt x="8458" y="17686"/>
                </a:cubicBezTo>
                <a:cubicBezTo>
                  <a:pt x="8475" y="17678"/>
                  <a:pt x="8491" y="17669"/>
                  <a:pt x="8508" y="17661"/>
                </a:cubicBezTo>
                <a:cubicBezTo>
                  <a:pt x="8591" y="17777"/>
                  <a:pt x="8590" y="17893"/>
                  <a:pt x="8533" y="18033"/>
                </a:cubicBezTo>
                <a:cubicBezTo>
                  <a:pt x="8501" y="18112"/>
                  <a:pt x="8437" y="18162"/>
                  <a:pt x="8409" y="18231"/>
                </a:cubicBezTo>
                <a:cubicBezTo>
                  <a:pt x="8488" y="18169"/>
                  <a:pt x="8575" y="18107"/>
                  <a:pt x="8682" y="18107"/>
                </a:cubicBezTo>
                <a:cubicBezTo>
                  <a:pt x="8729" y="18107"/>
                  <a:pt x="8780" y="18132"/>
                  <a:pt x="8830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6375240"/>
            <a:ext cx="160200" cy="233640"/>
          </a:xfrm>
          <a:custGeom>
            <a:avLst/>
            <a:gdLst/>
            <a:ahLst/>
            <a:rect l="l" t="t" r="r" b="b"/>
            <a:pathLst>
              <a:path w="447" h="645">
                <a:moveTo>
                  <a:pt x="9327" y="17934"/>
                </a:moveTo>
                <a:cubicBezTo>
                  <a:pt x="9352" y="18090"/>
                  <a:pt x="9360" y="18147"/>
                  <a:pt x="9351" y="18256"/>
                </a:cubicBezTo>
                <a:cubicBezTo>
                  <a:pt x="9274" y="18548"/>
                  <a:pt x="9350" y="17996"/>
                  <a:pt x="9351" y="17983"/>
                </a:cubicBezTo>
                <a:cubicBezTo>
                  <a:pt x="9365" y="17834"/>
                  <a:pt x="9364" y="17767"/>
                  <a:pt x="9475" y="17711"/>
                </a:cubicBezTo>
                <a:cubicBezTo>
                  <a:pt x="9608" y="17900"/>
                  <a:pt x="9708" y="18073"/>
                  <a:pt x="9748" y="18306"/>
                </a:cubicBezTo>
                <a:cubicBezTo>
                  <a:pt x="9748" y="18322"/>
                  <a:pt x="9748" y="18339"/>
                  <a:pt x="9748" y="18355"/>
                </a:cubicBezTo>
              </a:path>
              <a:path w="447" h="645">
                <a:moveTo>
                  <a:pt x="9550" y="18132"/>
                </a:moveTo>
                <a:cubicBezTo>
                  <a:pt x="9629" y="18082"/>
                  <a:pt x="9704" y="18044"/>
                  <a:pt x="9773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76840" y="6099120"/>
            <a:ext cx="795240" cy="285840"/>
          </a:xfrm>
          <a:custGeom>
            <a:avLst/>
            <a:gdLst/>
            <a:ahLst/>
            <a:rect l="l" t="t" r="r" b="b"/>
            <a:pathLst>
              <a:path w="2208" h="794">
                <a:moveTo>
                  <a:pt x="13593" y="17264"/>
                </a:moveTo>
                <a:cubicBezTo>
                  <a:pt x="13602" y="17298"/>
                  <a:pt x="13598" y="17329"/>
                  <a:pt x="13618" y="17289"/>
                </a:cubicBezTo>
                <a:cubicBezTo>
                  <a:pt x="13602" y="17111"/>
                  <a:pt x="13481" y="17152"/>
                  <a:pt x="13370" y="17289"/>
                </a:cubicBezTo>
                <a:cubicBezTo>
                  <a:pt x="13128" y="17587"/>
                  <a:pt x="13375" y="17692"/>
                  <a:pt x="13643" y="17661"/>
                </a:cubicBezTo>
                <a:cubicBezTo>
                  <a:pt x="13684" y="17653"/>
                  <a:pt x="13726" y="17644"/>
                  <a:pt x="13767" y="17636"/>
                </a:cubicBezTo>
              </a:path>
              <a:path w="2208" h="794">
                <a:moveTo>
                  <a:pt x="14114" y="16942"/>
                </a:moveTo>
                <a:cubicBezTo>
                  <a:pt x="14058" y="17126"/>
                  <a:pt x="13903" y="17357"/>
                  <a:pt x="13965" y="17562"/>
                </a:cubicBezTo>
                <a:cubicBezTo>
                  <a:pt x="14006" y="17699"/>
                  <a:pt x="14201" y="17774"/>
                  <a:pt x="14288" y="17711"/>
                </a:cubicBezTo>
              </a:path>
              <a:path w="2208" h="794">
                <a:moveTo>
                  <a:pt x="14362" y="17388"/>
                </a:moveTo>
                <a:cubicBezTo>
                  <a:pt x="14448" y="17368"/>
                  <a:pt x="14616" y="17310"/>
                  <a:pt x="14660" y="17338"/>
                </a:cubicBezTo>
              </a:path>
              <a:path w="2208" h="794">
                <a:moveTo>
                  <a:pt x="14684" y="17066"/>
                </a:moveTo>
                <a:cubicBezTo>
                  <a:pt x="14684" y="17191"/>
                  <a:pt x="14612" y="17519"/>
                  <a:pt x="14759" y="17562"/>
                </a:cubicBezTo>
                <a:cubicBezTo>
                  <a:pt x="14946" y="17617"/>
                  <a:pt x="15075" y="17519"/>
                  <a:pt x="15106" y="17363"/>
                </a:cubicBezTo>
                <a:cubicBezTo>
                  <a:pt x="15106" y="17355"/>
                  <a:pt x="15106" y="17346"/>
                  <a:pt x="15106" y="17338"/>
                </a:cubicBezTo>
                <a:cubicBezTo>
                  <a:pt x="15078" y="17349"/>
                  <a:pt x="14793" y="17471"/>
                  <a:pt x="14908" y="17562"/>
                </a:cubicBezTo>
                <a:cubicBezTo>
                  <a:pt x="14924" y="17562"/>
                  <a:pt x="14941" y="17562"/>
                  <a:pt x="14957" y="17562"/>
                </a:cubicBezTo>
              </a:path>
              <a:path w="2208" h="794">
                <a:moveTo>
                  <a:pt x="15180" y="17487"/>
                </a:moveTo>
                <a:cubicBezTo>
                  <a:pt x="15185" y="17509"/>
                  <a:pt x="15219" y="17714"/>
                  <a:pt x="15180" y="17636"/>
                </a:cubicBezTo>
              </a:path>
              <a:path w="2208" h="794">
                <a:moveTo>
                  <a:pt x="15379" y="17140"/>
                </a:moveTo>
                <a:cubicBezTo>
                  <a:pt x="15430" y="17242"/>
                  <a:pt x="15466" y="17370"/>
                  <a:pt x="15478" y="17487"/>
                </a:cubicBezTo>
                <a:cubicBezTo>
                  <a:pt x="15478" y="17495"/>
                  <a:pt x="15478" y="17504"/>
                  <a:pt x="15478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6099120"/>
            <a:ext cx="1150920" cy="303120"/>
          </a:xfrm>
          <a:custGeom>
            <a:avLst/>
            <a:gdLst/>
            <a:ahLst/>
            <a:rect l="l" t="t" r="r" b="b"/>
            <a:pathLst>
              <a:path w="3201" h="844">
                <a:moveTo>
                  <a:pt x="16098" y="17264"/>
                </a:moveTo>
                <a:cubicBezTo>
                  <a:pt x="16314" y="17251"/>
                  <a:pt x="16526" y="17219"/>
                  <a:pt x="16743" y="17214"/>
                </a:cubicBezTo>
                <a:cubicBezTo>
                  <a:pt x="16768" y="17214"/>
                  <a:pt x="16793" y="17214"/>
                  <a:pt x="16818" y="17214"/>
                </a:cubicBezTo>
              </a:path>
              <a:path w="3201" h="844">
                <a:moveTo>
                  <a:pt x="16371" y="16942"/>
                </a:moveTo>
                <a:cubicBezTo>
                  <a:pt x="16563" y="16992"/>
                  <a:pt x="16736" y="17068"/>
                  <a:pt x="16917" y="17140"/>
                </a:cubicBezTo>
                <a:cubicBezTo>
                  <a:pt x="16925" y="17140"/>
                  <a:pt x="16934" y="17140"/>
                  <a:pt x="16942" y="17140"/>
                </a:cubicBezTo>
                <a:cubicBezTo>
                  <a:pt x="16911" y="17248"/>
                  <a:pt x="16838" y="17336"/>
                  <a:pt x="16793" y="17438"/>
                </a:cubicBezTo>
                <a:cubicBezTo>
                  <a:pt x="16793" y="17446"/>
                  <a:pt x="16793" y="17454"/>
                  <a:pt x="16793" y="17462"/>
                </a:cubicBezTo>
              </a:path>
              <a:path w="3201" h="844">
                <a:moveTo>
                  <a:pt x="17438" y="17090"/>
                </a:moveTo>
                <a:cubicBezTo>
                  <a:pt x="17409" y="17233"/>
                  <a:pt x="17317" y="17326"/>
                  <a:pt x="17314" y="17487"/>
                </a:cubicBezTo>
                <a:cubicBezTo>
                  <a:pt x="17311" y="17644"/>
                  <a:pt x="17382" y="17700"/>
                  <a:pt x="17487" y="17785"/>
                </a:cubicBezTo>
              </a:path>
              <a:path w="3201" h="844">
                <a:moveTo>
                  <a:pt x="17487" y="17537"/>
                </a:moveTo>
                <a:cubicBezTo>
                  <a:pt x="17570" y="17537"/>
                  <a:pt x="17652" y="17537"/>
                  <a:pt x="17735" y="17537"/>
                </a:cubicBezTo>
              </a:path>
              <a:path w="3201" h="844">
                <a:moveTo>
                  <a:pt x="17859" y="17289"/>
                </a:moveTo>
                <a:cubicBezTo>
                  <a:pt x="17907" y="17320"/>
                  <a:pt x="17861" y="17489"/>
                  <a:pt x="17859" y="17562"/>
                </a:cubicBezTo>
                <a:cubicBezTo>
                  <a:pt x="17855" y="17707"/>
                  <a:pt x="17981" y="17723"/>
                  <a:pt x="18107" y="17711"/>
                </a:cubicBezTo>
                <a:cubicBezTo>
                  <a:pt x="18255" y="17696"/>
                  <a:pt x="18230" y="17659"/>
                  <a:pt x="18306" y="17562"/>
                </a:cubicBezTo>
                <a:cubicBezTo>
                  <a:pt x="18288" y="17544"/>
                  <a:pt x="18211" y="17469"/>
                  <a:pt x="18182" y="17512"/>
                </a:cubicBezTo>
                <a:cubicBezTo>
                  <a:pt x="18149" y="17561"/>
                  <a:pt x="18099" y="17698"/>
                  <a:pt x="18157" y="17686"/>
                </a:cubicBezTo>
                <a:cubicBezTo>
                  <a:pt x="18165" y="17678"/>
                  <a:pt x="18174" y="17669"/>
                  <a:pt x="18182" y="17661"/>
                </a:cubicBezTo>
              </a:path>
              <a:path w="3201" h="844">
                <a:moveTo>
                  <a:pt x="18380" y="17413"/>
                </a:moveTo>
                <a:cubicBezTo>
                  <a:pt x="18431" y="17426"/>
                  <a:pt x="18449" y="17455"/>
                  <a:pt x="18455" y="17512"/>
                </a:cubicBezTo>
                <a:cubicBezTo>
                  <a:pt x="18455" y="17520"/>
                  <a:pt x="18455" y="17529"/>
                  <a:pt x="18455" y="17537"/>
                </a:cubicBezTo>
              </a:path>
              <a:path w="3201" h="844">
                <a:moveTo>
                  <a:pt x="18405" y="17487"/>
                </a:moveTo>
                <a:cubicBezTo>
                  <a:pt x="18483" y="17480"/>
                  <a:pt x="18567" y="17483"/>
                  <a:pt x="18628" y="17438"/>
                </a:cubicBezTo>
              </a:path>
              <a:path w="3201" h="844">
                <a:moveTo>
                  <a:pt x="18728" y="17314"/>
                </a:moveTo>
                <a:cubicBezTo>
                  <a:pt x="18728" y="17346"/>
                  <a:pt x="18713" y="17441"/>
                  <a:pt x="18752" y="17462"/>
                </a:cubicBezTo>
                <a:cubicBezTo>
                  <a:pt x="18830" y="17504"/>
                  <a:pt x="18952" y="17485"/>
                  <a:pt x="19000" y="17438"/>
                </a:cubicBezTo>
              </a:path>
              <a:path w="3201" h="844">
                <a:moveTo>
                  <a:pt x="18951" y="17264"/>
                </a:moveTo>
                <a:cubicBezTo>
                  <a:pt x="18965" y="17364"/>
                  <a:pt x="18994" y="17460"/>
                  <a:pt x="19000" y="17562"/>
                </a:cubicBezTo>
                <a:cubicBezTo>
                  <a:pt x="19000" y="17570"/>
                  <a:pt x="19000" y="17579"/>
                  <a:pt x="19000" y="17587"/>
                </a:cubicBezTo>
              </a:path>
              <a:path w="3201" h="844">
                <a:moveTo>
                  <a:pt x="19000" y="17140"/>
                </a:moveTo>
                <a:cubicBezTo>
                  <a:pt x="19162" y="17259"/>
                  <a:pt x="19347" y="17399"/>
                  <a:pt x="19298" y="17636"/>
                </a:cubicBezTo>
                <a:cubicBezTo>
                  <a:pt x="19256" y="17678"/>
                  <a:pt x="19248" y="17685"/>
                  <a:pt x="19224" y="177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6357960"/>
            <a:ext cx="1800" cy="44280"/>
          </a:xfrm>
          <a:custGeom>
            <a:avLst/>
            <a:gdLst/>
            <a:ahLst/>
            <a:rect l="l" t="t" r="r" b="b"/>
            <a:pathLst>
              <a:path w="1" h="125">
                <a:moveTo>
                  <a:pt x="19720" y="17661"/>
                </a:moveTo>
                <a:cubicBezTo>
                  <a:pt x="19720" y="17727"/>
                  <a:pt x="19720" y="17744"/>
                  <a:pt x="19720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50040" y="6153120"/>
            <a:ext cx="152640" cy="204840"/>
          </a:xfrm>
          <a:custGeom>
            <a:avLst/>
            <a:gdLst/>
            <a:ahLst/>
            <a:rect l="l" t="t" r="r" b="b"/>
            <a:pathLst>
              <a:path w="423" h="572">
                <a:moveTo>
                  <a:pt x="20265" y="17090"/>
                </a:moveTo>
                <a:cubicBezTo>
                  <a:pt x="20207" y="17245"/>
                  <a:pt x="20118" y="17334"/>
                  <a:pt x="20166" y="17512"/>
                </a:cubicBezTo>
                <a:cubicBezTo>
                  <a:pt x="20198" y="17631"/>
                  <a:pt x="20245" y="17608"/>
                  <a:pt x="20315" y="17661"/>
                </a:cubicBezTo>
              </a:path>
              <a:path w="423" h="572">
                <a:moveTo>
                  <a:pt x="20513" y="17140"/>
                </a:moveTo>
                <a:cubicBezTo>
                  <a:pt x="20543" y="17258"/>
                  <a:pt x="20563" y="17338"/>
                  <a:pt x="20563" y="17462"/>
                </a:cubicBezTo>
                <a:cubicBezTo>
                  <a:pt x="20563" y="17470"/>
                  <a:pt x="20563" y="17479"/>
                  <a:pt x="20563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880" y="6161040"/>
            <a:ext cx="17928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20935" y="17314"/>
                </a:moveTo>
                <a:cubicBezTo>
                  <a:pt x="20995" y="17307"/>
                  <a:pt x="21049" y="17289"/>
                  <a:pt x="21109" y="17289"/>
                </a:cubicBezTo>
              </a:path>
              <a:path w="497" h="324">
                <a:moveTo>
                  <a:pt x="21258" y="17115"/>
                </a:moveTo>
                <a:cubicBezTo>
                  <a:pt x="21299" y="17115"/>
                  <a:pt x="21341" y="17115"/>
                  <a:pt x="21382" y="17115"/>
                </a:cubicBezTo>
                <a:cubicBezTo>
                  <a:pt x="21348" y="17233"/>
                  <a:pt x="21262" y="17305"/>
                  <a:pt x="21208" y="17413"/>
                </a:cubicBezTo>
                <a:cubicBezTo>
                  <a:pt x="21208" y="17421"/>
                  <a:pt x="21208" y="17430"/>
                  <a:pt x="21208" y="17438"/>
                </a:cubicBezTo>
                <a:cubicBezTo>
                  <a:pt x="21282" y="17438"/>
                  <a:pt x="21357" y="17438"/>
                  <a:pt x="21431" y="174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99160" y="6483240"/>
            <a:ext cx="374760" cy="241560"/>
          </a:xfrm>
          <a:custGeom>
            <a:avLst/>
            <a:gdLst/>
            <a:ahLst/>
            <a:rect l="l" t="t" r="r" b="b"/>
            <a:pathLst>
              <a:path w="1042" h="671">
                <a:moveTo>
                  <a:pt x="18951" y="18083"/>
                </a:moveTo>
                <a:cubicBezTo>
                  <a:pt x="18990" y="18077"/>
                  <a:pt x="19151" y="18014"/>
                  <a:pt x="19174" y="18083"/>
                </a:cubicBezTo>
                <a:cubicBezTo>
                  <a:pt x="19210" y="18190"/>
                  <a:pt x="19062" y="18292"/>
                  <a:pt x="19025" y="18380"/>
                </a:cubicBezTo>
                <a:cubicBezTo>
                  <a:pt x="19025" y="18388"/>
                  <a:pt x="19025" y="18397"/>
                  <a:pt x="19025" y="18405"/>
                </a:cubicBezTo>
                <a:cubicBezTo>
                  <a:pt x="19111" y="18420"/>
                  <a:pt x="19295" y="18472"/>
                  <a:pt x="19372" y="18405"/>
                </a:cubicBezTo>
                <a:cubicBezTo>
                  <a:pt x="19372" y="18397"/>
                  <a:pt x="19372" y="18388"/>
                  <a:pt x="19372" y="18380"/>
                </a:cubicBezTo>
              </a:path>
              <a:path w="1042" h="671">
                <a:moveTo>
                  <a:pt x="18504" y="18008"/>
                </a:moveTo>
                <a:cubicBezTo>
                  <a:pt x="18432" y="18189"/>
                  <a:pt x="18286" y="18343"/>
                  <a:pt x="18355" y="18554"/>
                </a:cubicBezTo>
                <a:cubicBezTo>
                  <a:pt x="18428" y="18777"/>
                  <a:pt x="18766" y="18644"/>
                  <a:pt x="18901" y="186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58040" y="6357960"/>
            <a:ext cx="642960" cy="295200"/>
          </a:xfrm>
          <a:custGeom>
            <a:avLst/>
            <a:gdLst/>
            <a:ahLst/>
            <a:rect l="l" t="t" r="r" b="b"/>
            <a:pathLst>
              <a:path w="1787" h="819">
                <a:moveTo>
                  <a:pt x="20439" y="18182"/>
                </a:moveTo>
                <a:cubicBezTo>
                  <a:pt x="20499" y="18218"/>
                  <a:pt x="20564" y="18207"/>
                  <a:pt x="20638" y="18207"/>
                </a:cubicBezTo>
              </a:path>
              <a:path w="1787" h="819">
                <a:moveTo>
                  <a:pt x="20886" y="17909"/>
                </a:moveTo>
                <a:cubicBezTo>
                  <a:pt x="20903" y="18052"/>
                  <a:pt x="20929" y="18187"/>
                  <a:pt x="20935" y="18331"/>
                </a:cubicBezTo>
                <a:cubicBezTo>
                  <a:pt x="20935" y="18339"/>
                  <a:pt x="20935" y="18347"/>
                  <a:pt x="20935" y="18355"/>
                </a:cubicBezTo>
              </a:path>
              <a:path w="1787" h="819">
                <a:moveTo>
                  <a:pt x="21158" y="17810"/>
                </a:moveTo>
                <a:cubicBezTo>
                  <a:pt x="21184" y="17939"/>
                  <a:pt x="21313" y="17996"/>
                  <a:pt x="21357" y="18132"/>
                </a:cubicBezTo>
                <a:cubicBezTo>
                  <a:pt x="21417" y="18318"/>
                  <a:pt x="21327" y="18341"/>
                  <a:pt x="21258" y="18479"/>
                </a:cubicBezTo>
              </a:path>
              <a:path w="1787" h="819">
                <a:moveTo>
                  <a:pt x="21828" y="17983"/>
                </a:moveTo>
                <a:cubicBezTo>
                  <a:pt x="21828" y="17870"/>
                  <a:pt x="21680" y="18023"/>
                  <a:pt x="21654" y="18058"/>
                </a:cubicBezTo>
                <a:cubicBezTo>
                  <a:pt x="21449" y="18333"/>
                  <a:pt x="21692" y="18367"/>
                  <a:pt x="21927" y="18355"/>
                </a:cubicBezTo>
                <a:cubicBezTo>
                  <a:pt x="22018" y="18337"/>
                  <a:pt x="22059" y="18363"/>
                  <a:pt x="22051" y="18306"/>
                </a:cubicBezTo>
              </a:path>
              <a:path w="1787" h="819">
                <a:moveTo>
                  <a:pt x="22200" y="17661"/>
                </a:moveTo>
                <a:cubicBezTo>
                  <a:pt x="22211" y="17735"/>
                  <a:pt x="22213" y="17769"/>
                  <a:pt x="22200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3760" y="723960"/>
            <a:ext cx="179280" cy="258840"/>
          </a:xfrm>
          <a:custGeom>
            <a:avLst/>
            <a:gdLst/>
            <a:ahLst/>
            <a:rect l="l" t="t" r="r" b="b"/>
            <a:pathLst>
              <a:path w="497" h="721">
                <a:moveTo>
                  <a:pt x="7367" y="2530"/>
                </a:moveTo>
                <a:cubicBezTo>
                  <a:pt x="7348" y="2646"/>
                  <a:pt x="7339" y="2662"/>
                  <a:pt x="7342" y="2729"/>
                </a:cubicBezTo>
                <a:cubicBezTo>
                  <a:pt x="7342" y="2556"/>
                  <a:pt x="7319" y="2405"/>
                  <a:pt x="7342" y="2232"/>
                </a:cubicBezTo>
                <a:cubicBezTo>
                  <a:pt x="7366" y="2115"/>
                  <a:pt x="7369" y="2079"/>
                  <a:pt x="7441" y="2034"/>
                </a:cubicBezTo>
                <a:cubicBezTo>
                  <a:pt x="7660" y="2059"/>
                  <a:pt x="7731" y="2192"/>
                  <a:pt x="7764" y="2431"/>
                </a:cubicBezTo>
                <a:cubicBezTo>
                  <a:pt x="7774" y="2504"/>
                  <a:pt x="7772" y="2551"/>
                  <a:pt x="7739" y="2604"/>
                </a:cubicBezTo>
              </a:path>
              <a:path w="497" h="721">
                <a:moveTo>
                  <a:pt x="7317" y="2530"/>
                </a:moveTo>
                <a:cubicBezTo>
                  <a:pt x="7448" y="2496"/>
                  <a:pt x="7658" y="2383"/>
                  <a:pt x="7789" y="2406"/>
                </a:cubicBezTo>
                <a:cubicBezTo>
                  <a:pt x="7797" y="2414"/>
                  <a:pt x="7805" y="2423"/>
                  <a:pt x="7813" y="24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7720" y="2286000"/>
            <a:ext cx="169560" cy="241200"/>
          </a:xfrm>
          <a:custGeom>
            <a:avLst/>
            <a:gdLst/>
            <a:ahLst/>
            <a:rect l="l" t="t" r="r" b="b"/>
            <a:pathLst>
              <a:path w="472" h="671">
                <a:moveTo>
                  <a:pt x="9351" y="6548"/>
                </a:moveTo>
                <a:cubicBezTo>
                  <a:pt x="9361" y="6665"/>
                  <a:pt x="9371" y="6778"/>
                  <a:pt x="9376" y="6896"/>
                </a:cubicBezTo>
                <a:cubicBezTo>
                  <a:pt x="9376" y="7013"/>
                  <a:pt x="9308" y="6764"/>
                  <a:pt x="9327" y="6648"/>
                </a:cubicBezTo>
                <a:cubicBezTo>
                  <a:pt x="9351" y="6504"/>
                  <a:pt x="9703" y="6195"/>
                  <a:pt x="9649" y="6449"/>
                </a:cubicBezTo>
                <a:cubicBezTo>
                  <a:pt x="9582" y="6562"/>
                  <a:pt x="9566" y="6594"/>
                  <a:pt x="9500" y="6648"/>
                </a:cubicBezTo>
                <a:cubicBezTo>
                  <a:pt x="9492" y="6648"/>
                  <a:pt x="9483" y="6648"/>
                  <a:pt x="9475" y="6648"/>
                </a:cubicBezTo>
                <a:cubicBezTo>
                  <a:pt x="9603" y="6634"/>
                  <a:pt x="9961" y="6671"/>
                  <a:pt x="9748" y="6896"/>
                </a:cubicBezTo>
                <a:cubicBezTo>
                  <a:pt x="9618" y="7033"/>
                  <a:pt x="9419" y="7053"/>
                  <a:pt x="9327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87680" y="2340000"/>
            <a:ext cx="169560" cy="19692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5035" y="6524"/>
                </a:moveTo>
                <a:cubicBezTo>
                  <a:pt x="5020" y="6617"/>
                  <a:pt x="5014" y="6570"/>
                  <a:pt x="4911" y="6499"/>
                </a:cubicBezTo>
                <a:cubicBezTo>
                  <a:pt x="4778" y="6582"/>
                  <a:pt x="4494" y="6933"/>
                  <a:pt x="4812" y="7045"/>
                </a:cubicBezTo>
                <a:cubicBezTo>
                  <a:pt x="4888" y="7072"/>
                  <a:pt x="5149" y="6949"/>
                  <a:pt x="515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10080" y="1554120"/>
            <a:ext cx="339840" cy="374760"/>
          </a:xfrm>
          <a:custGeom>
            <a:avLst/>
            <a:gdLst/>
            <a:ahLst/>
            <a:rect l="l" t="t" r="r" b="b"/>
            <a:pathLst>
              <a:path w="944" h="1043">
                <a:moveTo>
                  <a:pt x="12700" y="5234"/>
                </a:moveTo>
                <a:cubicBezTo>
                  <a:pt x="12665" y="5163"/>
                  <a:pt x="12620" y="5183"/>
                  <a:pt x="12551" y="5209"/>
                </a:cubicBezTo>
                <a:cubicBezTo>
                  <a:pt x="12562" y="5285"/>
                  <a:pt x="12648" y="5486"/>
                  <a:pt x="12750" y="5308"/>
                </a:cubicBezTo>
                <a:cubicBezTo>
                  <a:pt x="12799" y="5223"/>
                  <a:pt x="12660" y="5053"/>
                  <a:pt x="12576" y="5159"/>
                </a:cubicBezTo>
                <a:cubicBezTo>
                  <a:pt x="12442" y="5328"/>
                  <a:pt x="12579" y="5351"/>
                  <a:pt x="12700" y="5308"/>
                </a:cubicBezTo>
                <a:cubicBezTo>
                  <a:pt x="12723" y="5241"/>
                  <a:pt x="12734" y="5223"/>
                  <a:pt x="12700" y="5184"/>
                </a:cubicBezTo>
                <a:cubicBezTo>
                  <a:pt x="12634" y="5196"/>
                  <a:pt x="12485" y="5344"/>
                  <a:pt x="12626" y="5333"/>
                </a:cubicBezTo>
                <a:cubicBezTo>
                  <a:pt x="12737" y="5325"/>
                  <a:pt x="12659" y="5231"/>
                  <a:pt x="12626" y="5209"/>
                </a:cubicBezTo>
              </a:path>
              <a:path w="944" h="1043">
                <a:moveTo>
                  <a:pt x="13022" y="4663"/>
                </a:moveTo>
                <a:cubicBezTo>
                  <a:pt x="13022" y="4823"/>
                  <a:pt x="13033" y="4977"/>
                  <a:pt x="13047" y="5135"/>
                </a:cubicBezTo>
                <a:cubicBezTo>
                  <a:pt x="13047" y="5151"/>
                  <a:pt x="13047" y="5168"/>
                  <a:pt x="13047" y="5184"/>
                </a:cubicBezTo>
                <a:cubicBezTo>
                  <a:pt x="13024" y="5021"/>
                  <a:pt x="13008" y="4855"/>
                  <a:pt x="13022" y="4688"/>
                </a:cubicBezTo>
                <a:cubicBezTo>
                  <a:pt x="13032" y="4573"/>
                  <a:pt x="13037" y="4516"/>
                  <a:pt x="13122" y="4465"/>
                </a:cubicBezTo>
                <a:cubicBezTo>
                  <a:pt x="13233" y="4641"/>
                  <a:pt x="13289" y="4820"/>
                  <a:pt x="13370" y="5011"/>
                </a:cubicBezTo>
                <a:cubicBezTo>
                  <a:pt x="13378" y="5027"/>
                  <a:pt x="13387" y="5044"/>
                  <a:pt x="13395" y="5060"/>
                </a:cubicBezTo>
              </a:path>
              <a:path w="944" h="1043">
                <a:moveTo>
                  <a:pt x="12998" y="5035"/>
                </a:moveTo>
                <a:cubicBezTo>
                  <a:pt x="13040" y="4983"/>
                  <a:pt x="13134" y="4949"/>
                  <a:pt x="13196" y="4911"/>
                </a:cubicBezTo>
                <a:cubicBezTo>
                  <a:pt x="13221" y="4887"/>
                  <a:pt x="13230" y="4879"/>
                  <a:pt x="13246" y="4862"/>
                </a:cubicBezTo>
              </a:path>
              <a:path w="944" h="1043">
                <a:moveTo>
                  <a:pt x="13395" y="4316"/>
                </a:moveTo>
                <a:cubicBezTo>
                  <a:pt x="13409" y="4405"/>
                  <a:pt x="13460" y="4475"/>
                  <a:pt x="13469" y="4564"/>
                </a:cubicBezTo>
                <a:cubicBezTo>
                  <a:pt x="13469" y="4581"/>
                  <a:pt x="13469" y="4597"/>
                  <a:pt x="13469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With Translations 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17:33Z</dcterms:created>
  <dc:creator>Brian McGrath</dc:creator>
  <dc:description/>
  <dc:language>en-US</dc:language>
  <cp:lastModifiedBy>demcgra</cp:lastModifiedBy>
  <dcterms:modified xsi:type="dcterms:W3CDTF">2012-05-09T19:22:37Z</dcterms:modified>
  <cp:revision>4</cp:revision>
  <dc:subject/>
  <dc:title>Warm-up</dc:title>
</cp:coreProperties>
</file>